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7.png" ContentType="image/png"/>
  <Override PartName="/ppt/media/image30.wmf" ContentType="image/x-wmf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pptx" ContentType="application/vnd.openxmlformats-officedocument.presentationml.presentation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799-798B-4122-ADF9-96330C81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36F3-70D6-4DB0-B542-0F2FDDFC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7F6-5DD7-431F-B907-3321CCF2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5E9-5965-4037-98AA-A7E5F02D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C7C-E595-4656-A798-BE3D1EC3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107-74A6-4827-9163-61AE785C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69F-A1F2-44D4-9D32-7E26DF4E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D59-5276-46EF-9F50-173CED64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865-D385-4FC4-87B9-FC2397B4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B60-8548-4811-9099-6E2794AC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4B60-867B-4B9B-A232-C68AB03C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711B-D220-4B42-AD4E-BF9F9536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E0B6-5D34-448A-8B75-910F2353F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280" y="66600"/>
            <a:ext cx="8977320" cy="66088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174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4600" y="401760"/>
            <a:ext cx="1042920" cy="45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1280" y="66600"/>
            <a:ext cx="8977320" cy="66088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2560" y="111456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63680" y="66294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811B-37EF-4ACA-AB0A-3A2BF7CEA406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799760" y="58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2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W Electromagnetic and Coupled Electromagnetic-Circuit R&amp;D in CoSMo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kram Jandhy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Washing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G. Ouyang: Finite periodic fast solver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000" y="1219320"/>
            <a:ext cx="49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pecial purpose fast sol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3348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spl_421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5334120" cy="3200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82880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fig_planewave_plus_circuit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2971800" cy="1805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446480" y="5029200"/>
            <a:ext cx="67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ite periodic inductor array with circuit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I cou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Y. Wang: Development and Application of coupled circuit-EM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2193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stic circuit coupling applications and visualization/de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it effects on EM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28600" y="2819520"/>
            <a:ext cx="3983040" cy="2327400"/>
            <a:chOff x="228600" y="2819520"/>
            <a:chExt cx="3983040" cy="2327400"/>
          </a:xfrm>
        </p:grpSpPr>
        <p:pic>
          <p:nvPicPr>
            <p:cNvPr id="184" name="G3" descr=""/>
            <p:cNvPicPr/>
            <p:nvPr/>
          </p:nvPicPr>
          <p:blipFill>
            <a:blip r:embed="rId1"/>
            <a:stretch/>
          </p:blipFill>
          <p:spPr>
            <a:xfrm>
              <a:off x="228600" y="2819520"/>
              <a:ext cx="398304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422360" y="4748040"/>
              <a:ext cx="181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Vpeak: 10m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800520" cy="280836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6781680" y="5486400"/>
            <a:ext cx="1933560" cy="1143000"/>
            <a:chOff x="6781680" y="5486400"/>
            <a:chExt cx="1933560" cy="1143000"/>
          </a:xfrm>
        </p:grpSpPr>
        <p:pic>
          <p:nvPicPr>
            <p:cNvPr id="188" name="parallel" descr=""/>
            <p:cNvPicPr/>
            <p:nvPr/>
          </p:nvPicPr>
          <p:blipFill>
            <a:blip r:embed="rId3"/>
            <a:stretch/>
          </p:blipFill>
          <p:spPr>
            <a:xfrm>
              <a:off x="6872040" y="5520240"/>
              <a:ext cx="1678680" cy="101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786360" y="6327720"/>
              <a:ext cx="186192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1680" y="5486400"/>
              <a:ext cx="1933560" cy="17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495680" y="5181480"/>
            <a:ext cx="1803600" cy="1447920"/>
            <a:chOff x="4495680" y="5181480"/>
            <a:chExt cx="1803600" cy="1447920"/>
          </a:xfrm>
        </p:grpSpPr>
        <p:grpSp>
          <p:nvGrpSpPr>
            <p:cNvPr id="192" name=""/>
            <p:cNvGrpSpPr/>
            <p:nvPr/>
          </p:nvGrpSpPr>
          <p:grpSpPr>
            <a:xfrm>
              <a:off x="5318280" y="6377760"/>
              <a:ext cx="101880" cy="148320"/>
              <a:chOff x="5318280" y="6377760"/>
              <a:chExt cx="101880" cy="148320"/>
            </a:xfrm>
          </p:grpSpPr>
          <p:sp>
            <p:nvSpPr>
              <p:cNvPr id="193" name=""/>
              <p:cNvSpPr/>
              <p:nvPr/>
            </p:nvSpPr>
            <p:spPr>
              <a:xfrm>
                <a:off x="5318280" y="6377760"/>
                <a:ext cx="101880" cy="986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69760" y="6385320"/>
                <a:ext cx="0" cy="119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56800" y="6488640"/>
                <a:ext cx="25920" cy="17640"/>
              </a:xfrm>
              <a:custGeom>
                <a:avLst/>
                <a:gdLst/>
                <a:ahLst/>
                <a:rect l="l" t="t" r="r" b="b"/>
                <a:pathLst>
                  <a:path w="510" h="360">
                    <a:moveTo>
                      <a:pt x="0" y="0"/>
                    </a:moveTo>
                    <a:lnTo>
                      <a:pt x="510" y="0"/>
                    </a:lnTo>
                    <a:lnTo>
                      <a:pt x="255" y="3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318280" y="6427440"/>
                <a:ext cx="101880" cy="986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 rot="10800000">
              <a:off x="4710600" y="5740560"/>
              <a:ext cx="91080" cy="4536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48360" y="6086880"/>
              <a:ext cx="74160" cy="141840"/>
              <a:chOff x="5148360" y="6086880"/>
              <a:chExt cx="74160" cy="141840"/>
            </a:xfrm>
          </p:grpSpPr>
          <p:sp>
            <p:nvSpPr>
              <p:cNvPr id="199" name=""/>
              <p:cNvSpPr/>
              <p:nvPr/>
            </p:nvSpPr>
            <p:spPr>
              <a:xfrm rot="5400000">
                <a:off x="5167800" y="606744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400000">
                <a:off x="5167800" y="610308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5400000">
                <a:off x="5167800" y="613836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400000">
                <a:off x="5167800" y="617400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5185080" y="5978160"/>
              <a:ext cx="0" cy="106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5080" y="6229080"/>
              <a:ext cx="199440" cy="70920"/>
            </a:xfrm>
            <a:custGeom>
              <a:avLst/>
              <a:gdLst/>
              <a:ahLst/>
              <a:rect l="l" t="t" r="r" b="b"/>
              <a:pathLst>
                <a:path w="1260" h="360">
                  <a:moveTo>
                    <a:pt x="0" y="0"/>
                  </a:moveTo>
                  <a:lnTo>
                    <a:pt x="0" y="360"/>
                  </a:lnTo>
                  <a:lnTo>
                    <a:pt x="1260" y="36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85080" y="5704560"/>
              <a:ext cx="0" cy="142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148360" y="5328000"/>
              <a:ext cx="74160" cy="141840"/>
              <a:chOff x="5148360" y="5328000"/>
              <a:chExt cx="74160" cy="141840"/>
            </a:xfrm>
          </p:grpSpPr>
          <p:sp>
            <p:nvSpPr>
              <p:cNvPr id="207" name=""/>
              <p:cNvSpPr/>
              <p:nvPr/>
            </p:nvSpPr>
            <p:spPr>
              <a:xfrm rot="5400000">
                <a:off x="5167800" y="530856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5400000">
                <a:off x="5167800" y="534420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5400000">
                <a:off x="5167800" y="537948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5400000">
                <a:off x="5167800" y="541512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185080" y="5472360"/>
              <a:ext cx="0" cy="106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85080" y="5219280"/>
              <a:ext cx="0" cy="106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56320" y="5219280"/>
              <a:ext cx="350280" cy="425880"/>
            </a:xfrm>
            <a:custGeom>
              <a:avLst/>
              <a:gdLst/>
              <a:ahLst/>
              <a:rect l="l" t="t" r="r" b="b"/>
              <a:pathLst>
                <a:path w="720" h="2160">
                  <a:moveTo>
                    <a:pt x="720" y="2160"/>
                  </a:moveTo>
                  <a:lnTo>
                    <a:pt x="0" y="216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4863960" y="5880240"/>
              <a:ext cx="151560" cy="69120"/>
              <a:chOff x="4863960" y="5880240"/>
              <a:chExt cx="151560" cy="69120"/>
            </a:xfrm>
          </p:grpSpPr>
          <p:sp>
            <p:nvSpPr>
              <p:cNvPr id="215" name=""/>
              <p:cNvSpPr/>
              <p:nvPr/>
            </p:nvSpPr>
            <p:spPr>
              <a:xfrm>
                <a:off x="486396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90176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93992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97808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726440" y="5863680"/>
              <a:ext cx="24120" cy="105480"/>
              <a:chOff x="4726440" y="5863680"/>
              <a:chExt cx="24120" cy="105480"/>
            </a:xfrm>
          </p:grpSpPr>
          <p:sp>
            <p:nvSpPr>
              <p:cNvPr id="220" name=""/>
              <p:cNvSpPr/>
              <p:nvPr/>
            </p:nvSpPr>
            <p:spPr>
              <a:xfrm>
                <a:off x="4726440" y="5863680"/>
                <a:ext cx="0" cy="10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50560" y="5863680"/>
                <a:ext cx="0" cy="10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106960" y="5578560"/>
              <a:ext cx="79560" cy="147960"/>
              <a:chOff x="5106960" y="5578560"/>
              <a:chExt cx="79560" cy="147960"/>
            </a:xfrm>
          </p:grpSpPr>
          <p:sp>
            <p:nvSpPr>
              <p:cNvPr id="223" name=""/>
              <p:cNvSpPr/>
              <p:nvPr/>
            </p:nvSpPr>
            <p:spPr>
              <a:xfrm>
                <a:off x="5122440" y="5578560"/>
                <a:ext cx="63000" cy="1270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154120" y="5684400"/>
                <a:ext cx="32400" cy="4212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106960" y="5578560"/>
                <a:ext cx="0" cy="128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106960" y="5852520"/>
              <a:ext cx="79560" cy="147960"/>
              <a:chOff x="5106960" y="5852520"/>
              <a:chExt cx="79560" cy="147960"/>
            </a:xfrm>
          </p:grpSpPr>
          <p:sp>
            <p:nvSpPr>
              <p:cNvPr id="227" name=""/>
              <p:cNvSpPr/>
              <p:nvPr/>
            </p:nvSpPr>
            <p:spPr>
              <a:xfrm>
                <a:off x="5122440" y="5852520"/>
                <a:ext cx="63000" cy="1270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54120" y="5958360"/>
                <a:ext cx="32400" cy="4212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06960" y="5852520"/>
                <a:ext cx="0" cy="128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4582440" y="6276240"/>
              <a:ext cx="115920" cy="113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19160" y="6315120"/>
              <a:ext cx="45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641120" y="6293520"/>
              <a:ext cx="0" cy="43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4592880" y="6158520"/>
              <a:ext cx="95040" cy="4284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41120" y="6227640"/>
              <a:ext cx="0" cy="48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509000" y="6283440"/>
              <a:ext cx="56520" cy="39600"/>
              <a:chOff x="4509000" y="6283440"/>
              <a:chExt cx="56520" cy="39600"/>
            </a:xfrm>
          </p:grpSpPr>
          <p:sp>
            <p:nvSpPr>
              <p:cNvPr id="236" name=""/>
              <p:cNvSpPr/>
              <p:nvPr/>
            </p:nvSpPr>
            <p:spPr>
              <a:xfrm rot="16462800">
                <a:off x="4506120" y="6291360"/>
                <a:ext cx="34560" cy="2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 rot="5137200">
                <a:off x="4533480" y="6288120"/>
                <a:ext cx="34560" cy="2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4641840" y="5915520"/>
              <a:ext cx="84600" cy="217080"/>
            </a:xfrm>
            <a:custGeom>
              <a:avLst/>
              <a:gdLst/>
              <a:ahLst/>
              <a:rect l="l" t="t" r="r" b="b"/>
              <a:pathLst>
                <a:path w="210" h="504">
                  <a:moveTo>
                    <a:pt x="0" y="504"/>
                  </a:moveTo>
                  <a:lnTo>
                    <a:pt x="0" y="0"/>
                  </a:lnTo>
                  <a:lnTo>
                    <a:pt x="21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015880" y="5915520"/>
              <a:ext cx="903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52200" y="5717880"/>
              <a:ext cx="155880" cy="1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24560" y="6360480"/>
              <a:ext cx="34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601880" y="6486480"/>
              <a:ext cx="79200" cy="22680"/>
              <a:chOff x="4601880" y="6486480"/>
              <a:chExt cx="79200" cy="22680"/>
            </a:xfrm>
          </p:grpSpPr>
          <p:sp>
            <p:nvSpPr>
              <p:cNvPr id="243" name=""/>
              <p:cNvSpPr/>
              <p:nvPr/>
            </p:nvSpPr>
            <p:spPr>
              <a:xfrm>
                <a:off x="4601880" y="6486480"/>
                <a:ext cx="79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0960" y="6497640"/>
                <a:ext cx="410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31760" y="6509160"/>
                <a:ext cx="19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4641840" y="6389640"/>
              <a:ext cx="0" cy="964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18960" y="5909760"/>
              <a:ext cx="10800" cy="115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02040" y="5763240"/>
              <a:ext cx="22320" cy="154080"/>
            </a:xfrm>
            <a:custGeom>
              <a:avLst/>
              <a:gdLst/>
              <a:ahLst/>
              <a:rect l="l" t="t" r="r" b="b"/>
              <a:pathLst>
                <a:path w="56" h="378">
                  <a:moveTo>
                    <a:pt x="56" y="378"/>
                  </a:move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682520" y="5763240"/>
              <a:ext cx="28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4983120" y="5449680"/>
              <a:ext cx="23760" cy="111240"/>
              <a:chOff x="4983120" y="5449680"/>
              <a:chExt cx="23760" cy="111240"/>
            </a:xfrm>
          </p:grpSpPr>
          <p:sp>
            <p:nvSpPr>
              <p:cNvPr id="251" name=""/>
              <p:cNvSpPr/>
              <p:nvPr/>
            </p:nvSpPr>
            <p:spPr>
              <a:xfrm>
                <a:off x="4983120" y="5449680"/>
                <a:ext cx="0" cy="111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06880" y="5449680"/>
                <a:ext cx="0" cy="111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 flipH="1">
              <a:off x="4931640" y="5506920"/>
              <a:ext cx="507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5800" y="5506920"/>
              <a:ext cx="181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750920" y="5917320"/>
              <a:ext cx="1130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70080" y="5489640"/>
              <a:ext cx="61920" cy="34560"/>
            </a:xfrm>
            <a:custGeom>
              <a:avLst/>
              <a:gdLst/>
              <a:ahLst/>
              <a:rect l="l" t="t" r="r" b="b"/>
              <a:pathLst>
                <a:path w="2200" h="1456">
                  <a:moveTo>
                    <a:pt x="2200" y="194"/>
                  </a:moveTo>
                  <a:lnTo>
                    <a:pt x="2200" y="1456"/>
                  </a:lnTo>
                  <a:lnTo>
                    <a:pt x="932" y="1456"/>
                  </a:lnTo>
                  <a:lnTo>
                    <a:pt x="0" y="729"/>
                  </a:lnTo>
                  <a:lnTo>
                    <a:pt x="924" y="0"/>
                  </a:lnTo>
                  <a:lnTo>
                    <a:pt x="2200" y="0"/>
                  </a:lnTo>
                  <a:lnTo>
                    <a:pt x="2200" y="194"/>
                  </a:lnTo>
                  <a:close/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81840" y="5501160"/>
              <a:ext cx="1152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5346360" y="5221440"/>
              <a:ext cx="874800" cy="1287720"/>
              <a:chOff x="5346360" y="5221440"/>
              <a:chExt cx="874800" cy="1287720"/>
            </a:xfrm>
          </p:grpSpPr>
          <p:sp>
            <p:nvSpPr>
              <p:cNvPr id="259" name=""/>
              <p:cNvSpPr/>
              <p:nvPr/>
            </p:nvSpPr>
            <p:spPr>
              <a:xfrm flipH="1" rot="10800000">
                <a:off x="5929200" y="5742000"/>
                <a:ext cx="90720" cy="4536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5508360" y="6087600"/>
                <a:ext cx="74880" cy="141480"/>
                <a:chOff x="5508360" y="6087600"/>
                <a:chExt cx="74880" cy="141480"/>
              </a:xfrm>
            </p:grpSpPr>
            <p:sp>
              <p:nvSpPr>
                <p:cNvPr id="261" name=""/>
                <p:cNvSpPr/>
                <p:nvPr/>
              </p:nvSpPr>
              <p:spPr>
                <a:xfrm flipH="1" rot="16200000">
                  <a:off x="5528160" y="606744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rot="16200000">
                  <a:off x="5528160" y="610272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rot="16200000">
                  <a:off x="5528160" y="613836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rot="16200000">
                  <a:off x="5528160" y="617400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5545800" y="5979240"/>
                <a:ext cx="0" cy="106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5346360" y="6230160"/>
                <a:ext cx="199440" cy="70560"/>
              </a:xfrm>
              <a:custGeom>
                <a:avLst/>
                <a:gdLst/>
                <a:ahLst/>
                <a:rect l="l" t="t" r="r" b="b"/>
                <a:pathLst>
                  <a:path w="1260" h="360">
                    <a:moveTo>
                      <a:pt x="0" y="0"/>
                    </a:moveTo>
                    <a:lnTo>
                      <a:pt x="0" y="360"/>
                    </a:lnTo>
                    <a:lnTo>
                      <a:pt x="1260" y="36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545800" y="5705640"/>
                <a:ext cx="0" cy="141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5508360" y="5329800"/>
                <a:ext cx="74880" cy="141480"/>
                <a:chOff x="5508360" y="5329800"/>
                <a:chExt cx="74880" cy="141480"/>
              </a:xfrm>
            </p:grpSpPr>
            <p:sp>
              <p:nvSpPr>
                <p:cNvPr id="269" name=""/>
                <p:cNvSpPr/>
                <p:nvPr/>
              </p:nvSpPr>
              <p:spPr>
                <a:xfrm flipH="1" rot="16200000">
                  <a:off x="5528160" y="530964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 rot="16200000">
                  <a:off x="5528160" y="534492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rot="16200000">
                  <a:off x="5528160" y="538056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rot="16200000">
                  <a:off x="5528160" y="541620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5545800" y="5474160"/>
                <a:ext cx="0" cy="106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545800" y="5221440"/>
                <a:ext cx="0" cy="106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5623920" y="5221440"/>
                <a:ext cx="350280" cy="425160"/>
              </a:xfrm>
              <a:custGeom>
                <a:avLst/>
                <a:gdLst/>
                <a:ahLst/>
                <a:rect l="l" t="t" r="r" b="b"/>
                <a:pathLst>
                  <a:path w="720" h="2160">
                    <a:moveTo>
                      <a:pt x="720" y="2160"/>
                    </a:moveTo>
                    <a:lnTo>
                      <a:pt x="0" y="216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5715360" y="5880960"/>
                <a:ext cx="151200" cy="69840"/>
                <a:chOff x="5715360" y="5880960"/>
                <a:chExt cx="151200" cy="69840"/>
              </a:xfrm>
            </p:grpSpPr>
            <p:sp>
              <p:nvSpPr>
                <p:cNvPr id="277" name=""/>
                <p:cNvSpPr/>
                <p:nvPr/>
              </p:nvSpPr>
              <p:spPr>
                <a:xfrm flipH="1">
                  <a:off x="582912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>
                  <a:off x="579132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575352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71536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5980320" y="5864400"/>
                <a:ext cx="23760" cy="105120"/>
                <a:chOff x="5980320" y="5864400"/>
                <a:chExt cx="23760" cy="1051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004080" y="5864400"/>
                  <a:ext cx="0" cy="105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980320" y="5864400"/>
                  <a:ext cx="0" cy="105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5545080" y="5580360"/>
                <a:ext cx="79200" cy="147960"/>
                <a:chOff x="5545080" y="5580360"/>
                <a:chExt cx="79200" cy="147960"/>
              </a:xfrm>
            </p:grpSpPr>
            <p:sp>
              <p:nvSpPr>
                <p:cNvPr id="285" name=""/>
                <p:cNvSpPr/>
                <p:nvPr/>
              </p:nvSpPr>
              <p:spPr>
                <a:xfrm flipH="1">
                  <a:off x="5545440" y="5580360"/>
                  <a:ext cx="63000" cy="12708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5544720" y="5686200"/>
                  <a:ext cx="32040" cy="4212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624280" y="5580360"/>
                  <a:ext cx="0" cy="1278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545080" y="5853960"/>
                <a:ext cx="79200" cy="147960"/>
                <a:chOff x="5545080" y="5853960"/>
                <a:chExt cx="79200" cy="147960"/>
              </a:xfrm>
            </p:grpSpPr>
            <p:sp>
              <p:nvSpPr>
                <p:cNvPr id="289" name=""/>
                <p:cNvSpPr/>
                <p:nvPr/>
              </p:nvSpPr>
              <p:spPr>
                <a:xfrm flipH="1">
                  <a:off x="5545440" y="5853960"/>
                  <a:ext cx="63000" cy="12708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>
                  <a:off x="5544720" y="5959800"/>
                  <a:ext cx="32040" cy="4212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624280" y="5853960"/>
                  <a:ext cx="0" cy="1278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 flipH="1">
                <a:off x="6032520" y="6276960"/>
                <a:ext cx="115560" cy="1126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6066360" y="6315480"/>
                <a:ext cx="453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6089400" y="6293880"/>
                <a:ext cx="0" cy="439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rot="5400000">
                <a:off x="6042240" y="6159240"/>
                <a:ext cx="95040" cy="4284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089400" y="6228360"/>
                <a:ext cx="0" cy="48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6164640" y="6284160"/>
                <a:ext cx="56520" cy="38520"/>
                <a:chOff x="6164640" y="6284160"/>
                <a:chExt cx="56520" cy="38520"/>
              </a:xfrm>
            </p:grpSpPr>
            <p:sp>
              <p:nvSpPr>
                <p:cNvPr id="298" name=""/>
                <p:cNvSpPr/>
                <p:nvPr/>
              </p:nvSpPr>
              <p:spPr>
                <a:xfrm flipH="1" rot="5137200">
                  <a:off x="6189480" y="6291720"/>
                  <a:ext cx="33840" cy="26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 rot="16462800">
                  <a:off x="6161760" y="6288480"/>
                  <a:ext cx="33840" cy="26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 flipH="1">
                <a:off x="6004080" y="5916600"/>
                <a:ext cx="84960" cy="216360"/>
              </a:xfrm>
              <a:custGeom>
                <a:avLst/>
                <a:gdLst/>
                <a:ahLst/>
                <a:rect l="l" t="t" r="r" b="b"/>
                <a:pathLst>
                  <a:path w="210" h="504">
                    <a:moveTo>
                      <a:pt x="0" y="504"/>
                    </a:moveTo>
                    <a:lnTo>
                      <a:pt x="0" y="0"/>
                    </a:lnTo>
                    <a:lnTo>
                      <a:pt x="21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24280" y="5916600"/>
                <a:ext cx="907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6072120" y="6361200"/>
                <a:ext cx="338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6049440" y="6486480"/>
                <a:ext cx="79200" cy="22680"/>
                <a:chOff x="6049440" y="6486480"/>
                <a:chExt cx="79200" cy="22680"/>
              </a:xfrm>
            </p:grpSpPr>
            <p:sp>
              <p:nvSpPr>
                <p:cNvPr id="304" name=""/>
                <p:cNvSpPr/>
                <p:nvPr/>
              </p:nvSpPr>
              <p:spPr>
                <a:xfrm flipH="1">
                  <a:off x="6049440" y="6486480"/>
                  <a:ext cx="792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6068520" y="6497640"/>
                  <a:ext cx="4104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6079680" y="6509160"/>
                  <a:ext cx="190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089040" y="6389640"/>
                <a:ext cx="0" cy="96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5900760" y="5910840"/>
                <a:ext cx="11160" cy="111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5906160" y="5764680"/>
                <a:ext cx="22680" cy="153720"/>
              </a:xfrm>
              <a:custGeom>
                <a:avLst/>
                <a:gdLst/>
                <a:ahLst/>
                <a:rect l="l" t="t" r="r" b="b"/>
                <a:pathLst>
                  <a:path w="56" h="378">
                    <a:moveTo>
                      <a:pt x="56" y="378"/>
                    </a:moveTo>
                    <a:lnTo>
                      <a:pt x="56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020280" y="5764680"/>
                <a:ext cx="28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5724000" y="5451120"/>
                <a:ext cx="23760" cy="110880"/>
                <a:chOff x="5724000" y="5451120"/>
                <a:chExt cx="23760" cy="1108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5747760" y="5451120"/>
                  <a:ext cx="0" cy="110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724000" y="5451120"/>
                  <a:ext cx="0" cy="110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5748120" y="5508360"/>
                <a:ext cx="507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5543640" y="5508360"/>
                <a:ext cx="1814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67280" y="5918760"/>
                <a:ext cx="1134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798520" y="5491080"/>
                <a:ext cx="62280" cy="34200"/>
              </a:xfrm>
              <a:custGeom>
                <a:avLst/>
                <a:gdLst/>
                <a:ahLst/>
                <a:rect l="l" t="t" r="r" b="b"/>
                <a:pathLst>
                  <a:path w="2200" h="1456">
                    <a:moveTo>
                      <a:pt x="2200" y="194"/>
                    </a:moveTo>
                    <a:lnTo>
                      <a:pt x="2200" y="1456"/>
                    </a:lnTo>
                    <a:lnTo>
                      <a:pt x="932" y="1456"/>
                    </a:lnTo>
                    <a:lnTo>
                      <a:pt x="0" y="729"/>
                    </a:lnTo>
                    <a:lnTo>
                      <a:pt x="924" y="0"/>
                    </a:lnTo>
                    <a:lnTo>
                      <a:pt x="2200" y="0"/>
                    </a:lnTo>
                    <a:lnTo>
                      <a:pt x="2200" y="194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5537520" y="5502600"/>
                <a:ext cx="11160" cy="111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329080" y="6606720"/>
              <a:ext cx="79200" cy="22680"/>
              <a:chOff x="5329080" y="6606720"/>
              <a:chExt cx="79200" cy="22680"/>
            </a:xfrm>
          </p:grpSpPr>
          <p:sp>
            <p:nvSpPr>
              <p:cNvPr id="320" name=""/>
              <p:cNvSpPr/>
              <p:nvPr/>
            </p:nvSpPr>
            <p:spPr>
              <a:xfrm flipH="1">
                <a:off x="5329080" y="6606720"/>
                <a:ext cx="79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5348160" y="6617880"/>
                <a:ext cx="410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5359320" y="6629400"/>
                <a:ext cx="19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5369400" y="6303240"/>
              <a:ext cx="0" cy="68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363280" y="6297480"/>
              <a:ext cx="1080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69400" y="6526440"/>
              <a:ext cx="0" cy="79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676760" y="5221440"/>
              <a:ext cx="1298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750920" y="5215680"/>
              <a:ext cx="1080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181840" y="5215680"/>
              <a:ext cx="1152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539320" y="5215680"/>
              <a:ext cx="1080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72480" y="573084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95680" y="63550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80480" y="63550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47400" y="54046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4200" y="5387400"/>
              <a:ext cx="11952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49520" y="5376240"/>
              <a:ext cx="11952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31320" y="537012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15080" y="579384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54960" y="57880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44480" y="6108120"/>
              <a:ext cx="1188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31320" y="610272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52200" y="51814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2.5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43200" y="641376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t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04920" y="5181480"/>
            <a:ext cx="3785760" cy="1320840"/>
            <a:chOff x="304920" y="5181480"/>
            <a:chExt cx="3785760" cy="1320840"/>
          </a:xfrm>
        </p:grpSpPr>
        <p:sp>
          <p:nvSpPr>
            <p:cNvPr id="344" name=""/>
            <p:cNvSpPr/>
            <p:nvPr/>
          </p:nvSpPr>
          <p:spPr>
            <a:xfrm>
              <a:off x="3208320" y="5181480"/>
              <a:ext cx="873360" cy="1320840"/>
            </a:xfrm>
            <a:prstGeom prst="rect">
              <a:avLst/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47800" y="5181480"/>
              <a:ext cx="1105200" cy="132084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4920" y="5181480"/>
              <a:ext cx="988920" cy="13208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130400" y="5202360"/>
              <a:ext cx="2960280" cy="1280880"/>
              <a:chOff x="1130400" y="5202360"/>
              <a:chExt cx="2960280" cy="128088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520000" y="5202360"/>
                <a:ext cx="200880" cy="169920"/>
                <a:chOff x="2520000" y="5202360"/>
                <a:chExt cx="200880" cy="1699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520000" y="5202360"/>
                  <a:ext cx="20088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553480" y="522900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1130400" y="5372280"/>
                <a:ext cx="201240" cy="169920"/>
                <a:chOff x="1130400" y="5372280"/>
                <a:chExt cx="201240" cy="1699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1130400" y="537228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163880" y="539892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3889440" y="5202360"/>
                <a:ext cx="201240" cy="169920"/>
                <a:chOff x="3889440" y="5202360"/>
                <a:chExt cx="201240" cy="1699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3889440" y="520236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922920" y="522900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566800" y="6313320"/>
                <a:ext cx="201240" cy="169920"/>
                <a:chOff x="2566800" y="6313320"/>
                <a:chExt cx="201240" cy="1699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566800" y="631332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600280" y="633996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0" name=""/>
            <p:cNvGrpSpPr/>
            <p:nvPr/>
          </p:nvGrpSpPr>
          <p:grpSpPr>
            <a:xfrm>
              <a:off x="1305000" y="5557680"/>
              <a:ext cx="2785320" cy="934560"/>
              <a:chOff x="1305000" y="5557680"/>
              <a:chExt cx="2785320" cy="93456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1472400" y="5577120"/>
                <a:ext cx="2617920" cy="915120"/>
                <a:chOff x="1472400" y="5577120"/>
                <a:chExt cx="2617920" cy="91512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82160" y="6178680"/>
                  <a:ext cx="201240" cy="169920"/>
                  <a:chOff x="1982160" y="6178680"/>
                  <a:chExt cx="201240" cy="16992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1982160" y="6178680"/>
                    <a:ext cx="201240" cy="1699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015640" y="6205320"/>
                    <a:ext cx="137160" cy="1159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1472400" y="5577120"/>
                  <a:ext cx="200880" cy="169920"/>
                  <a:chOff x="1472400" y="5577120"/>
                  <a:chExt cx="200880" cy="1699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1472400" y="5577120"/>
                    <a:ext cx="200880" cy="1699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1505880" y="5603760"/>
                    <a:ext cx="137160" cy="1159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3889440" y="6322320"/>
                  <a:ext cx="200880" cy="169920"/>
                  <a:chOff x="3889440" y="6322320"/>
                  <a:chExt cx="200880" cy="1699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3889440" y="6322320"/>
                    <a:ext cx="200880" cy="1699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922920" y="6348960"/>
                    <a:ext cx="137160" cy="1159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1" name=""/>
              <p:cNvGrpSpPr/>
              <p:nvPr/>
            </p:nvGrpSpPr>
            <p:grpSpPr>
              <a:xfrm>
                <a:off x="2533320" y="5557680"/>
                <a:ext cx="200880" cy="169920"/>
                <a:chOff x="2533320" y="5557680"/>
                <a:chExt cx="200880" cy="1699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533320" y="5557680"/>
                  <a:ext cx="20088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566800" y="558432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1928880" y="5714640"/>
                <a:ext cx="201240" cy="169920"/>
                <a:chOff x="1928880" y="5714640"/>
                <a:chExt cx="201240" cy="1699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1928880" y="571464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962360" y="574128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305000" y="6145920"/>
                <a:ext cx="200880" cy="169920"/>
                <a:chOff x="1305000" y="6145920"/>
                <a:chExt cx="200880" cy="1699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305000" y="6145920"/>
                  <a:ext cx="20088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338480" y="617256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3204720" y="5609880"/>
                <a:ext cx="201240" cy="169920"/>
                <a:chOff x="3204720" y="5609880"/>
                <a:chExt cx="201240" cy="1699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3204720" y="560988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238200" y="563652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3" name=""/>
          <p:cNvSpPr/>
          <p:nvPr/>
        </p:nvSpPr>
        <p:spPr>
          <a:xfrm>
            <a:off x="513000" y="2525760"/>
            <a:ext cx="25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upling capacitors : A/D/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87360" y="24382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NA: Mutual inductance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. Yang: Time domain integral equations and MNA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520" y="11430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with non-linear circuits and EMI in the time dom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638680" y="46483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43600" cy="26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"/>
          <p:cNvGraphicFramePr/>
          <p:nvPr/>
        </p:nvGraphicFramePr>
        <p:xfrm>
          <a:off x="0" y="3809880"/>
          <a:ext cx="4095720" cy="286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9880"/>
                    <a:ext cx="409572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762120" y="1752480"/>
            <a:ext cx="28191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. West: Coupled EM Codebase and CoSMoS Interfac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code base design to incorporate mature and tested research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447920" y="2133720"/>
          <a:ext cx="5943600" cy="4457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33720"/>
                    <a:ext cx="59436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atus of EM Simulation for CoSMo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30920" y="1447920"/>
            <a:ext cx="27532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esher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9480" y="2057400"/>
            <a:ext cx="295452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oSMoS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50040" y="2743200"/>
            <a:ext cx="36356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EM matrix for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5800" y="3581280"/>
            <a:ext cx="31892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M-Circuit coup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9680" y="4419720"/>
            <a:ext cx="12870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ol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82480" y="5715000"/>
            <a:ext cx="25506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t-proc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160" y="5105520"/>
            <a:ext cx="28630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M time step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0080" y="3733920"/>
            <a:ext cx="2401200" cy="180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Q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F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ite perio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QR-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4340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3400" y="3276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343400" y="4952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952880" y="38862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429000" y="32763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3428640" y="39625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62720" y="32767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84560" y="1219320"/>
            <a:ext cx="2174040" cy="22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ext Set of Planned Deliverables/Milestone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A General multi-region formulation including exact loss effects, volumetric models, and effective surface imped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zed general multi-region solver - December 2003 : On 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B Two-way circuit-EM coupling and related port/terminal characteriz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ur-based port-model into CoSMoS with EM Prototype - July 2003 : On 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F Green's function-independent QR fast iterative and direct sol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ion of fast iterative solver into Phase 1 CoSMoS-EIGER - July 2003 : Interface on 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A Continuous validation of EM and EM-circuit benchmarks, and proposal for regression/benchmarks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B Integration and demonstration of CoSMoS – Electromagnetics frameworks including meshing and visualiz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A Time domain integral equation (TDIE) with exact circuit coup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-alone prototype TDIE solver - July 2003 : On 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djacent Application Areas of EM Development in CoSMo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D VLSI –Substrate inte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 and radiation hardened circuit behavior pre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st EM effects in high-speed asynchronous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material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clusions and Continuing Work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formulation, 3D, broadband, time and frequency domain coupling scheme for EM and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drature schemes, pre- and post- processing, applications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type code base and COSMoS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ized fast sol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 : formulations implemented, tested, now moving to development/general implementation in several key areas, related research contin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lated Journal and Conference Publications in 2002+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. Chakraborty and V. Jandhyala, “Accurate computation of vector potentials in lossy media,” accepted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icrowave Optical Technology Lette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to appear, March 5, 2003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. Jandhyala, Y. Wang, D. Gope, and R. Shi, “A surface-based integral equation formulation for coupled electromagnetic and circuit simulation,”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icrowave Optical Technology Lette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vol. 34, no. 2, pp. 103-106, July 20,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. Jandhyala and C. Yang, “A time domain surface integral technique for mixed electromagnetic and circuit simulation,”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oc. IEEE Meeting on Electric. Perf. of Electron. Packag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San Jose, October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. Jandhyala, Y. Wang, D. Gope, S. Chakraborty, and R. Shi, “A surface-integral equation- based technique for general coupled circuit-electromagnetic simulation,” (invited)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oc. Progress in Electromagnetics Research Symposi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Boston, Jul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. Jandhyala and C. Yang, “A time-domain surface-integral formulation for general coupled electromagnetic-circuit simulation,”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oc. IEEE APS-UR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San Antonio, June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Gope, S. Chakraborty, Y. Wang, V. Jandhyala, and R. Shi,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 surface-based 3D coupled circuit-electromagnetic simulator with accurate lossy conductor modeling,”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oc. IEEE APS-UR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San Antonio, June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Jandhyala, Y. Wang, D. Gope, and R. Shi,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oupled electromagnetic-circuit simulation of arbitrarily-shaped conducting structures using triangular meshes,”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oc. International Symposium on Quality Electronic Desig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San Jose, March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ersonn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916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Computational EM Research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kram Jandhy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wagato Chakrabor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ursuing Ph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ormulations, EM-circuit coupling,  and material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panjan Go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ursuing PhD, post-qualif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ast iterative and direct solvers,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ng Ouya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ursuing MS-Ph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ast finite periodic solver and meta-material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ng Wa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with Richard Shi), pursuing PhD, post-qualif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M-circuit coupling, circuit applications and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dd W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ursuing PhD, post-qualif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de integration and CoSMoS interface, frequency scaling and fast sweeps, algorithm integration and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uanyi Ya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ursuing Ph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ime domain conductor and material EM simulation (TDIE), non-linear and EMI/EMC mode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llaborations and Leveraged Fund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labo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chard Shi UW 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ve Allstot UW 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 Sharpe and Dan White LL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PA NeoC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SF-SRC (Shi/Jandhya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SF-CAR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M Simulation for CoSMo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30920" y="1447920"/>
            <a:ext cx="2753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sher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9480" y="2057400"/>
            <a:ext cx="2954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MoS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50040" y="2743200"/>
            <a:ext cx="3635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 matrix for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5800" y="3581280"/>
            <a:ext cx="31892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-Circuit coup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9680" y="4419720"/>
            <a:ext cx="1287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82480" y="5715000"/>
            <a:ext cx="2550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t-proc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160" y="5105520"/>
            <a:ext cx="2863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 time step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3733920"/>
            <a:ext cx="240120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ite perio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R-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76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952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952880" y="38862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29000" y="32763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428640" y="39625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32767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liverables and Milestone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A General multi-region formulation including exact loss effects, volumetric models, and effective surface imped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region solver into CoSMoS with EM Prototype - January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: C++ Libraries ready to be integrated/called from higher level CoSMoS 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B Two-way circuit-EM coupling and related port/terminal characteriz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ct coupling scheme into CoSMoS with EM Prototype - January 200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: C++ Libraries ready to be integrated/called from higher level CoSMoS 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F Green's function-independent QR fast iterative and direct sol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-alone fast iterative solver - January 200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 : Ready and t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A Continuous validation of EM and EM-circuit benchmarks, and proposal for regression/benchmarks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: Several benchmarks proposed and tested, will be demonst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B Integration and demonstration of CoSMoS – Electromagnetics frameworks including meshing and visualiz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: Prototype mesh interfaces and visualization tools r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79440" y="2200320"/>
            <a:ext cx="702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51680" y="2279520"/>
            <a:ext cx="638280" cy="24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43440" y="2198520"/>
            <a:ext cx="833400" cy="23544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35160" y="4341960"/>
            <a:ext cx="3251160" cy="763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3440" y="4336920"/>
            <a:ext cx="833400" cy="773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39840" y="2200320"/>
            <a:ext cx="2714760" cy="2136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89040" y="2614680"/>
            <a:ext cx="2057400" cy="1810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 Par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87520" y="448308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upling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3385080" y="2862720"/>
            <a:ext cx="191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upling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840200" y="3390840"/>
                <a:ext cx="944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5423040" y="2239920"/>
            <a:ext cx="663480" cy="2362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5038920" y="3045600"/>
            <a:ext cx="144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232680" y="3465360"/>
          <a:ext cx="87768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2680" y="3465360"/>
                    <a:ext cx="8776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7051680" y="4286160"/>
            <a:ext cx="639720" cy="936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6829920" y="4479120"/>
            <a:ext cx="1043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k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c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6849000" y="2686680"/>
            <a:ext cx="1042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el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c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4541760"/>
            <a:ext cx="779400" cy="56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it Par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MN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9800" y="4332240"/>
            <a:ext cx="669960" cy="8352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5377680" y="4524480"/>
            <a:ext cx="75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924680" y="1639800"/>
            <a:ext cx="1076400" cy="1146240"/>
            <a:chOff x="7924680" y="1639800"/>
            <a:chExt cx="1076400" cy="1146240"/>
          </a:xfrm>
        </p:grpSpPr>
        <p:grpSp>
          <p:nvGrpSpPr>
            <p:cNvPr id="94" name=""/>
            <p:cNvGrpSpPr/>
            <p:nvPr/>
          </p:nvGrpSpPr>
          <p:grpSpPr>
            <a:xfrm>
              <a:off x="8918280" y="2211480"/>
              <a:ext cx="82800" cy="36360"/>
              <a:chOff x="8918280" y="2211480"/>
              <a:chExt cx="82800" cy="36360"/>
            </a:xfrm>
          </p:grpSpPr>
          <p:sp>
            <p:nvSpPr>
              <p:cNvPr id="95" name=""/>
              <p:cNvSpPr/>
              <p:nvPr/>
            </p:nvSpPr>
            <p:spPr>
              <a:xfrm>
                <a:off x="8918280" y="221148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34840" y="223056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47080" y="2247840"/>
                <a:ext cx="2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7961040" y="262260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924680" y="2749320"/>
              <a:ext cx="82440" cy="36720"/>
              <a:chOff x="7924680" y="2749320"/>
              <a:chExt cx="82440" cy="36720"/>
            </a:xfrm>
          </p:grpSpPr>
          <p:sp>
            <p:nvSpPr>
              <p:cNvPr id="100" name=""/>
              <p:cNvSpPr/>
              <p:nvPr/>
            </p:nvSpPr>
            <p:spPr>
              <a:xfrm>
                <a:off x="7924680" y="2749320"/>
                <a:ext cx="8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41240" y="276840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953120" y="2786040"/>
                <a:ext cx="2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8127720" y="2203560"/>
              <a:ext cx="11916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127720" y="1903320"/>
              <a:ext cx="50184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246880" y="1898280"/>
              <a:ext cx="503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46880" y="2009520"/>
              <a:ext cx="50652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961040" y="2273400"/>
              <a:ext cx="21456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61040" y="2422440"/>
              <a:ext cx="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719920" y="1733400"/>
              <a:ext cx="243000" cy="209520"/>
            </a:xfrm>
            <a:custGeom>
              <a:avLst/>
              <a:gdLst/>
              <a:ahLst/>
              <a:rect l="l" t="t" r="r" b="b"/>
              <a:pathLst>
                <a:path w="486" h="402">
                  <a:moveTo>
                    <a:pt x="0" y="324"/>
                  </a:moveTo>
                  <a:lnTo>
                    <a:pt x="486" y="0"/>
                  </a:lnTo>
                  <a:lnTo>
                    <a:pt x="486" y="4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959680" y="20797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330800">
              <a:off x="7972200" y="1903320"/>
              <a:ext cx="306360" cy="100080"/>
            </a:xfrm>
            <a:custGeom>
              <a:avLst/>
              <a:gdLst>
                <a:gd name="textAreaLeft" fmla="*/ 47880 w 306360"/>
                <a:gd name="textAreaRight" fmla="*/ 268200 w 306360"/>
                <a:gd name="textAreaTop" fmla="*/ 24840 h 100080"/>
                <a:gd name="textAreaBottom" fmla="*/ 75240 h 10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29560" y="1901880"/>
              <a:ext cx="122040" cy="110880"/>
            </a:xfrm>
            <a:custGeom>
              <a:avLst/>
              <a:gdLst/>
              <a:ahLst/>
              <a:rect l="l" t="t" r="r" b="b"/>
              <a:pathLst>
                <a:path w="468" h="312">
                  <a:moveTo>
                    <a:pt x="0" y="0"/>
                  </a:moveTo>
                  <a:lnTo>
                    <a:pt x="468" y="0"/>
                  </a:lnTo>
                  <a:lnTo>
                    <a:pt x="468" y="3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939160" y="1940040"/>
              <a:ext cx="42840" cy="14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43760" y="2468520"/>
              <a:ext cx="42840" cy="146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4265400">
              <a:off x="8219880" y="1750680"/>
              <a:ext cx="306360" cy="100080"/>
            </a:xfrm>
            <a:custGeom>
              <a:avLst/>
              <a:gdLst>
                <a:gd name="textAreaLeft" fmla="*/ 47880 w 306360"/>
                <a:gd name="textAreaRight" fmla="*/ 268200 w 306360"/>
                <a:gd name="textAreaTop" fmla="*/ 24840 h 100080"/>
                <a:gd name="textAreaBottom" fmla="*/ 75240 h 10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6" name=""/>
          <p:cNvCxnSpPr/>
          <p:nvPr/>
        </p:nvCxnSpPr>
        <p:spPr>
          <a:xfrm flipV="1" rot="10800000">
            <a:off x="7284240" y="1942920"/>
            <a:ext cx="812160" cy="45144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117" name=""/>
          <p:cNvCxnSpPr>
            <a:stCxn id="118" idx="0"/>
            <a:endCxn id="80" idx="2"/>
          </p:cNvCxnSpPr>
          <p:nvPr/>
        </p:nvCxnSpPr>
        <p:spPr>
          <a:xfrm flipH="1" rot="10800000">
            <a:off x="1922760" y="4939560"/>
            <a:ext cx="695520" cy="546480"/>
          </a:xfrm>
          <a:prstGeom prst="curvedConnector5">
            <a:avLst>
              <a:gd name="adj1" fmla="val -32884"/>
              <a:gd name="adj2" fmla="val 24983"/>
              <a:gd name="adj3" fmla="val -32884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119" name=""/>
          <p:cNvCxnSpPr/>
          <p:nvPr/>
        </p:nvCxnSpPr>
        <p:spPr>
          <a:xfrm flipH="1" flipV="1" rot="5400000">
            <a:off x="2852280" y="4471200"/>
            <a:ext cx="1002600" cy="163764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graphicFrame>
        <p:nvGraphicFramePr>
          <p:cNvPr id="120" name=""/>
          <p:cNvGraphicFramePr/>
          <p:nvPr/>
        </p:nvGraphicFramePr>
        <p:xfrm>
          <a:off x="3424320" y="5765760"/>
          <a:ext cx="162000" cy="54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4320" y="5765760"/>
                    <a:ext cx="1620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09880" y="5780160"/>
          <a:ext cx="44316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5780160"/>
                    <a:ext cx="4431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068800" y="5784840"/>
          <a:ext cx="351000" cy="57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68800" y="5784840"/>
                    <a:ext cx="351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26" name=""/>
          <p:cNvCxnSpPr/>
          <p:nvPr/>
        </p:nvCxnSpPr>
        <p:spPr>
          <a:xfrm flipV="1" rot="16200000">
            <a:off x="4404960" y="4944240"/>
            <a:ext cx="930960" cy="750240"/>
          </a:xfrm>
          <a:prstGeom prst="curvedConnector5">
            <a:avLst>
              <a:gd name="adj1" fmla="val 49980"/>
              <a:gd name="adj2" fmla="val 49975"/>
              <a:gd name="adj3" fmla="val 49980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graphicFrame>
        <p:nvGraphicFramePr>
          <p:cNvPr id="127" name=""/>
          <p:cNvGraphicFramePr/>
          <p:nvPr/>
        </p:nvGraphicFramePr>
        <p:xfrm>
          <a:off x="2408400" y="5791320"/>
          <a:ext cx="253800" cy="58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5791320"/>
                    <a:ext cx="2538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cap" descr=""/>
          <p:cNvPicPr/>
          <p:nvPr/>
        </p:nvPicPr>
        <p:blipFill>
          <a:blip r:embed="rId11"/>
          <a:stretch/>
        </p:blipFill>
        <p:spPr>
          <a:xfrm>
            <a:off x="1038240" y="5424480"/>
            <a:ext cx="990720" cy="103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24200" y="5486400"/>
            <a:ext cx="637920" cy="380880"/>
          </a:xfrm>
          <a:custGeom>
            <a:avLst/>
            <a:gdLst/>
            <a:ahLst/>
            <a:rect l="l" t="t" r="r" b="b"/>
            <a:pathLst>
              <a:path w="402" h="240">
                <a:moveTo>
                  <a:pt x="0" y="0"/>
                </a:moveTo>
                <a:lnTo>
                  <a:pt x="402" y="0"/>
                </a:lnTo>
                <a:lnTo>
                  <a:pt x="402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390920" y="5829480"/>
          <a:ext cx="419040" cy="447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90920" y="5829480"/>
                    <a:ext cx="4190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900520" y="5796000"/>
          <a:ext cx="242640" cy="542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00520" y="5796000"/>
                    <a:ext cx="2426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229520" y="5556240"/>
          <a:ext cx="1162080" cy="97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229520" y="5556240"/>
                    <a:ext cx="11620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36" name=""/>
          <p:cNvCxnSpPr>
            <a:endCxn id="88" idx="0"/>
          </p:cNvCxnSpPr>
          <p:nvPr/>
        </p:nvCxnSpPr>
        <p:spPr>
          <a:xfrm rot="10800000">
            <a:off x="7076520" y="4753800"/>
            <a:ext cx="153000" cy="128988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137" name=""/>
          <p:cNvCxnSpPr>
            <a:endCxn id="87" idx="3"/>
          </p:cNvCxnSpPr>
          <p:nvPr/>
        </p:nvCxnSpPr>
        <p:spPr>
          <a:xfrm flipV="1" rot="16200000">
            <a:off x="7434360" y="5010120"/>
            <a:ext cx="1042200" cy="52920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138" name=""/>
          <p:cNvCxnSpPr/>
          <p:nvPr/>
        </p:nvCxnSpPr>
        <p:spPr>
          <a:xfrm flipH="1" rot="10800000">
            <a:off x="1332000" y="3344040"/>
            <a:ext cx="144720" cy="2750400"/>
          </a:xfrm>
          <a:prstGeom prst="curvedConnector5">
            <a:avLst>
              <a:gd name="adj1" fmla="val -158603"/>
              <a:gd name="adj2" fmla="val 49993"/>
              <a:gd name="adj3" fmla="val -158603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139" name=""/>
          <p:cNvCxnSpPr>
            <a:endCxn id="79" idx="1"/>
          </p:cNvCxnSpPr>
          <p:nvPr/>
        </p:nvCxnSpPr>
        <p:spPr>
          <a:xfrm flipH="1" rot="16200000">
            <a:off x="454680" y="2219760"/>
            <a:ext cx="1585080" cy="68472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140" name=""/>
          <p:cNvSpPr/>
          <p:nvPr/>
        </p:nvSpPr>
        <p:spPr>
          <a:xfrm>
            <a:off x="5334120" y="130500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olve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6232200">
            <a:off x="5438520" y="1981080"/>
            <a:ext cx="714600" cy="218880"/>
          </a:xfrm>
          <a:prstGeom prst="rightArrow">
            <a:avLst>
              <a:gd name="adj1" fmla="val 50000"/>
              <a:gd name="adj2" fmla="val 8162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/>
          <p:nvPr/>
        </p:nvCxnSpPr>
        <p:spPr>
          <a:xfrm flipV="1">
            <a:off x="812880" y="3259080"/>
            <a:ext cx="437040" cy="178200"/>
          </a:xfrm>
          <a:prstGeom prst="curvedConnector5">
            <a:avLst>
              <a:gd name="adj1" fmla="val 49793"/>
              <a:gd name="adj2" fmla="val 50000"/>
              <a:gd name="adj3" fmla="val 49793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143" name=""/>
          <p:cNvSpPr/>
          <p:nvPr/>
        </p:nvSpPr>
        <p:spPr>
          <a:xfrm>
            <a:off x="5553000" y="572436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olve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4571600">
            <a:off x="5600520" y="5190480"/>
            <a:ext cx="714240" cy="219240"/>
          </a:xfrm>
          <a:prstGeom prst="rightArrow">
            <a:avLst>
              <a:gd name="adj1" fmla="val 50000"/>
              <a:gd name="adj2" fmla="val 8144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leads" descr=""/>
          <p:cNvPicPr/>
          <p:nvPr/>
        </p:nvPicPr>
        <p:blipFill>
          <a:blip r:embed="rId18"/>
          <a:stretch/>
        </p:blipFill>
        <p:spPr>
          <a:xfrm>
            <a:off x="181080" y="1160640"/>
            <a:ext cx="165708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2066760" y="1152360"/>
          <a:ext cx="2381400" cy="1009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66760" y="1152360"/>
                    <a:ext cx="23814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48" name=""/>
          <p:cNvCxnSpPr/>
          <p:nvPr/>
        </p:nvCxnSpPr>
        <p:spPr>
          <a:xfrm flipH="1" rot="16200000">
            <a:off x="2315160" y="1950120"/>
            <a:ext cx="583560" cy="317880"/>
          </a:xfrm>
          <a:prstGeom prst="curvedConnector5">
            <a:avLst>
              <a:gd name="adj1" fmla="val 49814"/>
              <a:gd name="adj2" fmla="val 50000"/>
              <a:gd name="adj3" fmla="val 49814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graphicFrame>
        <p:nvGraphicFramePr>
          <p:cNvPr id="149" name=""/>
          <p:cNvGraphicFramePr/>
          <p:nvPr/>
        </p:nvGraphicFramePr>
        <p:xfrm>
          <a:off x="166680" y="2814480"/>
          <a:ext cx="839880" cy="1467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6680" y="2814480"/>
                    <a:ext cx="83988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95080" y="673200"/>
            <a:ext cx="80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te circuit-EM coupling with terminal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S. Chakraborty : Material models, coupling, and formulation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2640" y="1219320"/>
            <a:ext cx="496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band formulation with lo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dielectric effects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-63360" y="2717640"/>
            <a:ext cx="5029200" cy="3423960"/>
            <a:chOff x="-63360" y="2717640"/>
            <a:chExt cx="5029200" cy="342396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122760" y="3105720"/>
              <a:ext cx="4470480" cy="303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-63360" y="2717640"/>
              <a:ext cx="50292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ductance Behav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4720" y="3502080"/>
              <a:ext cx="2887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.C Inductance from a Volumetric Commercial Solver 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4720" y="4025160"/>
              <a:ext cx="2887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ductance is shooting up for resonanc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927680" y="2730600"/>
            <a:ext cx="4762440" cy="3556080"/>
            <a:chOff x="4927680" y="2730600"/>
            <a:chExt cx="4762440" cy="355608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4927680" y="3138120"/>
              <a:ext cx="4149000" cy="31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927680" y="2730600"/>
              <a:ext cx="47624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istance Behav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47160" y="3992760"/>
              <a:ext cx="2857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istance Obtained from a Volumetric Commercial Solver = 1.3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33560" y="4443840"/>
              <a:ext cx="2857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he Full Wave modeling is able to capture the radiation lo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53600" y="2133720"/>
            <a:ext cx="82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ooth transition from full-wave to quasi-static to 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. Gope: Fast physics-based iterative and direct solver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2360" y="1447920"/>
            <a:ext cx="894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n’s function independent fast iterative solver for coup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it-EM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5486400" cy="4094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29797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. West, C. Yang, D. Gope, Y. Wang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1295280"/>
            <a:ext cx="578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h interfacing, adaptive refineme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ization and post-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2395440" cy="1796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495680" y="2971800"/>
            <a:ext cx="3732480" cy="2798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373536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19:21:35Z</dcterms:created>
  <dc:creator>Vikram Jandhyala</dc:creator>
  <dc:description/>
  <dc:language>en-US</dc:language>
  <cp:lastModifiedBy>nikitin</cp:lastModifiedBy>
  <dcterms:modified xsi:type="dcterms:W3CDTF">2002-12-12T04:49:27Z</dcterms:modified>
  <cp:revision>86</cp:revision>
  <dc:subject/>
  <dc:title>PowerPoint Presentation</dc:title>
</cp:coreProperties>
</file>