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6480"/>
            <a:ext cx="3030480" cy="473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960720" y="-6480"/>
            <a:ext cx="3030480" cy="473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2"/>
          </p:nvPr>
        </p:nvSpPr>
        <p:spPr>
          <a:xfrm>
            <a:off x="0" y="8815320"/>
            <a:ext cx="3030480" cy="473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3"/>
          </p:nvPr>
        </p:nvSpPr>
        <p:spPr>
          <a:xfrm>
            <a:off x="3960720" y="8815320"/>
            <a:ext cx="3030480" cy="473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55C5617-BC22-44C0-9760-2445161ABC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33120" y="4408200"/>
            <a:ext cx="512460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6180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3120" y="4408200"/>
            <a:ext cx="512460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ress these challenges, we have assembled a team of experts in SoC design, simulation, language and commercial tool development.  From the University of Washington, Prof. David Allstot has been a pioneer in substrate modeling and parasitic-ware RF systems-on-chip design.  Prof. Vikram Jandhyala is an expert on fast methods of moments for EM modeling and on-chip off-chip parasitics modeling. Before joining UW, he was a engineer working at Ansoft for parasitic extraction.  I myself am doing research in the area of mixed-signal CAD. I was a member of IEEE VHDL-AMS design and standardization group, both when I was working at Analogy as well as after I joined th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LLNL, Dr. Robert Sharp is an expert on BEM-based EM simulation, and he has lead the development of EIGER, an OO-based EM modeling framework. Dr. Dan White is a computational scientist working on one of the best FEM based solvers at Liverm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eing team is headed by Dr. Warren Snapp. His organization has been responsible for designing mixed-signal electronics for most of Boeing’s system produ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ology transfer partner is ODT, an analog/RF CAD startup. Dr. Monte Mar has 10 years experience in analog CAD and the design of PLL/AD at Intel and Cyp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3120" y="4408200"/>
            <a:ext cx="512460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ress these challenges, we have assembled a team of experts in SoC design, simulation, language and commercial tool development.  From the University of Washington, Prof. David Allstot has been a pioneer in substrate modeling and parasitic-ware RF systems-on-chip design.  Prof. Vikram Jandhyala is an expert on fast methods of moments for EM modeling and on-chip off-chip parasitics modeling. Before joining UW, he was a engineer working at Ansoft for parasitic extraction.  I myself am doing research in the area of mixed-signal CAD. I was a member of IEEE VHDL-AMS design and standardization group, both when I was working at Analogy as well as after I joined th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LLNL, Dr. Robert Sharp is an expert on BEM-based EM simulation, and he has lead the development of EIGER, an OO-based EM modeling framework. Dr. Dan White is a computational scientist working on one of the best FEM based solvers at Liverm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eing team is headed by Dr. Warren Snapp. His organization has been responsible for designing mixed-signal electronics for most of Boeing’s system produ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ology transfer partner is ODT, an analog/RF CAD startup. Dr. Monte Mar has 10 years experience in analog CAD and the design of PLL/AD at Intel and Cyp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03040" y="182520"/>
            <a:ext cx="6646680" cy="47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03040" y="182520"/>
            <a:ext cx="6646680" cy="47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4600" y="43020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040" y="6667560"/>
            <a:ext cx="177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©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Richard Shi, Dec 10-11,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9ECF-B113-4154-A202-0A614B2918EE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28480" y="41292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0240" y="169920"/>
            <a:ext cx="87534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c0128"/>
                </a:solidFill>
                <a:latin typeface="Arial"/>
              </a:rPr>
              <a:t>CoSMoS:</a:t>
            </a:r>
            <a:r>
              <a:rPr b="1" i="1" lang="en-US" sz="5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400"/>
            </a:b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Co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upled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imulation and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Mo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deling of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ystems-on-Chips</a:t>
            </a:r>
            <a:endParaRPr b="0" i="1" lang="en-US" sz="2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6080" y="3146040"/>
            <a:ext cx="7308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cember 10-11, 2002 (Seattle W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ichard 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partment of Electr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niversity of Washington, Seattle 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hi@ee.washington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5800" y="1227240"/>
            <a:ext cx="851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60880" y="5759280"/>
            <a:ext cx="606240" cy="66384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5697360" y="5873760"/>
            <a:ext cx="1536480" cy="398160"/>
            <a:chOff x="5697360" y="5873760"/>
            <a:chExt cx="1536480" cy="398160"/>
          </a:xfrm>
        </p:grpSpPr>
        <p:sp>
          <p:nvSpPr>
            <p:cNvPr id="98" name=""/>
            <p:cNvSpPr/>
            <p:nvPr/>
          </p:nvSpPr>
          <p:spPr>
            <a:xfrm>
              <a:off x="5697360" y="5873760"/>
              <a:ext cx="406440" cy="398160"/>
            </a:xfrm>
            <a:custGeom>
              <a:avLst/>
              <a:gdLst/>
              <a:ahLst/>
              <a:rect l="l" t="t" r="r" b="b"/>
              <a:pathLst>
                <a:path w="4475" h="3639">
                  <a:moveTo>
                    <a:pt x="2454" y="2210"/>
                  </a:moveTo>
                  <a:lnTo>
                    <a:pt x="2468" y="2179"/>
                  </a:lnTo>
                  <a:lnTo>
                    <a:pt x="2481" y="2148"/>
                  </a:lnTo>
                  <a:lnTo>
                    <a:pt x="2493" y="2117"/>
                  </a:lnTo>
                  <a:lnTo>
                    <a:pt x="2505" y="2084"/>
                  </a:lnTo>
                  <a:lnTo>
                    <a:pt x="2516" y="2052"/>
                  </a:lnTo>
                  <a:lnTo>
                    <a:pt x="2526" y="2019"/>
                  </a:lnTo>
                  <a:lnTo>
                    <a:pt x="2534" y="1986"/>
                  </a:lnTo>
                  <a:lnTo>
                    <a:pt x="2543" y="1952"/>
                  </a:lnTo>
                  <a:lnTo>
                    <a:pt x="2550" y="1919"/>
                  </a:lnTo>
                  <a:lnTo>
                    <a:pt x="2557" y="1884"/>
                  </a:lnTo>
                  <a:lnTo>
                    <a:pt x="2562" y="1851"/>
                  </a:lnTo>
                  <a:lnTo>
                    <a:pt x="2567" y="1815"/>
                  </a:lnTo>
                  <a:lnTo>
                    <a:pt x="2570" y="1781"/>
                  </a:lnTo>
                  <a:lnTo>
                    <a:pt x="2572" y="1745"/>
                  </a:lnTo>
                  <a:lnTo>
                    <a:pt x="2575" y="1710"/>
                  </a:lnTo>
                  <a:lnTo>
                    <a:pt x="2575" y="1674"/>
                  </a:lnTo>
                  <a:lnTo>
                    <a:pt x="2575" y="1632"/>
                  </a:lnTo>
                  <a:lnTo>
                    <a:pt x="2572" y="1592"/>
                  </a:lnTo>
                  <a:lnTo>
                    <a:pt x="2569" y="1552"/>
                  </a:lnTo>
                  <a:lnTo>
                    <a:pt x="2564" y="1511"/>
                  </a:lnTo>
                  <a:lnTo>
                    <a:pt x="2559" y="1471"/>
                  </a:lnTo>
                  <a:lnTo>
                    <a:pt x="2551" y="1432"/>
                  </a:lnTo>
                  <a:lnTo>
                    <a:pt x="2543" y="1393"/>
                  </a:lnTo>
                  <a:lnTo>
                    <a:pt x="2533" y="1354"/>
                  </a:lnTo>
                  <a:lnTo>
                    <a:pt x="2523" y="1317"/>
                  </a:lnTo>
                  <a:lnTo>
                    <a:pt x="2511" y="1279"/>
                  </a:lnTo>
                  <a:lnTo>
                    <a:pt x="2498" y="1242"/>
                  </a:lnTo>
                  <a:lnTo>
                    <a:pt x="2485" y="1206"/>
                  </a:lnTo>
                  <a:lnTo>
                    <a:pt x="2470" y="1169"/>
                  </a:lnTo>
                  <a:lnTo>
                    <a:pt x="2453" y="1134"/>
                  </a:lnTo>
                  <a:lnTo>
                    <a:pt x="2436" y="1099"/>
                  </a:lnTo>
                  <a:lnTo>
                    <a:pt x="2418" y="1065"/>
                  </a:lnTo>
                  <a:lnTo>
                    <a:pt x="2398" y="1031"/>
                  </a:lnTo>
                  <a:lnTo>
                    <a:pt x="2378" y="999"/>
                  </a:lnTo>
                  <a:lnTo>
                    <a:pt x="2356" y="966"/>
                  </a:lnTo>
                  <a:lnTo>
                    <a:pt x="2334" y="935"/>
                  </a:lnTo>
                  <a:lnTo>
                    <a:pt x="2311" y="904"/>
                  </a:lnTo>
                  <a:lnTo>
                    <a:pt x="2288" y="873"/>
                  </a:lnTo>
                  <a:lnTo>
                    <a:pt x="2262" y="844"/>
                  </a:lnTo>
                  <a:lnTo>
                    <a:pt x="2237" y="816"/>
                  </a:lnTo>
                  <a:lnTo>
                    <a:pt x="2210" y="787"/>
                  </a:lnTo>
                  <a:lnTo>
                    <a:pt x="2183" y="760"/>
                  </a:lnTo>
                  <a:lnTo>
                    <a:pt x="2154" y="734"/>
                  </a:lnTo>
                  <a:lnTo>
                    <a:pt x="2125" y="709"/>
                  </a:lnTo>
                  <a:lnTo>
                    <a:pt x="2095" y="684"/>
                  </a:lnTo>
                  <a:lnTo>
                    <a:pt x="2064" y="661"/>
                  </a:lnTo>
                  <a:lnTo>
                    <a:pt x="2034" y="638"/>
                  </a:lnTo>
                  <a:lnTo>
                    <a:pt x="2001" y="616"/>
                  </a:lnTo>
                  <a:lnTo>
                    <a:pt x="2079" y="538"/>
                  </a:lnTo>
                  <a:lnTo>
                    <a:pt x="2159" y="459"/>
                  </a:lnTo>
                  <a:lnTo>
                    <a:pt x="2240" y="381"/>
                  </a:lnTo>
                  <a:lnTo>
                    <a:pt x="2323" y="303"/>
                  </a:lnTo>
                  <a:lnTo>
                    <a:pt x="2406" y="227"/>
                  </a:lnTo>
                  <a:lnTo>
                    <a:pt x="2492" y="151"/>
                  </a:lnTo>
                  <a:lnTo>
                    <a:pt x="2579" y="75"/>
                  </a:lnTo>
                  <a:lnTo>
                    <a:pt x="2668" y="0"/>
                  </a:lnTo>
                  <a:lnTo>
                    <a:pt x="2615" y="30"/>
                  </a:lnTo>
                  <a:lnTo>
                    <a:pt x="2564" y="62"/>
                  </a:lnTo>
                  <a:lnTo>
                    <a:pt x="2512" y="93"/>
                  </a:lnTo>
                  <a:lnTo>
                    <a:pt x="2461" y="125"/>
                  </a:lnTo>
                  <a:lnTo>
                    <a:pt x="2412" y="159"/>
                  </a:lnTo>
                  <a:lnTo>
                    <a:pt x="2361" y="191"/>
                  </a:lnTo>
                  <a:lnTo>
                    <a:pt x="2311" y="226"/>
                  </a:lnTo>
                  <a:lnTo>
                    <a:pt x="2262" y="259"/>
                  </a:lnTo>
                  <a:lnTo>
                    <a:pt x="2214" y="294"/>
                  </a:lnTo>
                  <a:lnTo>
                    <a:pt x="2165" y="329"/>
                  </a:lnTo>
                  <a:lnTo>
                    <a:pt x="2117" y="365"/>
                  </a:lnTo>
                  <a:lnTo>
                    <a:pt x="2071" y="401"/>
                  </a:lnTo>
                  <a:lnTo>
                    <a:pt x="2023" y="437"/>
                  </a:lnTo>
                  <a:lnTo>
                    <a:pt x="1976" y="474"/>
                  </a:lnTo>
                  <a:lnTo>
                    <a:pt x="1931" y="511"/>
                  </a:lnTo>
                  <a:lnTo>
                    <a:pt x="1885" y="548"/>
                  </a:lnTo>
                  <a:lnTo>
                    <a:pt x="1852" y="531"/>
                  </a:lnTo>
                  <a:lnTo>
                    <a:pt x="1817" y="516"/>
                  </a:lnTo>
                  <a:lnTo>
                    <a:pt x="1782" y="501"/>
                  </a:lnTo>
                  <a:lnTo>
                    <a:pt x="1747" y="486"/>
                  </a:lnTo>
                  <a:lnTo>
                    <a:pt x="1711" y="474"/>
                  </a:lnTo>
                  <a:lnTo>
                    <a:pt x="1675" y="461"/>
                  </a:lnTo>
                  <a:lnTo>
                    <a:pt x="1638" y="451"/>
                  </a:lnTo>
                  <a:lnTo>
                    <a:pt x="1601" y="440"/>
                  </a:lnTo>
                  <a:lnTo>
                    <a:pt x="1563" y="432"/>
                  </a:lnTo>
                  <a:lnTo>
                    <a:pt x="1524" y="425"/>
                  </a:lnTo>
                  <a:lnTo>
                    <a:pt x="1485" y="417"/>
                  </a:lnTo>
                  <a:lnTo>
                    <a:pt x="1447" y="412"/>
                  </a:lnTo>
                  <a:lnTo>
                    <a:pt x="1407" y="408"/>
                  </a:lnTo>
                  <a:lnTo>
                    <a:pt x="1368" y="405"/>
                  </a:lnTo>
                  <a:lnTo>
                    <a:pt x="1328" y="403"/>
                  </a:lnTo>
                  <a:lnTo>
                    <a:pt x="1287" y="403"/>
                  </a:lnTo>
                  <a:lnTo>
                    <a:pt x="1222" y="404"/>
                  </a:lnTo>
                  <a:lnTo>
                    <a:pt x="1156" y="409"/>
                  </a:lnTo>
                  <a:lnTo>
                    <a:pt x="1091" y="417"/>
                  </a:lnTo>
                  <a:lnTo>
                    <a:pt x="1028" y="429"/>
                  </a:lnTo>
                  <a:lnTo>
                    <a:pt x="965" y="442"/>
                  </a:lnTo>
                  <a:lnTo>
                    <a:pt x="904" y="459"/>
                  </a:lnTo>
                  <a:lnTo>
                    <a:pt x="845" y="480"/>
                  </a:lnTo>
                  <a:lnTo>
                    <a:pt x="787" y="502"/>
                  </a:lnTo>
                  <a:lnTo>
                    <a:pt x="729" y="528"/>
                  </a:lnTo>
                  <a:lnTo>
                    <a:pt x="673" y="556"/>
                  </a:lnTo>
                  <a:lnTo>
                    <a:pt x="619" y="587"/>
                  </a:lnTo>
                  <a:lnTo>
                    <a:pt x="567" y="620"/>
                  </a:lnTo>
                  <a:lnTo>
                    <a:pt x="517" y="655"/>
                  </a:lnTo>
                  <a:lnTo>
                    <a:pt x="468" y="693"/>
                  </a:lnTo>
                  <a:lnTo>
                    <a:pt x="421" y="733"/>
                  </a:lnTo>
                  <a:lnTo>
                    <a:pt x="377" y="775"/>
                  </a:lnTo>
                  <a:lnTo>
                    <a:pt x="335" y="819"/>
                  </a:lnTo>
                  <a:lnTo>
                    <a:pt x="294" y="865"/>
                  </a:lnTo>
                  <a:lnTo>
                    <a:pt x="255" y="913"/>
                  </a:lnTo>
                  <a:lnTo>
                    <a:pt x="220" y="963"/>
                  </a:lnTo>
                  <a:lnTo>
                    <a:pt x="186" y="1014"/>
                  </a:lnTo>
                  <a:lnTo>
                    <a:pt x="156" y="1068"/>
                  </a:lnTo>
                  <a:lnTo>
                    <a:pt x="127" y="1123"/>
                  </a:lnTo>
                  <a:lnTo>
                    <a:pt x="102" y="1180"/>
                  </a:lnTo>
                  <a:lnTo>
                    <a:pt x="78" y="1237"/>
                  </a:lnTo>
                  <a:lnTo>
                    <a:pt x="58" y="1296"/>
                  </a:lnTo>
                  <a:lnTo>
                    <a:pt x="40" y="1356"/>
                  </a:lnTo>
                  <a:lnTo>
                    <a:pt x="26" y="1418"/>
                  </a:lnTo>
                  <a:lnTo>
                    <a:pt x="15" y="1481"/>
                  </a:lnTo>
                  <a:lnTo>
                    <a:pt x="6" y="1545"/>
                  </a:lnTo>
                  <a:lnTo>
                    <a:pt x="2" y="1608"/>
                  </a:lnTo>
                  <a:lnTo>
                    <a:pt x="0" y="1674"/>
                  </a:lnTo>
                  <a:lnTo>
                    <a:pt x="0" y="1703"/>
                  </a:lnTo>
                  <a:lnTo>
                    <a:pt x="1" y="1733"/>
                  </a:lnTo>
                  <a:lnTo>
                    <a:pt x="3" y="1762"/>
                  </a:lnTo>
                  <a:lnTo>
                    <a:pt x="5" y="1791"/>
                  </a:lnTo>
                  <a:lnTo>
                    <a:pt x="8" y="1821"/>
                  </a:lnTo>
                  <a:lnTo>
                    <a:pt x="12" y="1850"/>
                  </a:lnTo>
                  <a:lnTo>
                    <a:pt x="17" y="1878"/>
                  </a:lnTo>
                  <a:lnTo>
                    <a:pt x="21" y="1906"/>
                  </a:lnTo>
                  <a:lnTo>
                    <a:pt x="28" y="1935"/>
                  </a:lnTo>
                  <a:lnTo>
                    <a:pt x="33" y="1962"/>
                  </a:lnTo>
                  <a:lnTo>
                    <a:pt x="40" y="1990"/>
                  </a:lnTo>
                  <a:lnTo>
                    <a:pt x="48" y="2017"/>
                  </a:lnTo>
                  <a:lnTo>
                    <a:pt x="56" y="2044"/>
                  </a:lnTo>
                  <a:lnTo>
                    <a:pt x="65" y="2072"/>
                  </a:lnTo>
                  <a:lnTo>
                    <a:pt x="74" y="2098"/>
                  </a:lnTo>
                  <a:lnTo>
                    <a:pt x="84" y="2124"/>
                  </a:lnTo>
                  <a:lnTo>
                    <a:pt x="94" y="2150"/>
                  </a:lnTo>
                  <a:lnTo>
                    <a:pt x="105" y="2176"/>
                  </a:lnTo>
                  <a:lnTo>
                    <a:pt x="116" y="2201"/>
                  </a:lnTo>
                  <a:lnTo>
                    <a:pt x="128" y="2227"/>
                  </a:lnTo>
                  <a:lnTo>
                    <a:pt x="141" y="2251"/>
                  </a:lnTo>
                  <a:lnTo>
                    <a:pt x="155" y="2277"/>
                  </a:lnTo>
                  <a:lnTo>
                    <a:pt x="167" y="2301"/>
                  </a:lnTo>
                  <a:lnTo>
                    <a:pt x="182" y="2325"/>
                  </a:lnTo>
                  <a:lnTo>
                    <a:pt x="197" y="2349"/>
                  </a:lnTo>
                  <a:lnTo>
                    <a:pt x="212" y="2372"/>
                  </a:lnTo>
                  <a:lnTo>
                    <a:pt x="228" y="2395"/>
                  </a:lnTo>
                  <a:lnTo>
                    <a:pt x="243" y="2417"/>
                  </a:lnTo>
                  <a:lnTo>
                    <a:pt x="260" y="2440"/>
                  </a:lnTo>
                  <a:lnTo>
                    <a:pt x="277" y="2461"/>
                  </a:lnTo>
                  <a:lnTo>
                    <a:pt x="295" y="2483"/>
                  </a:lnTo>
                  <a:lnTo>
                    <a:pt x="313" y="2503"/>
                  </a:lnTo>
                  <a:lnTo>
                    <a:pt x="290" y="2553"/>
                  </a:lnTo>
                  <a:lnTo>
                    <a:pt x="269" y="2601"/>
                  </a:lnTo>
                  <a:lnTo>
                    <a:pt x="249" y="2649"/>
                  </a:lnTo>
                  <a:lnTo>
                    <a:pt x="230" y="2696"/>
                  </a:lnTo>
                  <a:lnTo>
                    <a:pt x="213" y="2742"/>
                  </a:lnTo>
                  <a:lnTo>
                    <a:pt x="196" y="2788"/>
                  </a:lnTo>
                  <a:lnTo>
                    <a:pt x="181" y="2833"/>
                  </a:lnTo>
                  <a:lnTo>
                    <a:pt x="167" y="2877"/>
                  </a:lnTo>
                  <a:lnTo>
                    <a:pt x="155" y="2920"/>
                  </a:lnTo>
                  <a:lnTo>
                    <a:pt x="143" y="2962"/>
                  </a:lnTo>
                  <a:lnTo>
                    <a:pt x="132" y="3003"/>
                  </a:lnTo>
                  <a:lnTo>
                    <a:pt x="124" y="3043"/>
                  </a:lnTo>
                  <a:lnTo>
                    <a:pt x="116" y="3083"/>
                  </a:lnTo>
                  <a:lnTo>
                    <a:pt x="110" y="3120"/>
                  </a:lnTo>
                  <a:lnTo>
                    <a:pt x="106" y="3158"/>
                  </a:lnTo>
                  <a:lnTo>
                    <a:pt x="103" y="3194"/>
                  </a:lnTo>
                  <a:lnTo>
                    <a:pt x="101" y="3229"/>
                  </a:lnTo>
                  <a:lnTo>
                    <a:pt x="100" y="3263"/>
                  </a:lnTo>
                  <a:lnTo>
                    <a:pt x="101" y="3295"/>
                  </a:lnTo>
                  <a:lnTo>
                    <a:pt x="103" y="3326"/>
                  </a:lnTo>
                  <a:lnTo>
                    <a:pt x="106" y="3357"/>
                  </a:lnTo>
                  <a:lnTo>
                    <a:pt x="110" y="3386"/>
                  </a:lnTo>
                  <a:lnTo>
                    <a:pt x="116" y="3413"/>
                  </a:lnTo>
                  <a:lnTo>
                    <a:pt x="125" y="3439"/>
                  </a:lnTo>
                  <a:lnTo>
                    <a:pt x="133" y="3465"/>
                  </a:lnTo>
                  <a:lnTo>
                    <a:pt x="144" y="3488"/>
                  </a:lnTo>
                  <a:lnTo>
                    <a:pt x="157" y="3509"/>
                  </a:lnTo>
                  <a:lnTo>
                    <a:pt x="170" y="3530"/>
                  </a:lnTo>
                  <a:lnTo>
                    <a:pt x="185" y="3549"/>
                  </a:lnTo>
                  <a:lnTo>
                    <a:pt x="202" y="3567"/>
                  </a:lnTo>
                  <a:lnTo>
                    <a:pt x="220" y="3583"/>
                  </a:lnTo>
                  <a:lnTo>
                    <a:pt x="239" y="3596"/>
                  </a:lnTo>
                  <a:lnTo>
                    <a:pt x="263" y="3610"/>
                  </a:lnTo>
                  <a:lnTo>
                    <a:pt x="286" y="3620"/>
                  </a:lnTo>
                  <a:lnTo>
                    <a:pt x="311" y="3629"/>
                  </a:lnTo>
                  <a:lnTo>
                    <a:pt x="339" y="3635"/>
                  </a:lnTo>
                  <a:lnTo>
                    <a:pt x="366" y="3638"/>
                  </a:lnTo>
                  <a:lnTo>
                    <a:pt x="396" y="3639"/>
                  </a:lnTo>
                  <a:lnTo>
                    <a:pt x="427" y="3638"/>
                  </a:lnTo>
                  <a:lnTo>
                    <a:pt x="458" y="3635"/>
                  </a:lnTo>
                  <a:lnTo>
                    <a:pt x="490" y="3630"/>
                  </a:lnTo>
                  <a:lnTo>
                    <a:pt x="523" y="3622"/>
                  </a:lnTo>
                  <a:lnTo>
                    <a:pt x="557" y="3613"/>
                  </a:lnTo>
                  <a:lnTo>
                    <a:pt x="592" y="3602"/>
                  </a:lnTo>
                  <a:lnTo>
                    <a:pt x="627" y="3588"/>
                  </a:lnTo>
                  <a:lnTo>
                    <a:pt x="662" y="3572"/>
                  </a:lnTo>
                  <a:lnTo>
                    <a:pt x="698" y="3554"/>
                  </a:lnTo>
                  <a:lnTo>
                    <a:pt x="734" y="3536"/>
                  </a:lnTo>
                  <a:lnTo>
                    <a:pt x="771" y="3515"/>
                  </a:lnTo>
                  <a:lnTo>
                    <a:pt x="807" y="3492"/>
                  </a:lnTo>
                  <a:lnTo>
                    <a:pt x="844" y="3468"/>
                  </a:lnTo>
                  <a:lnTo>
                    <a:pt x="880" y="3442"/>
                  </a:lnTo>
                  <a:lnTo>
                    <a:pt x="916" y="3414"/>
                  </a:lnTo>
                  <a:lnTo>
                    <a:pt x="953" y="3385"/>
                  </a:lnTo>
                  <a:lnTo>
                    <a:pt x="988" y="3355"/>
                  </a:lnTo>
                  <a:lnTo>
                    <a:pt x="1024" y="3322"/>
                  </a:lnTo>
                  <a:lnTo>
                    <a:pt x="1059" y="3289"/>
                  </a:lnTo>
                  <a:lnTo>
                    <a:pt x="1093" y="3254"/>
                  </a:lnTo>
                  <a:lnTo>
                    <a:pt x="1126" y="3219"/>
                  </a:lnTo>
                  <a:lnTo>
                    <a:pt x="1159" y="3181"/>
                  </a:lnTo>
                  <a:lnTo>
                    <a:pt x="1191" y="3142"/>
                  </a:lnTo>
                  <a:lnTo>
                    <a:pt x="1223" y="3103"/>
                  </a:lnTo>
                  <a:lnTo>
                    <a:pt x="1252" y="3062"/>
                  </a:lnTo>
                  <a:lnTo>
                    <a:pt x="1282" y="3020"/>
                  </a:lnTo>
                  <a:lnTo>
                    <a:pt x="1261" y="3038"/>
                  </a:lnTo>
                  <a:lnTo>
                    <a:pt x="1205" y="3084"/>
                  </a:lnTo>
                  <a:lnTo>
                    <a:pt x="1164" y="3114"/>
                  </a:lnTo>
                  <a:lnTo>
                    <a:pt x="1119" y="3148"/>
                  </a:lnTo>
                  <a:lnTo>
                    <a:pt x="1069" y="3182"/>
                  </a:lnTo>
                  <a:lnTo>
                    <a:pt x="1014" y="3218"/>
                  </a:lnTo>
                  <a:lnTo>
                    <a:pt x="987" y="3234"/>
                  </a:lnTo>
                  <a:lnTo>
                    <a:pt x="957" y="3251"/>
                  </a:lnTo>
                  <a:lnTo>
                    <a:pt x="927" y="3267"/>
                  </a:lnTo>
                  <a:lnTo>
                    <a:pt x="898" y="3283"/>
                  </a:lnTo>
                  <a:lnTo>
                    <a:pt x="867" y="3297"/>
                  </a:lnTo>
                  <a:lnTo>
                    <a:pt x="837" y="3311"/>
                  </a:lnTo>
                  <a:lnTo>
                    <a:pt x="807" y="3322"/>
                  </a:lnTo>
                  <a:lnTo>
                    <a:pt x="777" y="3333"/>
                  </a:lnTo>
                  <a:lnTo>
                    <a:pt x="746" y="3341"/>
                  </a:lnTo>
                  <a:lnTo>
                    <a:pt x="717" y="3348"/>
                  </a:lnTo>
                  <a:lnTo>
                    <a:pt x="688" y="3354"/>
                  </a:lnTo>
                  <a:lnTo>
                    <a:pt x="660" y="3356"/>
                  </a:lnTo>
                  <a:lnTo>
                    <a:pt x="632" y="3357"/>
                  </a:lnTo>
                  <a:lnTo>
                    <a:pt x="606" y="3355"/>
                  </a:lnTo>
                  <a:lnTo>
                    <a:pt x="579" y="3349"/>
                  </a:lnTo>
                  <a:lnTo>
                    <a:pt x="555" y="3342"/>
                  </a:lnTo>
                  <a:lnTo>
                    <a:pt x="540" y="3336"/>
                  </a:lnTo>
                  <a:lnTo>
                    <a:pt x="526" y="3330"/>
                  </a:lnTo>
                  <a:lnTo>
                    <a:pt x="514" y="3321"/>
                  </a:lnTo>
                  <a:lnTo>
                    <a:pt x="503" y="3312"/>
                  </a:lnTo>
                  <a:lnTo>
                    <a:pt x="491" y="3301"/>
                  </a:lnTo>
                  <a:lnTo>
                    <a:pt x="482" y="3291"/>
                  </a:lnTo>
                  <a:lnTo>
                    <a:pt x="473" y="3278"/>
                  </a:lnTo>
                  <a:lnTo>
                    <a:pt x="465" y="3265"/>
                  </a:lnTo>
                  <a:lnTo>
                    <a:pt x="458" y="3251"/>
                  </a:lnTo>
                  <a:lnTo>
                    <a:pt x="452" y="3237"/>
                  </a:lnTo>
                  <a:lnTo>
                    <a:pt x="447" y="3220"/>
                  </a:lnTo>
                  <a:lnTo>
                    <a:pt x="443" y="3203"/>
                  </a:lnTo>
                  <a:lnTo>
                    <a:pt x="438" y="3185"/>
                  </a:lnTo>
                  <a:lnTo>
                    <a:pt x="436" y="3166"/>
                  </a:lnTo>
                  <a:lnTo>
                    <a:pt x="434" y="3148"/>
                  </a:lnTo>
                  <a:lnTo>
                    <a:pt x="433" y="3127"/>
                  </a:lnTo>
                  <a:lnTo>
                    <a:pt x="433" y="3106"/>
                  </a:lnTo>
                  <a:lnTo>
                    <a:pt x="433" y="3084"/>
                  </a:lnTo>
                  <a:lnTo>
                    <a:pt x="435" y="3061"/>
                  </a:lnTo>
                  <a:lnTo>
                    <a:pt x="437" y="3038"/>
                  </a:lnTo>
                  <a:lnTo>
                    <a:pt x="440" y="3014"/>
                  </a:lnTo>
                  <a:lnTo>
                    <a:pt x="445" y="2989"/>
                  </a:lnTo>
                  <a:lnTo>
                    <a:pt x="449" y="2963"/>
                  </a:lnTo>
                  <a:lnTo>
                    <a:pt x="455" y="2936"/>
                  </a:lnTo>
                  <a:lnTo>
                    <a:pt x="462" y="2909"/>
                  </a:lnTo>
                  <a:lnTo>
                    <a:pt x="469" y="2881"/>
                  </a:lnTo>
                  <a:lnTo>
                    <a:pt x="476" y="2852"/>
                  </a:lnTo>
                  <a:lnTo>
                    <a:pt x="485" y="2822"/>
                  </a:lnTo>
                  <a:lnTo>
                    <a:pt x="505" y="2763"/>
                  </a:lnTo>
                  <a:lnTo>
                    <a:pt x="528" y="2699"/>
                  </a:lnTo>
                  <a:lnTo>
                    <a:pt x="568" y="2727"/>
                  </a:lnTo>
                  <a:lnTo>
                    <a:pt x="610" y="2754"/>
                  </a:lnTo>
                  <a:lnTo>
                    <a:pt x="653" y="2780"/>
                  </a:lnTo>
                  <a:lnTo>
                    <a:pt x="697" y="2803"/>
                  </a:lnTo>
                  <a:lnTo>
                    <a:pt x="741" y="2825"/>
                  </a:lnTo>
                  <a:lnTo>
                    <a:pt x="787" y="2845"/>
                  </a:lnTo>
                  <a:lnTo>
                    <a:pt x="833" y="2863"/>
                  </a:lnTo>
                  <a:lnTo>
                    <a:pt x="881" y="2880"/>
                  </a:lnTo>
                  <a:lnTo>
                    <a:pt x="905" y="2888"/>
                  </a:lnTo>
                  <a:lnTo>
                    <a:pt x="929" y="2896"/>
                  </a:lnTo>
                  <a:lnTo>
                    <a:pt x="954" y="2902"/>
                  </a:lnTo>
                  <a:lnTo>
                    <a:pt x="978" y="2908"/>
                  </a:lnTo>
                  <a:lnTo>
                    <a:pt x="1003" y="2914"/>
                  </a:lnTo>
                  <a:lnTo>
                    <a:pt x="1028" y="2920"/>
                  </a:lnTo>
                  <a:lnTo>
                    <a:pt x="1053" y="2925"/>
                  </a:lnTo>
                  <a:lnTo>
                    <a:pt x="1079" y="2929"/>
                  </a:lnTo>
                  <a:lnTo>
                    <a:pt x="1104" y="2933"/>
                  </a:lnTo>
                  <a:lnTo>
                    <a:pt x="1130" y="2936"/>
                  </a:lnTo>
                  <a:lnTo>
                    <a:pt x="1156" y="2940"/>
                  </a:lnTo>
                  <a:lnTo>
                    <a:pt x="1181" y="2942"/>
                  </a:lnTo>
                  <a:lnTo>
                    <a:pt x="1208" y="2944"/>
                  </a:lnTo>
                  <a:lnTo>
                    <a:pt x="1234" y="2945"/>
                  </a:lnTo>
                  <a:lnTo>
                    <a:pt x="1261" y="2946"/>
                  </a:lnTo>
                  <a:lnTo>
                    <a:pt x="1287" y="2946"/>
                  </a:lnTo>
                  <a:lnTo>
                    <a:pt x="1320" y="2946"/>
                  </a:lnTo>
                  <a:lnTo>
                    <a:pt x="1353" y="2944"/>
                  </a:lnTo>
                  <a:lnTo>
                    <a:pt x="1386" y="2942"/>
                  </a:lnTo>
                  <a:lnTo>
                    <a:pt x="1417" y="2940"/>
                  </a:lnTo>
                  <a:lnTo>
                    <a:pt x="1450" y="2935"/>
                  </a:lnTo>
                  <a:lnTo>
                    <a:pt x="1482" y="2931"/>
                  </a:lnTo>
                  <a:lnTo>
                    <a:pt x="1514" y="2926"/>
                  </a:lnTo>
                  <a:lnTo>
                    <a:pt x="1545" y="2921"/>
                  </a:lnTo>
                  <a:lnTo>
                    <a:pt x="1575" y="2913"/>
                  </a:lnTo>
                  <a:lnTo>
                    <a:pt x="1607" y="2906"/>
                  </a:lnTo>
                  <a:lnTo>
                    <a:pt x="1637" y="2898"/>
                  </a:lnTo>
                  <a:lnTo>
                    <a:pt x="1667" y="2889"/>
                  </a:lnTo>
                  <a:lnTo>
                    <a:pt x="1697" y="2880"/>
                  </a:lnTo>
                  <a:lnTo>
                    <a:pt x="1727" y="2869"/>
                  </a:lnTo>
                  <a:lnTo>
                    <a:pt x="1756" y="2859"/>
                  </a:lnTo>
                  <a:lnTo>
                    <a:pt x="1785" y="2848"/>
                  </a:lnTo>
                  <a:lnTo>
                    <a:pt x="1813" y="2835"/>
                  </a:lnTo>
                  <a:lnTo>
                    <a:pt x="1841" y="2822"/>
                  </a:lnTo>
                  <a:lnTo>
                    <a:pt x="1868" y="2809"/>
                  </a:lnTo>
                  <a:lnTo>
                    <a:pt x="1896" y="2794"/>
                  </a:lnTo>
                  <a:lnTo>
                    <a:pt x="1924" y="2780"/>
                  </a:lnTo>
                  <a:lnTo>
                    <a:pt x="1950" y="2764"/>
                  </a:lnTo>
                  <a:lnTo>
                    <a:pt x="1976" y="2748"/>
                  </a:lnTo>
                  <a:lnTo>
                    <a:pt x="2002" y="2731"/>
                  </a:lnTo>
                  <a:lnTo>
                    <a:pt x="2027" y="2715"/>
                  </a:lnTo>
                  <a:lnTo>
                    <a:pt x="2053" y="2697"/>
                  </a:lnTo>
                  <a:lnTo>
                    <a:pt x="2077" y="2678"/>
                  </a:lnTo>
                  <a:lnTo>
                    <a:pt x="2100" y="2659"/>
                  </a:lnTo>
                  <a:lnTo>
                    <a:pt x="2125" y="2640"/>
                  </a:lnTo>
                  <a:lnTo>
                    <a:pt x="2147" y="2620"/>
                  </a:lnTo>
                  <a:lnTo>
                    <a:pt x="2170" y="2600"/>
                  </a:lnTo>
                  <a:lnTo>
                    <a:pt x="2192" y="2579"/>
                  </a:lnTo>
                  <a:lnTo>
                    <a:pt x="2238" y="2663"/>
                  </a:lnTo>
                  <a:lnTo>
                    <a:pt x="2355" y="2655"/>
                  </a:lnTo>
                  <a:lnTo>
                    <a:pt x="2495" y="2647"/>
                  </a:lnTo>
                  <a:lnTo>
                    <a:pt x="2653" y="2638"/>
                  </a:lnTo>
                  <a:lnTo>
                    <a:pt x="2824" y="2631"/>
                  </a:lnTo>
                  <a:lnTo>
                    <a:pt x="3192" y="2616"/>
                  </a:lnTo>
                  <a:lnTo>
                    <a:pt x="3567" y="2603"/>
                  </a:lnTo>
                  <a:lnTo>
                    <a:pt x="3915" y="2591"/>
                  </a:lnTo>
                  <a:lnTo>
                    <a:pt x="4204" y="2583"/>
                  </a:lnTo>
                  <a:lnTo>
                    <a:pt x="4402" y="2577"/>
                  </a:lnTo>
                  <a:lnTo>
                    <a:pt x="4475" y="2575"/>
                  </a:lnTo>
                  <a:lnTo>
                    <a:pt x="4472" y="2568"/>
                  </a:lnTo>
                  <a:lnTo>
                    <a:pt x="4462" y="2562"/>
                  </a:lnTo>
                  <a:lnTo>
                    <a:pt x="4446" y="2556"/>
                  </a:lnTo>
                  <a:lnTo>
                    <a:pt x="4425" y="2552"/>
                  </a:lnTo>
                  <a:lnTo>
                    <a:pt x="4399" y="2546"/>
                  </a:lnTo>
                  <a:lnTo>
                    <a:pt x="4366" y="2542"/>
                  </a:lnTo>
                  <a:lnTo>
                    <a:pt x="4329" y="2539"/>
                  </a:lnTo>
                  <a:lnTo>
                    <a:pt x="4286" y="2535"/>
                  </a:lnTo>
                  <a:lnTo>
                    <a:pt x="4075" y="2519"/>
                  </a:lnTo>
                  <a:lnTo>
                    <a:pt x="3806" y="2496"/>
                  </a:lnTo>
                  <a:lnTo>
                    <a:pt x="3731" y="2489"/>
                  </a:lnTo>
                  <a:lnTo>
                    <a:pt x="3653" y="2482"/>
                  </a:lnTo>
                  <a:lnTo>
                    <a:pt x="3574" y="2472"/>
                  </a:lnTo>
                  <a:lnTo>
                    <a:pt x="3493" y="2462"/>
                  </a:lnTo>
                  <a:lnTo>
                    <a:pt x="3410" y="2450"/>
                  </a:lnTo>
                  <a:lnTo>
                    <a:pt x="3326" y="2437"/>
                  </a:lnTo>
                  <a:lnTo>
                    <a:pt x="3240" y="2423"/>
                  </a:lnTo>
                  <a:lnTo>
                    <a:pt x="3154" y="2406"/>
                  </a:lnTo>
                  <a:lnTo>
                    <a:pt x="3066" y="2388"/>
                  </a:lnTo>
                  <a:lnTo>
                    <a:pt x="2978" y="2370"/>
                  </a:lnTo>
                  <a:lnTo>
                    <a:pt x="2890" y="2349"/>
                  </a:lnTo>
                  <a:lnTo>
                    <a:pt x="2802" y="2325"/>
                  </a:lnTo>
                  <a:lnTo>
                    <a:pt x="2714" y="2300"/>
                  </a:lnTo>
                  <a:lnTo>
                    <a:pt x="2626" y="2272"/>
                  </a:lnTo>
                  <a:lnTo>
                    <a:pt x="2540" y="2242"/>
                  </a:lnTo>
                  <a:lnTo>
                    <a:pt x="2454" y="2210"/>
                  </a:lnTo>
                  <a:close/>
                  <a:moveTo>
                    <a:pt x="359" y="2408"/>
                  </a:moveTo>
                  <a:lnTo>
                    <a:pt x="329" y="2371"/>
                  </a:lnTo>
                  <a:lnTo>
                    <a:pt x="301" y="2331"/>
                  </a:lnTo>
                  <a:lnTo>
                    <a:pt x="287" y="2311"/>
                  </a:lnTo>
                  <a:lnTo>
                    <a:pt x="274" y="2290"/>
                  </a:lnTo>
                  <a:lnTo>
                    <a:pt x="261" y="2269"/>
                  </a:lnTo>
                  <a:lnTo>
                    <a:pt x="249" y="2248"/>
                  </a:lnTo>
                  <a:lnTo>
                    <a:pt x="225" y="2205"/>
                  </a:lnTo>
                  <a:lnTo>
                    <a:pt x="204" y="2162"/>
                  </a:lnTo>
                  <a:lnTo>
                    <a:pt x="184" y="2117"/>
                  </a:lnTo>
                  <a:lnTo>
                    <a:pt x="167" y="2071"/>
                  </a:lnTo>
                  <a:lnTo>
                    <a:pt x="159" y="2047"/>
                  </a:lnTo>
                  <a:lnTo>
                    <a:pt x="150" y="2023"/>
                  </a:lnTo>
                  <a:lnTo>
                    <a:pt x="144" y="1999"/>
                  </a:lnTo>
                  <a:lnTo>
                    <a:pt x="137" y="1975"/>
                  </a:lnTo>
                  <a:lnTo>
                    <a:pt x="130" y="1951"/>
                  </a:lnTo>
                  <a:lnTo>
                    <a:pt x="125" y="1927"/>
                  </a:lnTo>
                  <a:lnTo>
                    <a:pt x="120" y="1902"/>
                  </a:lnTo>
                  <a:lnTo>
                    <a:pt x="115" y="1878"/>
                  </a:lnTo>
                  <a:lnTo>
                    <a:pt x="111" y="1853"/>
                  </a:lnTo>
                  <a:lnTo>
                    <a:pt x="107" y="1828"/>
                  </a:lnTo>
                  <a:lnTo>
                    <a:pt x="104" y="1803"/>
                  </a:lnTo>
                  <a:lnTo>
                    <a:pt x="102" y="1778"/>
                  </a:lnTo>
                  <a:lnTo>
                    <a:pt x="100" y="1752"/>
                  </a:lnTo>
                  <a:lnTo>
                    <a:pt x="98" y="1725"/>
                  </a:lnTo>
                  <a:lnTo>
                    <a:pt x="97" y="1700"/>
                  </a:lnTo>
                  <a:lnTo>
                    <a:pt x="97" y="1674"/>
                  </a:lnTo>
                  <a:lnTo>
                    <a:pt x="98" y="1614"/>
                  </a:lnTo>
                  <a:lnTo>
                    <a:pt x="104" y="1554"/>
                  </a:lnTo>
                  <a:lnTo>
                    <a:pt x="111" y="1495"/>
                  </a:lnTo>
                  <a:lnTo>
                    <a:pt x="122" y="1437"/>
                  </a:lnTo>
                  <a:lnTo>
                    <a:pt x="134" y="1380"/>
                  </a:lnTo>
                  <a:lnTo>
                    <a:pt x="150" y="1325"/>
                  </a:lnTo>
                  <a:lnTo>
                    <a:pt x="169" y="1270"/>
                  </a:lnTo>
                  <a:lnTo>
                    <a:pt x="191" y="1216"/>
                  </a:lnTo>
                  <a:lnTo>
                    <a:pt x="215" y="1164"/>
                  </a:lnTo>
                  <a:lnTo>
                    <a:pt x="240" y="1114"/>
                  </a:lnTo>
                  <a:lnTo>
                    <a:pt x="269" y="1065"/>
                  </a:lnTo>
                  <a:lnTo>
                    <a:pt x="301" y="1016"/>
                  </a:lnTo>
                  <a:lnTo>
                    <a:pt x="333" y="970"/>
                  </a:lnTo>
                  <a:lnTo>
                    <a:pt x="368" y="927"/>
                  </a:lnTo>
                  <a:lnTo>
                    <a:pt x="407" y="884"/>
                  </a:lnTo>
                  <a:lnTo>
                    <a:pt x="446" y="843"/>
                  </a:lnTo>
                  <a:lnTo>
                    <a:pt x="487" y="804"/>
                  </a:lnTo>
                  <a:lnTo>
                    <a:pt x="530" y="767"/>
                  </a:lnTo>
                  <a:lnTo>
                    <a:pt x="575" y="732"/>
                  </a:lnTo>
                  <a:lnTo>
                    <a:pt x="621" y="700"/>
                  </a:lnTo>
                  <a:lnTo>
                    <a:pt x="670" y="668"/>
                  </a:lnTo>
                  <a:lnTo>
                    <a:pt x="720" y="640"/>
                  </a:lnTo>
                  <a:lnTo>
                    <a:pt x="772" y="614"/>
                  </a:lnTo>
                  <a:lnTo>
                    <a:pt x="824" y="591"/>
                  </a:lnTo>
                  <a:lnTo>
                    <a:pt x="879" y="570"/>
                  </a:lnTo>
                  <a:lnTo>
                    <a:pt x="934" y="551"/>
                  </a:lnTo>
                  <a:lnTo>
                    <a:pt x="990" y="535"/>
                  </a:lnTo>
                  <a:lnTo>
                    <a:pt x="1047" y="522"/>
                  </a:lnTo>
                  <a:lnTo>
                    <a:pt x="1106" y="512"/>
                  </a:lnTo>
                  <a:lnTo>
                    <a:pt x="1166" y="504"/>
                  </a:lnTo>
                  <a:lnTo>
                    <a:pt x="1226" y="500"/>
                  </a:lnTo>
                  <a:lnTo>
                    <a:pt x="1287" y="499"/>
                  </a:lnTo>
                  <a:lnTo>
                    <a:pt x="1322" y="499"/>
                  </a:lnTo>
                  <a:lnTo>
                    <a:pt x="1356" y="501"/>
                  </a:lnTo>
                  <a:lnTo>
                    <a:pt x="1391" y="503"/>
                  </a:lnTo>
                  <a:lnTo>
                    <a:pt x="1425" y="506"/>
                  </a:lnTo>
                  <a:lnTo>
                    <a:pt x="1458" y="510"/>
                  </a:lnTo>
                  <a:lnTo>
                    <a:pt x="1492" y="516"/>
                  </a:lnTo>
                  <a:lnTo>
                    <a:pt x="1524" y="522"/>
                  </a:lnTo>
                  <a:lnTo>
                    <a:pt x="1557" y="529"/>
                  </a:lnTo>
                  <a:lnTo>
                    <a:pt x="1589" y="538"/>
                  </a:lnTo>
                  <a:lnTo>
                    <a:pt x="1621" y="546"/>
                  </a:lnTo>
                  <a:lnTo>
                    <a:pt x="1653" y="556"/>
                  </a:lnTo>
                  <a:lnTo>
                    <a:pt x="1683" y="567"/>
                  </a:lnTo>
                  <a:lnTo>
                    <a:pt x="1714" y="577"/>
                  </a:lnTo>
                  <a:lnTo>
                    <a:pt x="1745" y="590"/>
                  </a:lnTo>
                  <a:lnTo>
                    <a:pt x="1774" y="602"/>
                  </a:lnTo>
                  <a:lnTo>
                    <a:pt x="1804" y="616"/>
                  </a:lnTo>
                  <a:lnTo>
                    <a:pt x="1744" y="669"/>
                  </a:lnTo>
                  <a:lnTo>
                    <a:pt x="1683" y="723"/>
                  </a:lnTo>
                  <a:lnTo>
                    <a:pt x="1623" y="777"/>
                  </a:lnTo>
                  <a:lnTo>
                    <a:pt x="1565" y="832"/>
                  </a:lnTo>
                  <a:lnTo>
                    <a:pt x="1507" y="887"/>
                  </a:lnTo>
                  <a:lnTo>
                    <a:pt x="1450" y="942"/>
                  </a:lnTo>
                  <a:lnTo>
                    <a:pt x="1395" y="999"/>
                  </a:lnTo>
                  <a:lnTo>
                    <a:pt x="1340" y="1055"/>
                  </a:lnTo>
                  <a:lnTo>
                    <a:pt x="1287" y="1112"/>
                  </a:lnTo>
                  <a:lnTo>
                    <a:pt x="1234" y="1168"/>
                  </a:lnTo>
                  <a:lnTo>
                    <a:pt x="1184" y="1226"/>
                  </a:lnTo>
                  <a:lnTo>
                    <a:pt x="1133" y="1282"/>
                  </a:lnTo>
                  <a:lnTo>
                    <a:pt x="1083" y="1340"/>
                  </a:lnTo>
                  <a:lnTo>
                    <a:pt x="1034" y="1397"/>
                  </a:lnTo>
                  <a:lnTo>
                    <a:pt x="988" y="1455"/>
                  </a:lnTo>
                  <a:lnTo>
                    <a:pt x="941" y="1512"/>
                  </a:lnTo>
                  <a:lnTo>
                    <a:pt x="897" y="1570"/>
                  </a:lnTo>
                  <a:lnTo>
                    <a:pt x="852" y="1627"/>
                  </a:lnTo>
                  <a:lnTo>
                    <a:pt x="809" y="1685"/>
                  </a:lnTo>
                  <a:lnTo>
                    <a:pt x="768" y="1742"/>
                  </a:lnTo>
                  <a:lnTo>
                    <a:pt x="727" y="1800"/>
                  </a:lnTo>
                  <a:lnTo>
                    <a:pt x="687" y="1856"/>
                  </a:lnTo>
                  <a:lnTo>
                    <a:pt x="649" y="1914"/>
                  </a:lnTo>
                  <a:lnTo>
                    <a:pt x="612" y="1970"/>
                  </a:lnTo>
                  <a:lnTo>
                    <a:pt x="576" y="2027"/>
                  </a:lnTo>
                  <a:lnTo>
                    <a:pt x="541" y="2082"/>
                  </a:lnTo>
                  <a:lnTo>
                    <a:pt x="508" y="2137"/>
                  </a:lnTo>
                  <a:lnTo>
                    <a:pt x="475" y="2193"/>
                  </a:lnTo>
                  <a:lnTo>
                    <a:pt x="445" y="2247"/>
                  </a:lnTo>
                  <a:lnTo>
                    <a:pt x="415" y="2302"/>
                  </a:lnTo>
                  <a:lnTo>
                    <a:pt x="386" y="2356"/>
                  </a:lnTo>
                  <a:lnTo>
                    <a:pt x="359" y="2408"/>
                  </a:lnTo>
                  <a:close/>
                  <a:moveTo>
                    <a:pt x="1774" y="1804"/>
                  </a:moveTo>
                  <a:lnTo>
                    <a:pt x="2144" y="2489"/>
                  </a:lnTo>
                  <a:lnTo>
                    <a:pt x="2124" y="2510"/>
                  </a:lnTo>
                  <a:lnTo>
                    <a:pt x="2102" y="2530"/>
                  </a:lnTo>
                  <a:lnTo>
                    <a:pt x="2080" y="2549"/>
                  </a:lnTo>
                  <a:lnTo>
                    <a:pt x="2059" y="2568"/>
                  </a:lnTo>
                  <a:lnTo>
                    <a:pt x="2036" y="2587"/>
                  </a:lnTo>
                  <a:lnTo>
                    <a:pt x="2014" y="2605"/>
                  </a:lnTo>
                  <a:lnTo>
                    <a:pt x="1990" y="2623"/>
                  </a:lnTo>
                  <a:lnTo>
                    <a:pt x="1966" y="2639"/>
                  </a:lnTo>
                  <a:lnTo>
                    <a:pt x="1942" y="2655"/>
                  </a:lnTo>
                  <a:lnTo>
                    <a:pt x="1917" y="2671"/>
                  </a:lnTo>
                  <a:lnTo>
                    <a:pt x="1892" y="2686"/>
                  </a:lnTo>
                  <a:lnTo>
                    <a:pt x="1866" y="2701"/>
                  </a:lnTo>
                  <a:lnTo>
                    <a:pt x="1840" y="2715"/>
                  </a:lnTo>
                  <a:lnTo>
                    <a:pt x="1814" y="2728"/>
                  </a:lnTo>
                  <a:lnTo>
                    <a:pt x="1787" y="2741"/>
                  </a:lnTo>
                  <a:lnTo>
                    <a:pt x="1760" y="2752"/>
                  </a:lnTo>
                  <a:lnTo>
                    <a:pt x="1733" y="2764"/>
                  </a:lnTo>
                  <a:lnTo>
                    <a:pt x="1705" y="2774"/>
                  </a:lnTo>
                  <a:lnTo>
                    <a:pt x="1678" y="2785"/>
                  </a:lnTo>
                  <a:lnTo>
                    <a:pt x="1649" y="2794"/>
                  </a:lnTo>
                  <a:lnTo>
                    <a:pt x="1621" y="2803"/>
                  </a:lnTo>
                  <a:lnTo>
                    <a:pt x="1591" y="2811"/>
                  </a:lnTo>
                  <a:lnTo>
                    <a:pt x="1563" y="2818"/>
                  </a:lnTo>
                  <a:lnTo>
                    <a:pt x="1533" y="2825"/>
                  </a:lnTo>
                  <a:lnTo>
                    <a:pt x="1503" y="2831"/>
                  </a:lnTo>
                  <a:lnTo>
                    <a:pt x="1473" y="2835"/>
                  </a:lnTo>
                  <a:lnTo>
                    <a:pt x="1443" y="2840"/>
                  </a:lnTo>
                  <a:lnTo>
                    <a:pt x="1412" y="2843"/>
                  </a:lnTo>
                  <a:lnTo>
                    <a:pt x="1382" y="2846"/>
                  </a:lnTo>
                  <a:lnTo>
                    <a:pt x="1350" y="2849"/>
                  </a:lnTo>
                  <a:lnTo>
                    <a:pt x="1319" y="2850"/>
                  </a:lnTo>
                  <a:lnTo>
                    <a:pt x="1287" y="2850"/>
                  </a:lnTo>
                  <a:lnTo>
                    <a:pt x="1262" y="2850"/>
                  </a:lnTo>
                  <a:lnTo>
                    <a:pt x="1236" y="2849"/>
                  </a:lnTo>
                  <a:lnTo>
                    <a:pt x="1211" y="2848"/>
                  </a:lnTo>
                  <a:lnTo>
                    <a:pt x="1187" y="2845"/>
                  </a:lnTo>
                  <a:lnTo>
                    <a:pt x="1137" y="2840"/>
                  </a:lnTo>
                  <a:lnTo>
                    <a:pt x="1088" y="2833"/>
                  </a:lnTo>
                  <a:lnTo>
                    <a:pt x="1064" y="2829"/>
                  </a:lnTo>
                  <a:lnTo>
                    <a:pt x="1040" y="2825"/>
                  </a:lnTo>
                  <a:lnTo>
                    <a:pt x="1015" y="2818"/>
                  </a:lnTo>
                  <a:lnTo>
                    <a:pt x="992" y="2813"/>
                  </a:lnTo>
                  <a:lnTo>
                    <a:pt x="945" y="2800"/>
                  </a:lnTo>
                  <a:lnTo>
                    <a:pt x="899" y="2785"/>
                  </a:lnTo>
                  <a:lnTo>
                    <a:pt x="854" y="2769"/>
                  </a:lnTo>
                  <a:lnTo>
                    <a:pt x="810" y="2750"/>
                  </a:lnTo>
                  <a:lnTo>
                    <a:pt x="766" y="2730"/>
                  </a:lnTo>
                  <a:lnTo>
                    <a:pt x="724" y="2708"/>
                  </a:lnTo>
                  <a:lnTo>
                    <a:pt x="683" y="2685"/>
                  </a:lnTo>
                  <a:lnTo>
                    <a:pt x="643" y="2660"/>
                  </a:lnTo>
                  <a:lnTo>
                    <a:pt x="602" y="2634"/>
                  </a:lnTo>
                  <a:lnTo>
                    <a:pt x="564" y="2607"/>
                  </a:lnTo>
                  <a:lnTo>
                    <a:pt x="586" y="2558"/>
                  </a:lnTo>
                  <a:lnTo>
                    <a:pt x="609" y="2508"/>
                  </a:lnTo>
                  <a:lnTo>
                    <a:pt x="633" y="2456"/>
                  </a:lnTo>
                  <a:lnTo>
                    <a:pt x="658" y="2404"/>
                  </a:lnTo>
                  <a:lnTo>
                    <a:pt x="686" y="2352"/>
                  </a:lnTo>
                  <a:lnTo>
                    <a:pt x="715" y="2297"/>
                  </a:lnTo>
                  <a:lnTo>
                    <a:pt x="745" y="2242"/>
                  </a:lnTo>
                  <a:lnTo>
                    <a:pt x="777" y="2187"/>
                  </a:lnTo>
                  <a:lnTo>
                    <a:pt x="810" y="2130"/>
                  </a:lnTo>
                  <a:lnTo>
                    <a:pt x="845" y="2073"/>
                  </a:lnTo>
                  <a:lnTo>
                    <a:pt x="881" y="2014"/>
                  </a:lnTo>
                  <a:lnTo>
                    <a:pt x="918" y="1956"/>
                  </a:lnTo>
                  <a:lnTo>
                    <a:pt x="956" y="1896"/>
                  </a:lnTo>
                  <a:lnTo>
                    <a:pt x="996" y="1835"/>
                  </a:lnTo>
                  <a:lnTo>
                    <a:pt x="1037" y="1775"/>
                  </a:lnTo>
                  <a:lnTo>
                    <a:pt x="1081" y="1713"/>
                  </a:lnTo>
                  <a:lnTo>
                    <a:pt x="1124" y="1651"/>
                  </a:lnTo>
                  <a:lnTo>
                    <a:pt x="1170" y="1588"/>
                  </a:lnTo>
                  <a:lnTo>
                    <a:pt x="1216" y="1526"/>
                  </a:lnTo>
                  <a:lnTo>
                    <a:pt x="1264" y="1463"/>
                  </a:lnTo>
                  <a:lnTo>
                    <a:pt x="1314" y="1399"/>
                  </a:lnTo>
                  <a:lnTo>
                    <a:pt x="1364" y="1335"/>
                  </a:lnTo>
                  <a:lnTo>
                    <a:pt x="1415" y="1271"/>
                  </a:lnTo>
                  <a:lnTo>
                    <a:pt x="1468" y="1207"/>
                  </a:lnTo>
                  <a:lnTo>
                    <a:pt x="1522" y="1142"/>
                  </a:lnTo>
                  <a:lnTo>
                    <a:pt x="1577" y="1077"/>
                  </a:lnTo>
                  <a:lnTo>
                    <a:pt x="1633" y="1012"/>
                  </a:lnTo>
                  <a:lnTo>
                    <a:pt x="1692" y="947"/>
                  </a:lnTo>
                  <a:lnTo>
                    <a:pt x="1750" y="882"/>
                  </a:lnTo>
                  <a:lnTo>
                    <a:pt x="1809" y="817"/>
                  </a:lnTo>
                  <a:lnTo>
                    <a:pt x="1871" y="752"/>
                  </a:lnTo>
                  <a:lnTo>
                    <a:pt x="1932" y="687"/>
                  </a:lnTo>
                  <a:lnTo>
                    <a:pt x="1963" y="707"/>
                  </a:lnTo>
                  <a:lnTo>
                    <a:pt x="1992" y="728"/>
                  </a:lnTo>
                  <a:lnTo>
                    <a:pt x="2022" y="750"/>
                  </a:lnTo>
                  <a:lnTo>
                    <a:pt x="2049" y="773"/>
                  </a:lnTo>
                  <a:lnTo>
                    <a:pt x="2077" y="796"/>
                  </a:lnTo>
                  <a:lnTo>
                    <a:pt x="2105" y="820"/>
                  </a:lnTo>
                  <a:lnTo>
                    <a:pt x="2130" y="845"/>
                  </a:lnTo>
                  <a:lnTo>
                    <a:pt x="2155" y="871"/>
                  </a:lnTo>
                  <a:lnTo>
                    <a:pt x="2181" y="898"/>
                  </a:lnTo>
                  <a:lnTo>
                    <a:pt x="2204" y="925"/>
                  </a:lnTo>
                  <a:lnTo>
                    <a:pt x="2227" y="954"/>
                  </a:lnTo>
                  <a:lnTo>
                    <a:pt x="2249" y="982"/>
                  </a:lnTo>
                  <a:lnTo>
                    <a:pt x="2270" y="1011"/>
                  </a:lnTo>
                  <a:lnTo>
                    <a:pt x="2290" y="1042"/>
                  </a:lnTo>
                  <a:lnTo>
                    <a:pt x="2310" y="1072"/>
                  </a:lnTo>
                  <a:lnTo>
                    <a:pt x="2328" y="1103"/>
                  </a:lnTo>
                  <a:lnTo>
                    <a:pt x="2345" y="1136"/>
                  </a:lnTo>
                  <a:lnTo>
                    <a:pt x="2362" y="1168"/>
                  </a:lnTo>
                  <a:lnTo>
                    <a:pt x="2377" y="1202"/>
                  </a:lnTo>
                  <a:lnTo>
                    <a:pt x="2391" y="1235"/>
                  </a:lnTo>
                  <a:lnTo>
                    <a:pt x="2405" y="1270"/>
                  </a:lnTo>
                  <a:lnTo>
                    <a:pt x="2417" y="1304"/>
                  </a:lnTo>
                  <a:lnTo>
                    <a:pt x="2428" y="1339"/>
                  </a:lnTo>
                  <a:lnTo>
                    <a:pt x="2438" y="1374"/>
                  </a:lnTo>
                  <a:lnTo>
                    <a:pt x="2448" y="1411"/>
                  </a:lnTo>
                  <a:lnTo>
                    <a:pt x="2455" y="1447"/>
                  </a:lnTo>
                  <a:lnTo>
                    <a:pt x="2462" y="1484"/>
                  </a:lnTo>
                  <a:lnTo>
                    <a:pt x="2468" y="1522"/>
                  </a:lnTo>
                  <a:lnTo>
                    <a:pt x="2472" y="1559"/>
                  </a:lnTo>
                  <a:lnTo>
                    <a:pt x="2475" y="1597"/>
                  </a:lnTo>
                  <a:lnTo>
                    <a:pt x="2477" y="1636"/>
                  </a:lnTo>
                  <a:lnTo>
                    <a:pt x="2477" y="1674"/>
                  </a:lnTo>
                  <a:lnTo>
                    <a:pt x="2477" y="1708"/>
                  </a:lnTo>
                  <a:lnTo>
                    <a:pt x="2476" y="1740"/>
                  </a:lnTo>
                  <a:lnTo>
                    <a:pt x="2473" y="1774"/>
                  </a:lnTo>
                  <a:lnTo>
                    <a:pt x="2470" y="1806"/>
                  </a:lnTo>
                  <a:lnTo>
                    <a:pt x="2466" y="1838"/>
                  </a:lnTo>
                  <a:lnTo>
                    <a:pt x="2460" y="1871"/>
                  </a:lnTo>
                  <a:lnTo>
                    <a:pt x="2455" y="1902"/>
                  </a:lnTo>
                  <a:lnTo>
                    <a:pt x="2448" y="1934"/>
                  </a:lnTo>
                  <a:lnTo>
                    <a:pt x="2440" y="1965"/>
                  </a:lnTo>
                  <a:lnTo>
                    <a:pt x="2432" y="1995"/>
                  </a:lnTo>
                  <a:lnTo>
                    <a:pt x="2422" y="2026"/>
                  </a:lnTo>
                  <a:lnTo>
                    <a:pt x="2413" y="2056"/>
                  </a:lnTo>
                  <a:lnTo>
                    <a:pt x="2401" y="2086"/>
                  </a:lnTo>
                  <a:lnTo>
                    <a:pt x="2389" y="2116"/>
                  </a:lnTo>
                  <a:lnTo>
                    <a:pt x="2378" y="2144"/>
                  </a:lnTo>
                  <a:lnTo>
                    <a:pt x="2364" y="2173"/>
                  </a:lnTo>
                  <a:lnTo>
                    <a:pt x="2324" y="2155"/>
                  </a:lnTo>
                  <a:lnTo>
                    <a:pt x="2283" y="2136"/>
                  </a:lnTo>
                  <a:lnTo>
                    <a:pt x="2243" y="2118"/>
                  </a:lnTo>
                  <a:lnTo>
                    <a:pt x="2204" y="2098"/>
                  </a:lnTo>
                  <a:lnTo>
                    <a:pt x="2165" y="2077"/>
                  </a:lnTo>
                  <a:lnTo>
                    <a:pt x="2127" y="2056"/>
                  </a:lnTo>
                  <a:lnTo>
                    <a:pt x="2089" y="2034"/>
                  </a:lnTo>
                  <a:lnTo>
                    <a:pt x="2052" y="2011"/>
                  </a:lnTo>
                  <a:lnTo>
                    <a:pt x="2015" y="1988"/>
                  </a:lnTo>
                  <a:lnTo>
                    <a:pt x="1979" y="1964"/>
                  </a:lnTo>
                  <a:lnTo>
                    <a:pt x="1943" y="1940"/>
                  </a:lnTo>
                  <a:lnTo>
                    <a:pt x="1908" y="1914"/>
                  </a:lnTo>
                  <a:lnTo>
                    <a:pt x="1873" y="1888"/>
                  </a:lnTo>
                  <a:lnTo>
                    <a:pt x="1839" y="1860"/>
                  </a:lnTo>
                  <a:lnTo>
                    <a:pt x="1806" y="1833"/>
                  </a:lnTo>
                  <a:lnTo>
                    <a:pt x="1774" y="1804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48320" y="5957280"/>
              <a:ext cx="223560" cy="144360"/>
            </a:xfrm>
            <a:custGeom>
              <a:avLst/>
              <a:gdLst/>
              <a:ahLst/>
              <a:rect l="l" t="t" r="r" b="b"/>
              <a:pathLst>
                <a:path w="2463" h="1315">
                  <a:moveTo>
                    <a:pt x="1862" y="786"/>
                  </a:moveTo>
                  <a:lnTo>
                    <a:pt x="2073" y="511"/>
                  </a:lnTo>
                  <a:lnTo>
                    <a:pt x="1342" y="511"/>
                  </a:lnTo>
                  <a:lnTo>
                    <a:pt x="1522" y="275"/>
                  </a:lnTo>
                  <a:lnTo>
                    <a:pt x="2253" y="275"/>
                  </a:lnTo>
                  <a:lnTo>
                    <a:pt x="2463" y="0"/>
                  </a:lnTo>
                  <a:lnTo>
                    <a:pt x="1004" y="0"/>
                  </a:lnTo>
                  <a:lnTo>
                    <a:pt x="0" y="1315"/>
                  </a:lnTo>
                  <a:lnTo>
                    <a:pt x="1459" y="1315"/>
                  </a:lnTo>
                  <a:lnTo>
                    <a:pt x="1669" y="1040"/>
                  </a:lnTo>
                  <a:lnTo>
                    <a:pt x="938" y="1040"/>
                  </a:lnTo>
                  <a:lnTo>
                    <a:pt x="1132" y="786"/>
                  </a:lnTo>
                  <a:lnTo>
                    <a:pt x="1862" y="786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18240" y="5957280"/>
              <a:ext cx="156600" cy="144360"/>
            </a:xfrm>
            <a:custGeom>
              <a:avLst/>
              <a:gdLst/>
              <a:ahLst/>
              <a:rect l="l" t="t" r="r" b="b"/>
              <a:pathLst>
                <a:path w="1733" h="1315">
                  <a:moveTo>
                    <a:pt x="1005" y="0"/>
                  </a:moveTo>
                  <a:lnTo>
                    <a:pt x="0" y="1315"/>
                  </a:lnTo>
                  <a:lnTo>
                    <a:pt x="728" y="1315"/>
                  </a:lnTo>
                  <a:lnTo>
                    <a:pt x="1733" y="0"/>
                  </a:lnTo>
                  <a:lnTo>
                    <a:pt x="1005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26240" y="5957280"/>
              <a:ext cx="246600" cy="144360"/>
            </a:xfrm>
            <a:custGeom>
              <a:avLst/>
              <a:gdLst/>
              <a:ahLst/>
              <a:rect l="l" t="t" r="r" b="b"/>
              <a:pathLst>
                <a:path w="2721" h="1315">
                  <a:moveTo>
                    <a:pt x="2238" y="0"/>
                  </a:moveTo>
                  <a:lnTo>
                    <a:pt x="1730" y="667"/>
                  </a:lnTo>
                  <a:lnTo>
                    <a:pt x="1573" y="0"/>
                  </a:lnTo>
                  <a:lnTo>
                    <a:pt x="1005" y="0"/>
                  </a:lnTo>
                  <a:lnTo>
                    <a:pt x="0" y="1315"/>
                  </a:lnTo>
                  <a:lnTo>
                    <a:pt x="483" y="1315"/>
                  </a:lnTo>
                  <a:lnTo>
                    <a:pt x="987" y="654"/>
                  </a:lnTo>
                  <a:lnTo>
                    <a:pt x="1141" y="1315"/>
                  </a:lnTo>
                  <a:lnTo>
                    <a:pt x="1716" y="1315"/>
                  </a:lnTo>
                  <a:lnTo>
                    <a:pt x="2721" y="0"/>
                  </a:lnTo>
                  <a:lnTo>
                    <a:pt x="2238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36840" y="5957280"/>
              <a:ext cx="225000" cy="144360"/>
            </a:xfrm>
            <a:custGeom>
              <a:avLst/>
              <a:gdLst/>
              <a:ahLst/>
              <a:rect l="l" t="t" r="r" b="b"/>
              <a:pathLst>
                <a:path w="2480" h="1315">
                  <a:moveTo>
                    <a:pt x="2302" y="0"/>
                  </a:moveTo>
                  <a:lnTo>
                    <a:pt x="1131" y="0"/>
                  </a:lnTo>
                  <a:lnTo>
                    <a:pt x="1112" y="0"/>
                  </a:lnTo>
                  <a:lnTo>
                    <a:pt x="1094" y="1"/>
                  </a:lnTo>
                  <a:lnTo>
                    <a:pt x="1075" y="2"/>
                  </a:lnTo>
                  <a:lnTo>
                    <a:pt x="1057" y="4"/>
                  </a:lnTo>
                  <a:lnTo>
                    <a:pt x="1021" y="9"/>
                  </a:lnTo>
                  <a:lnTo>
                    <a:pt x="986" y="16"/>
                  </a:lnTo>
                  <a:lnTo>
                    <a:pt x="951" y="26"/>
                  </a:lnTo>
                  <a:lnTo>
                    <a:pt x="917" y="37"/>
                  </a:lnTo>
                  <a:lnTo>
                    <a:pt x="884" y="51"/>
                  </a:lnTo>
                  <a:lnTo>
                    <a:pt x="853" y="66"/>
                  </a:lnTo>
                  <a:lnTo>
                    <a:pt x="822" y="82"/>
                  </a:lnTo>
                  <a:lnTo>
                    <a:pt x="792" y="100"/>
                  </a:lnTo>
                  <a:lnTo>
                    <a:pt x="764" y="120"/>
                  </a:lnTo>
                  <a:lnTo>
                    <a:pt x="736" y="142"/>
                  </a:lnTo>
                  <a:lnTo>
                    <a:pt x="711" y="165"/>
                  </a:lnTo>
                  <a:lnTo>
                    <a:pt x="685" y="189"/>
                  </a:lnTo>
                  <a:lnTo>
                    <a:pt x="662" y="214"/>
                  </a:lnTo>
                  <a:lnTo>
                    <a:pt x="641" y="241"/>
                  </a:lnTo>
                  <a:lnTo>
                    <a:pt x="36" y="1033"/>
                  </a:lnTo>
                  <a:lnTo>
                    <a:pt x="28" y="1044"/>
                  </a:lnTo>
                  <a:lnTo>
                    <a:pt x="22" y="1057"/>
                  </a:lnTo>
                  <a:lnTo>
                    <a:pt x="15" y="1070"/>
                  </a:lnTo>
                  <a:lnTo>
                    <a:pt x="10" y="1082"/>
                  </a:lnTo>
                  <a:lnTo>
                    <a:pt x="6" y="1096"/>
                  </a:lnTo>
                  <a:lnTo>
                    <a:pt x="2" y="1110"/>
                  </a:lnTo>
                  <a:lnTo>
                    <a:pt x="1" y="1125"/>
                  </a:lnTo>
                  <a:lnTo>
                    <a:pt x="0" y="1140"/>
                  </a:lnTo>
                  <a:lnTo>
                    <a:pt x="1" y="1157"/>
                  </a:lnTo>
                  <a:lnTo>
                    <a:pt x="4" y="1175"/>
                  </a:lnTo>
                  <a:lnTo>
                    <a:pt x="9" y="1192"/>
                  </a:lnTo>
                  <a:lnTo>
                    <a:pt x="14" y="1208"/>
                  </a:lnTo>
                  <a:lnTo>
                    <a:pt x="22" y="1223"/>
                  </a:lnTo>
                  <a:lnTo>
                    <a:pt x="31" y="1238"/>
                  </a:lnTo>
                  <a:lnTo>
                    <a:pt x="42" y="1251"/>
                  </a:lnTo>
                  <a:lnTo>
                    <a:pt x="52" y="1264"/>
                  </a:lnTo>
                  <a:lnTo>
                    <a:pt x="65" y="1276"/>
                  </a:lnTo>
                  <a:lnTo>
                    <a:pt x="79" y="1285"/>
                  </a:lnTo>
                  <a:lnTo>
                    <a:pt x="94" y="1294"/>
                  </a:lnTo>
                  <a:lnTo>
                    <a:pt x="109" y="1302"/>
                  </a:lnTo>
                  <a:lnTo>
                    <a:pt x="125" y="1308"/>
                  </a:lnTo>
                  <a:lnTo>
                    <a:pt x="142" y="1312"/>
                  </a:lnTo>
                  <a:lnTo>
                    <a:pt x="160" y="1314"/>
                  </a:lnTo>
                  <a:lnTo>
                    <a:pt x="179" y="1315"/>
                  </a:lnTo>
                  <a:lnTo>
                    <a:pt x="1349" y="1315"/>
                  </a:lnTo>
                  <a:lnTo>
                    <a:pt x="1368" y="1315"/>
                  </a:lnTo>
                  <a:lnTo>
                    <a:pt x="1386" y="1314"/>
                  </a:lnTo>
                  <a:lnTo>
                    <a:pt x="1405" y="1313"/>
                  </a:lnTo>
                  <a:lnTo>
                    <a:pt x="1423" y="1311"/>
                  </a:lnTo>
                  <a:lnTo>
                    <a:pt x="1441" y="1309"/>
                  </a:lnTo>
                  <a:lnTo>
                    <a:pt x="1459" y="1306"/>
                  </a:lnTo>
                  <a:lnTo>
                    <a:pt x="1477" y="1303"/>
                  </a:lnTo>
                  <a:lnTo>
                    <a:pt x="1494" y="1299"/>
                  </a:lnTo>
                  <a:lnTo>
                    <a:pt x="1529" y="1289"/>
                  </a:lnTo>
                  <a:lnTo>
                    <a:pt x="1563" y="1278"/>
                  </a:lnTo>
                  <a:lnTo>
                    <a:pt x="1596" y="1265"/>
                  </a:lnTo>
                  <a:lnTo>
                    <a:pt x="1627" y="1249"/>
                  </a:lnTo>
                  <a:lnTo>
                    <a:pt x="1658" y="1234"/>
                  </a:lnTo>
                  <a:lnTo>
                    <a:pt x="1688" y="1215"/>
                  </a:lnTo>
                  <a:lnTo>
                    <a:pt x="1716" y="1195"/>
                  </a:lnTo>
                  <a:lnTo>
                    <a:pt x="1744" y="1174"/>
                  </a:lnTo>
                  <a:lnTo>
                    <a:pt x="1769" y="1151"/>
                  </a:lnTo>
                  <a:lnTo>
                    <a:pt x="1795" y="1127"/>
                  </a:lnTo>
                  <a:lnTo>
                    <a:pt x="1818" y="1101"/>
                  </a:lnTo>
                  <a:lnTo>
                    <a:pt x="1839" y="1074"/>
                  </a:lnTo>
                  <a:lnTo>
                    <a:pt x="1985" y="883"/>
                  </a:lnTo>
                  <a:lnTo>
                    <a:pt x="2154" y="883"/>
                  </a:lnTo>
                  <a:lnTo>
                    <a:pt x="2365" y="606"/>
                  </a:lnTo>
                  <a:lnTo>
                    <a:pt x="1469" y="606"/>
                  </a:lnTo>
                  <a:lnTo>
                    <a:pt x="1186" y="978"/>
                  </a:lnTo>
                  <a:lnTo>
                    <a:pt x="1174" y="991"/>
                  </a:lnTo>
                  <a:lnTo>
                    <a:pt x="1161" y="1004"/>
                  </a:lnTo>
                  <a:lnTo>
                    <a:pt x="1146" y="1014"/>
                  </a:lnTo>
                  <a:lnTo>
                    <a:pt x="1131" y="1024"/>
                  </a:lnTo>
                  <a:lnTo>
                    <a:pt x="1123" y="1027"/>
                  </a:lnTo>
                  <a:lnTo>
                    <a:pt x="1114" y="1031"/>
                  </a:lnTo>
                  <a:lnTo>
                    <a:pt x="1106" y="1033"/>
                  </a:lnTo>
                  <a:lnTo>
                    <a:pt x="1096" y="1036"/>
                  </a:lnTo>
                  <a:lnTo>
                    <a:pt x="1087" y="1038"/>
                  </a:lnTo>
                  <a:lnTo>
                    <a:pt x="1078" y="1039"/>
                  </a:lnTo>
                  <a:lnTo>
                    <a:pt x="1069" y="1040"/>
                  </a:lnTo>
                  <a:lnTo>
                    <a:pt x="1059" y="1040"/>
                  </a:lnTo>
                  <a:lnTo>
                    <a:pt x="853" y="1040"/>
                  </a:lnTo>
                  <a:lnTo>
                    <a:pt x="843" y="1039"/>
                  </a:lnTo>
                  <a:lnTo>
                    <a:pt x="835" y="1036"/>
                  </a:lnTo>
                  <a:lnTo>
                    <a:pt x="826" y="1032"/>
                  </a:lnTo>
                  <a:lnTo>
                    <a:pt x="820" y="1027"/>
                  </a:lnTo>
                  <a:lnTo>
                    <a:pt x="813" y="1020"/>
                  </a:lnTo>
                  <a:lnTo>
                    <a:pt x="809" y="1012"/>
                  </a:lnTo>
                  <a:lnTo>
                    <a:pt x="807" y="1004"/>
                  </a:lnTo>
                  <a:lnTo>
                    <a:pt x="806" y="994"/>
                  </a:lnTo>
                  <a:lnTo>
                    <a:pt x="806" y="991"/>
                  </a:lnTo>
                  <a:lnTo>
                    <a:pt x="807" y="987"/>
                  </a:lnTo>
                  <a:lnTo>
                    <a:pt x="807" y="983"/>
                  </a:lnTo>
                  <a:lnTo>
                    <a:pt x="808" y="980"/>
                  </a:lnTo>
                  <a:lnTo>
                    <a:pt x="810" y="976"/>
                  </a:lnTo>
                  <a:lnTo>
                    <a:pt x="811" y="973"/>
                  </a:lnTo>
                  <a:lnTo>
                    <a:pt x="813" y="970"/>
                  </a:lnTo>
                  <a:lnTo>
                    <a:pt x="816" y="967"/>
                  </a:lnTo>
                  <a:lnTo>
                    <a:pt x="1295" y="338"/>
                  </a:lnTo>
                  <a:lnTo>
                    <a:pt x="1307" y="324"/>
                  </a:lnTo>
                  <a:lnTo>
                    <a:pt x="1320" y="311"/>
                  </a:lnTo>
                  <a:lnTo>
                    <a:pt x="1334" y="301"/>
                  </a:lnTo>
                  <a:lnTo>
                    <a:pt x="1350" y="293"/>
                  </a:lnTo>
                  <a:lnTo>
                    <a:pt x="1367" y="285"/>
                  </a:lnTo>
                  <a:lnTo>
                    <a:pt x="1385" y="279"/>
                  </a:lnTo>
                  <a:lnTo>
                    <a:pt x="1394" y="278"/>
                  </a:lnTo>
                  <a:lnTo>
                    <a:pt x="1403" y="276"/>
                  </a:lnTo>
                  <a:lnTo>
                    <a:pt x="1413" y="275"/>
                  </a:lnTo>
                  <a:lnTo>
                    <a:pt x="1422" y="275"/>
                  </a:lnTo>
                  <a:lnTo>
                    <a:pt x="1629" y="275"/>
                  </a:lnTo>
                  <a:lnTo>
                    <a:pt x="1638" y="276"/>
                  </a:lnTo>
                  <a:lnTo>
                    <a:pt x="1647" y="279"/>
                  </a:lnTo>
                  <a:lnTo>
                    <a:pt x="1655" y="283"/>
                  </a:lnTo>
                  <a:lnTo>
                    <a:pt x="1661" y="288"/>
                  </a:lnTo>
                  <a:lnTo>
                    <a:pt x="1667" y="296"/>
                  </a:lnTo>
                  <a:lnTo>
                    <a:pt x="1671" y="303"/>
                  </a:lnTo>
                  <a:lnTo>
                    <a:pt x="1674" y="311"/>
                  </a:lnTo>
                  <a:lnTo>
                    <a:pt x="1675" y="321"/>
                  </a:lnTo>
                  <a:lnTo>
                    <a:pt x="1675" y="325"/>
                  </a:lnTo>
                  <a:lnTo>
                    <a:pt x="1674" y="328"/>
                  </a:lnTo>
                  <a:lnTo>
                    <a:pt x="1674" y="332"/>
                  </a:lnTo>
                  <a:lnTo>
                    <a:pt x="1673" y="335"/>
                  </a:lnTo>
                  <a:lnTo>
                    <a:pt x="1671" y="339"/>
                  </a:lnTo>
                  <a:lnTo>
                    <a:pt x="1670" y="342"/>
                  </a:lnTo>
                  <a:lnTo>
                    <a:pt x="1668" y="345"/>
                  </a:lnTo>
                  <a:lnTo>
                    <a:pt x="1666" y="348"/>
                  </a:lnTo>
                  <a:lnTo>
                    <a:pt x="1587" y="450"/>
                  </a:lnTo>
                  <a:lnTo>
                    <a:pt x="2316" y="450"/>
                  </a:lnTo>
                  <a:lnTo>
                    <a:pt x="2444" y="282"/>
                  </a:lnTo>
                  <a:lnTo>
                    <a:pt x="2452" y="271"/>
                  </a:lnTo>
                  <a:lnTo>
                    <a:pt x="2459" y="259"/>
                  </a:lnTo>
                  <a:lnTo>
                    <a:pt x="2465" y="247"/>
                  </a:lnTo>
                  <a:lnTo>
                    <a:pt x="2470" y="233"/>
                  </a:lnTo>
                  <a:lnTo>
                    <a:pt x="2474" y="219"/>
                  </a:lnTo>
                  <a:lnTo>
                    <a:pt x="2478" y="205"/>
                  </a:lnTo>
                  <a:lnTo>
                    <a:pt x="2479" y="191"/>
                  </a:lnTo>
                  <a:lnTo>
                    <a:pt x="2480" y="175"/>
                  </a:lnTo>
                  <a:lnTo>
                    <a:pt x="2479" y="158"/>
                  </a:lnTo>
                  <a:lnTo>
                    <a:pt x="2475" y="141"/>
                  </a:lnTo>
                  <a:lnTo>
                    <a:pt x="2471" y="123"/>
                  </a:lnTo>
                  <a:lnTo>
                    <a:pt x="2466" y="107"/>
                  </a:lnTo>
                  <a:lnTo>
                    <a:pt x="2457" y="92"/>
                  </a:lnTo>
                  <a:lnTo>
                    <a:pt x="2449" y="77"/>
                  </a:lnTo>
                  <a:lnTo>
                    <a:pt x="2438" y="64"/>
                  </a:lnTo>
                  <a:lnTo>
                    <a:pt x="2428" y="51"/>
                  </a:lnTo>
                  <a:lnTo>
                    <a:pt x="2415" y="41"/>
                  </a:lnTo>
                  <a:lnTo>
                    <a:pt x="2401" y="30"/>
                  </a:lnTo>
                  <a:lnTo>
                    <a:pt x="2387" y="21"/>
                  </a:lnTo>
                  <a:lnTo>
                    <a:pt x="2371" y="13"/>
                  </a:lnTo>
                  <a:lnTo>
                    <a:pt x="2355" y="8"/>
                  </a:lnTo>
                  <a:lnTo>
                    <a:pt x="2337" y="3"/>
                  </a:lnTo>
                  <a:lnTo>
                    <a:pt x="2320" y="1"/>
                  </a:lnTo>
                  <a:lnTo>
                    <a:pt x="2302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60400" y="5957280"/>
              <a:ext cx="223560" cy="144360"/>
            </a:xfrm>
            <a:custGeom>
              <a:avLst/>
              <a:gdLst/>
              <a:ahLst/>
              <a:rect l="l" t="t" r="r" b="b"/>
              <a:pathLst>
                <a:path w="2479" h="1315">
                  <a:moveTo>
                    <a:pt x="2479" y="175"/>
                  </a:moveTo>
                  <a:lnTo>
                    <a:pt x="2478" y="158"/>
                  </a:lnTo>
                  <a:lnTo>
                    <a:pt x="2475" y="141"/>
                  </a:lnTo>
                  <a:lnTo>
                    <a:pt x="2470" y="123"/>
                  </a:lnTo>
                  <a:lnTo>
                    <a:pt x="2465" y="107"/>
                  </a:lnTo>
                  <a:lnTo>
                    <a:pt x="2457" y="92"/>
                  </a:lnTo>
                  <a:lnTo>
                    <a:pt x="2448" y="77"/>
                  </a:lnTo>
                  <a:lnTo>
                    <a:pt x="2438" y="64"/>
                  </a:lnTo>
                  <a:lnTo>
                    <a:pt x="2426" y="51"/>
                  </a:lnTo>
                  <a:lnTo>
                    <a:pt x="2413" y="41"/>
                  </a:lnTo>
                  <a:lnTo>
                    <a:pt x="2401" y="30"/>
                  </a:lnTo>
                  <a:lnTo>
                    <a:pt x="2386" y="21"/>
                  </a:lnTo>
                  <a:lnTo>
                    <a:pt x="2370" y="13"/>
                  </a:lnTo>
                  <a:lnTo>
                    <a:pt x="2353" y="8"/>
                  </a:lnTo>
                  <a:lnTo>
                    <a:pt x="2336" y="3"/>
                  </a:lnTo>
                  <a:lnTo>
                    <a:pt x="2319" y="1"/>
                  </a:lnTo>
                  <a:lnTo>
                    <a:pt x="2300" y="0"/>
                  </a:lnTo>
                  <a:lnTo>
                    <a:pt x="1130" y="0"/>
                  </a:lnTo>
                  <a:lnTo>
                    <a:pt x="1111" y="0"/>
                  </a:lnTo>
                  <a:lnTo>
                    <a:pt x="1093" y="1"/>
                  </a:lnTo>
                  <a:lnTo>
                    <a:pt x="1074" y="2"/>
                  </a:lnTo>
                  <a:lnTo>
                    <a:pt x="1056" y="4"/>
                  </a:lnTo>
                  <a:lnTo>
                    <a:pt x="1020" y="9"/>
                  </a:lnTo>
                  <a:lnTo>
                    <a:pt x="985" y="16"/>
                  </a:lnTo>
                  <a:lnTo>
                    <a:pt x="950" y="26"/>
                  </a:lnTo>
                  <a:lnTo>
                    <a:pt x="916" y="37"/>
                  </a:lnTo>
                  <a:lnTo>
                    <a:pt x="883" y="51"/>
                  </a:lnTo>
                  <a:lnTo>
                    <a:pt x="852" y="66"/>
                  </a:lnTo>
                  <a:lnTo>
                    <a:pt x="821" y="82"/>
                  </a:lnTo>
                  <a:lnTo>
                    <a:pt x="791" y="100"/>
                  </a:lnTo>
                  <a:lnTo>
                    <a:pt x="763" y="120"/>
                  </a:lnTo>
                  <a:lnTo>
                    <a:pt x="735" y="142"/>
                  </a:lnTo>
                  <a:lnTo>
                    <a:pt x="710" y="165"/>
                  </a:lnTo>
                  <a:lnTo>
                    <a:pt x="684" y="189"/>
                  </a:lnTo>
                  <a:lnTo>
                    <a:pt x="661" y="214"/>
                  </a:lnTo>
                  <a:lnTo>
                    <a:pt x="640" y="241"/>
                  </a:lnTo>
                  <a:lnTo>
                    <a:pt x="36" y="1033"/>
                  </a:lnTo>
                  <a:lnTo>
                    <a:pt x="27" y="1044"/>
                  </a:lnTo>
                  <a:lnTo>
                    <a:pt x="21" y="1057"/>
                  </a:lnTo>
                  <a:lnTo>
                    <a:pt x="14" y="1070"/>
                  </a:lnTo>
                  <a:lnTo>
                    <a:pt x="9" y="1082"/>
                  </a:lnTo>
                  <a:lnTo>
                    <a:pt x="5" y="1097"/>
                  </a:lnTo>
                  <a:lnTo>
                    <a:pt x="2" y="1110"/>
                  </a:lnTo>
                  <a:lnTo>
                    <a:pt x="1" y="1125"/>
                  </a:lnTo>
                  <a:lnTo>
                    <a:pt x="0" y="1140"/>
                  </a:lnTo>
                  <a:lnTo>
                    <a:pt x="1" y="1157"/>
                  </a:lnTo>
                  <a:lnTo>
                    <a:pt x="4" y="1175"/>
                  </a:lnTo>
                  <a:lnTo>
                    <a:pt x="8" y="1192"/>
                  </a:lnTo>
                  <a:lnTo>
                    <a:pt x="13" y="1208"/>
                  </a:lnTo>
                  <a:lnTo>
                    <a:pt x="21" y="1223"/>
                  </a:lnTo>
                  <a:lnTo>
                    <a:pt x="30" y="1238"/>
                  </a:lnTo>
                  <a:lnTo>
                    <a:pt x="41" y="1251"/>
                  </a:lnTo>
                  <a:lnTo>
                    <a:pt x="52" y="1264"/>
                  </a:lnTo>
                  <a:lnTo>
                    <a:pt x="64" y="1276"/>
                  </a:lnTo>
                  <a:lnTo>
                    <a:pt x="78" y="1286"/>
                  </a:lnTo>
                  <a:lnTo>
                    <a:pt x="93" y="1294"/>
                  </a:lnTo>
                  <a:lnTo>
                    <a:pt x="109" y="1302"/>
                  </a:lnTo>
                  <a:lnTo>
                    <a:pt x="124" y="1308"/>
                  </a:lnTo>
                  <a:lnTo>
                    <a:pt x="142" y="1312"/>
                  </a:lnTo>
                  <a:lnTo>
                    <a:pt x="159" y="1314"/>
                  </a:lnTo>
                  <a:lnTo>
                    <a:pt x="178" y="1315"/>
                  </a:lnTo>
                  <a:lnTo>
                    <a:pt x="1348" y="1315"/>
                  </a:lnTo>
                  <a:lnTo>
                    <a:pt x="1367" y="1315"/>
                  </a:lnTo>
                  <a:lnTo>
                    <a:pt x="1385" y="1314"/>
                  </a:lnTo>
                  <a:lnTo>
                    <a:pt x="1403" y="1313"/>
                  </a:lnTo>
                  <a:lnTo>
                    <a:pt x="1422" y="1311"/>
                  </a:lnTo>
                  <a:lnTo>
                    <a:pt x="1440" y="1309"/>
                  </a:lnTo>
                  <a:lnTo>
                    <a:pt x="1458" y="1306"/>
                  </a:lnTo>
                  <a:lnTo>
                    <a:pt x="1476" y="1303"/>
                  </a:lnTo>
                  <a:lnTo>
                    <a:pt x="1493" y="1299"/>
                  </a:lnTo>
                  <a:lnTo>
                    <a:pt x="1528" y="1289"/>
                  </a:lnTo>
                  <a:lnTo>
                    <a:pt x="1562" y="1278"/>
                  </a:lnTo>
                  <a:lnTo>
                    <a:pt x="1595" y="1265"/>
                  </a:lnTo>
                  <a:lnTo>
                    <a:pt x="1627" y="1249"/>
                  </a:lnTo>
                  <a:lnTo>
                    <a:pt x="1657" y="1234"/>
                  </a:lnTo>
                  <a:lnTo>
                    <a:pt x="1687" y="1215"/>
                  </a:lnTo>
                  <a:lnTo>
                    <a:pt x="1716" y="1195"/>
                  </a:lnTo>
                  <a:lnTo>
                    <a:pt x="1743" y="1174"/>
                  </a:lnTo>
                  <a:lnTo>
                    <a:pt x="1769" y="1151"/>
                  </a:lnTo>
                  <a:lnTo>
                    <a:pt x="1794" y="1127"/>
                  </a:lnTo>
                  <a:lnTo>
                    <a:pt x="1817" y="1101"/>
                  </a:lnTo>
                  <a:lnTo>
                    <a:pt x="1838" y="1074"/>
                  </a:lnTo>
                  <a:lnTo>
                    <a:pt x="2443" y="282"/>
                  </a:lnTo>
                  <a:lnTo>
                    <a:pt x="2451" y="271"/>
                  </a:lnTo>
                  <a:lnTo>
                    <a:pt x="2458" y="259"/>
                  </a:lnTo>
                  <a:lnTo>
                    <a:pt x="2464" y="247"/>
                  </a:lnTo>
                  <a:lnTo>
                    <a:pt x="2469" y="233"/>
                  </a:lnTo>
                  <a:lnTo>
                    <a:pt x="2474" y="219"/>
                  </a:lnTo>
                  <a:lnTo>
                    <a:pt x="2477" y="206"/>
                  </a:lnTo>
                  <a:lnTo>
                    <a:pt x="2478" y="191"/>
                  </a:lnTo>
                  <a:lnTo>
                    <a:pt x="2479" y="175"/>
                  </a:lnTo>
                  <a:close/>
                  <a:moveTo>
                    <a:pt x="1665" y="348"/>
                  </a:moveTo>
                  <a:lnTo>
                    <a:pt x="1185" y="978"/>
                  </a:lnTo>
                  <a:lnTo>
                    <a:pt x="1174" y="991"/>
                  </a:lnTo>
                  <a:lnTo>
                    <a:pt x="1160" y="1004"/>
                  </a:lnTo>
                  <a:lnTo>
                    <a:pt x="1145" y="1014"/>
                  </a:lnTo>
                  <a:lnTo>
                    <a:pt x="1130" y="1024"/>
                  </a:lnTo>
                  <a:lnTo>
                    <a:pt x="1122" y="1027"/>
                  </a:lnTo>
                  <a:lnTo>
                    <a:pt x="1113" y="1031"/>
                  </a:lnTo>
                  <a:lnTo>
                    <a:pt x="1105" y="1033"/>
                  </a:lnTo>
                  <a:lnTo>
                    <a:pt x="1095" y="1036"/>
                  </a:lnTo>
                  <a:lnTo>
                    <a:pt x="1086" y="1038"/>
                  </a:lnTo>
                  <a:lnTo>
                    <a:pt x="1077" y="1039"/>
                  </a:lnTo>
                  <a:lnTo>
                    <a:pt x="1068" y="1040"/>
                  </a:lnTo>
                  <a:lnTo>
                    <a:pt x="1058" y="1040"/>
                  </a:lnTo>
                  <a:lnTo>
                    <a:pt x="852" y="1040"/>
                  </a:lnTo>
                  <a:lnTo>
                    <a:pt x="842" y="1039"/>
                  </a:lnTo>
                  <a:lnTo>
                    <a:pt x="834" y="1036"/>
                  </a:lnTo>
                  <a:lnTo>
                    <a:pt x="825" y="1032"/>
                  </a:lnTo>
                  <a:lnTo>
                    <a:pt x="819" y="1027"/>
                  </a:lnTo>
                  <a:lnTo>
                    <a:pt x="813" y="1020"/>
                  </a:lnTo>
                  <a:lnTo>
                    <a:pt x="808" y="1012"/>
                  </a:lnTo>
                  <a:lnTo>
                    <a:pt x="806" y="1004"/>
                  </a:lnTo>
                  <a:lnTo>
                    <a:pt x="805" y="994"/>
                  </a:lnTo>
                  <a:lnTo>
                    <a:pt x="805" y="991"/>
                  </a:lnTo>
                  <a:lnTo>
                    <a:pt x="806" y="987"/>
                  </a:lnTo>
                  <a:lnTo>
                    <a:pt x="806" y="984"/>
                  </a:lnTo>
                  <a:lnTo>
                    <a:pt x="807" y="980"/>
                  </a:lnTo>
                  <a:lnTo>
                    <a:pt x="809" y="976"/>
                  </a:lnTo>
                  <a:lnTo>
                    <a:pt x="810" y="973"/>
                  </a:lnTo>
                  <a:lnTo>
                    <a:pt x="813" y="970"/>
                  </a:lnTo>
                  <a:lnTo>
                    <a:pt x="815" y="967"/>
                  </a:lnTo>
                  <a:lnTo>
                    <a:pt x="1294" y="338"/>
                  </a:lnTo>
                  <a:lnTo>
                    <a:pt x="1306" y="324"/>
                  </a:lnTo>
                  <a:lnTo>
                    <a:pt x="1320" y="311"/>
                  </a:lnTo>
                  <a:lnTo>
                    <a:pt x="1333" y="301"/>
                  </a:lnTo>
                  <a:lnTo>
                    <a:pt x="1349" y="293"/>
                  </a:lnTo>
                  <a:lnTo>
                    <a:pt x="1366" y="285"/>
                  </a:lnTo>
                  <a:lnTo>
                    <a:pt x="1384" y="280"/>
                  </a:lnTo>
                  <a:lnTo>
                    <a:pt x="1393" y="278"/>
                  </a:lnTo>
                  <a:lnTo>
                    <a:pt x="1402" y="276"/>
                  </a:lnTo>
                  <a:lnTo>
                    <a:pt x="1412" y="276"/>
                  </a:lnTo>
                  <a:lnTo>
                    <a:pt x="1421" y="275"/>
                  </a:lnTo>
                  <a:lnTo>
                    <a:pt x="1628" y="275"/>
                  </a:lnTo>
                  <a:lnTo>
                    <a:pt x="1637" y="276"/>
                  </a:lnTo>
                  <a:lnTo>
                    <a:pt x="1646" y="279"/>
                  </a:lnTo>
                  <a:lnTo>
                    <a:pt x="1654" y="283"/>
                  </a:lnTo>
                  <a:lnTo>
                    <a:pt x="1661" y="288"/>
                  </a:lnTo>
                  <a:lnTo>
                    <a:pt x="1666" y="296"/>
                  </a:lnTo>
                  <a:lnTo>
                    <a:pt x="1670" y="303"/>
                  </a:lnTo>
                  <a:lnTo>
                    <a:pt x="1673" y="311"/>
                  </a:lnTo>
                  <a:lnTo>
                    <a:pt x="1674" y="321"/>
                  </a:lnTo>
                  <a:lnTo>
                    <a:pt x="1674" y="325"/>
                  </a:lnTo>
                  <a:lnTo>
                    <a:pt x="1673" y="328"/>
                  </a:lnTo>
                  <a:lnTo>
                    <a:pt x="1672" y="332"/>
                  </a:lnTo>
                  <a:lnTo>
                    <a:pt x="1672" y="335"/>
                  </a:lnTo>
                  <a:lnTo>
                    <a:pt x="1670" y="339"/>
                  </a:lnTo>
                  <a:lnTo>
                    <a:pt x="1669" y="342"/>
                  </a:lnTo>
                  <a:lnTo>
                    <a:pt x="1667" y="345"/>
                  </a:lnTo>
                  <a:lnTo>
                    <a:pt x="1665" y="348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41520" y="5957280"/>
              <a:ext cx="241560" cy="144360"/>
            </a:xfrm>
            <a:custGeom>
              <a:avLst/>
              <a:gdLst/>
              <a:ahLst/>
              <a:rect l="l" t="t" r="r" b="b"/>
              <a:pathLst>
                <a:path w="2659" h="1315">
                  <a:moveTo>
                    <a:pt x="2484" y="463"/>
                  </a:moveTo>
                  <a:lnTo>
                    <a:pt x="2623" y="282"/>
                  </a:lnTo>
                  <a:lnTo>
                    <a:pt x="2631" y="271"/>
                  </a:lnTo>
                  <a:lnTo>
                    <a:pt x="2637" y="259"/>
                  </a:lnTo>
                  <a:lnTo>
                    <a:pt x="2644" y="247"/>
                  </a:lnTo>
                  <a:lnTo>
                    <a:pt x="2649" y="233"/>
                  </a:lnTo>
                  <a:lnTo>
                    <a:pt x="2653" y="219"/>
                  </a:lnTo>
                  <a:lnTo>
                    <a:pt x="2655" y="206"/>
                  </a:lnTo>
                  <a:lnTo>
                    <a:pt x="2658" y="191"/>
                  </a:lnTo>
                  <a:lnTo>
                    <a:pt x="2659" y="175"/>
                  </a:lnTo>
                  <a:lnTo>
                    <a:pt x="2658" y="158"/>
                  </a:lnTo>
                  <a:lnTo>
                    <a:pt x="2654" y="141"/>
                  </a:lnTo>
                  <a:lnTo>
                    <a:pt x="2650" y="123"/>
                  </a:lnTo>
                  <a:lnTo>
                    <a:pt x="2644" y="107"/>
                  </a:lnTo>
                  <a:lnTo>
                    <a:pt x="2636" y="92"/>
                  </a:lnTo>
                  <a:lnTo>
                    <a:pt x="2628" y="77"/>
                  </a:lnTo>
                  <a:lnTo>
                    <a:pt x="2617" y="64"/>
                  </a:lnTo>
                  <a:lnTo>
                    <a:pt x="2606" y="51"/>
                  </a:lnTo>
                  <a:lnTo>
                    <a:pt x="2593" y="41"/>
                  </a:lnTo>
                  <a:lnTo>
                    <a:pt x="2579" y="30"/>
                  </a:lnTo>
                  <a:lnTo>
                    <a:pt x="2566" y="21"/>
                  </a:lnTo>
                  <a:lnTo>
                    <a:pt x="2550" y="13"/>
                  </a:lnTo>
                  <a:lnTo>
                    <a:pt x="2533" y="8"/>
                  </a:lnTo>
                  <a:lnTo>
                    <a:pt x="2516" y="3"/>
                  </a:lnTo>
                  <a:lnTo>
                    <a:pt x="2499" y="1"/>
                  </a:lnTo>
                  <a:lnTo>
                    <a:pt x="2480" y="0"/>
                  </a:lnTo>
                  <a:lnTo>
                    <a:pt x="1732" y="0"/>
                  </a:lnTo>
                  <a:lnTo>
                    <a:pt x="1004" y="0"/>
                  </a:lnTo>
                  <a:lnTo>
                    <a:pt x="0" y="1315"/>
                  </a:lnTo>
                  <a:lnTo>
                    <a:pt x="693" y="1315"/>
                  </a:lnTo>
                  <a:lnTo>
                    <a:pt x="1528" y="1315"/>
                  </a:lnTo>
                  <a:lnTo>
                    <a:pt x="1546" y="1315"/>
                  </a:lnTo>
                  <a:lnTo>
                    <a:pt x="1565" y="1314"/>
                  </a:lnTo>
                  <a:lnTo>
                    <a:pt x="1583" y="1313"/>
                  </a:lnTo>
                  <a:lnTo>
                    <a:pt x="1602" y="1311"/>
                  </a:lnTo>
                  <a:lnTo>
                    <a:pt x="1620" y="1309"/>
                  </a:lnTo>
                  <a:lnTo>
                    <a:pt x="1638" y="1306"/>
                  </a:lnTo>
                  <a:lnTo>
                    <a:pt x="1656" y="1303"/>
                  </a:lnTo>
                  <a:lnTo>
                    <a:pt x="1673" y="1299"/>
                  </a:lnTo>
                  <a:lnTo>
                    <a:pt x="1708" y="1289"/>
                  </a:lnTo>
                  <a:lnTo>
                    <a:pt x="1742" y="1278"/>
                  </a:lnTo>
                  <a:lnTo>
                    <a:pt x="1775" y="1265"/>
                  </a:lnTo>
                  <a:lnTo>
                    <a:pt x="1806" y="1249"/>
                  </a:lnTo>
                  <a:lnTo>
                    <a:pt x="1837" y="1234"/>
                  </a:lnTo>
                  <a:lnTo>
                    <a:pt x="1867" y="1215"/>
                  </a:lnTo>
                  <a:lnTo>
                    <a:pt x="1895" y="1195"/>
                  </a:lnTo>
                  <a:lnTo>
                    <a:pt x="1923" y="1174"/>
                  </a:lnTo>
                  <a:lnTo>
                    <a:pt x="1948" y="1151"/>
                  </a:lnTo>
                  <a:lnTo>
                    <a:pt x="1974" y="1127"/>
                  </a:lnTo>
                  <a:lnTo>
                    <a:pt x="1997" y="1101"/>
                  </a:lnTo>
                  <a:lnTo>
                    <a:pt x="2018" y="1074"/>
                  </a:lnTo>
                  <a:lnTo>
                    <a:pt x="2160" y="889"/>
                  </a:lnTo>
                  <a:lnTo>
                    <a:pt x="2166" y="879"/>
                  </a:lnTo>
                  <a:lnTo>
                    <a:pt x="2172" y="870"/>
                  </a:lnTo>
                  <a:lnTo>
                    <a:pt x="2177" y="859"/>
                  </a:lnTo>
                  <a:lnTo>
                    <a:pt x="2181" y="849"/>
                  </a:lnTo>
                  <a:lnTo>
                    <a:pt x="2184" y="838"/>
                  </a:lnTo>
                  <a:lnTo>
                    <a:pt x="2187" y="827"/>
                  </a:lnTo>
                  <a:lnTo>
                    <a:pt x="2188" y="815"/>
                  </a:lnTo>
                  <a:lnTo>
                    <a:pt x="2189" y="804"/>
                  </a:lnTo>
                  <a:lnTo>
                    <a:pt x="2188" y="786"/>
                  </a:lnTo>
                  <a:lnTo>
                    <a:pt x="2184" y="769"/>
                  </a:lnTo>
                  <a:lnTo>
                    <a:pt x="2179" y="754"/>
                  </a:lnTo>
                  <a:lnTo>
                    <a:pt x="2173" y="739"/>
                  </a:lnTo>
                  <a:lnTo>
                    <a:pt x="2164" y="724"/>
                  </a:lnTo>
                  <a:lnTo>
                    <a:pt x="2155" y="712"/>
                  </a:lnTo>
                  <a:lnTo>
                    <a:pt x="2143" y="700"/>
                  </a:lnTo>
                  <a:lnTo>
                    <a:pt x="2130" y="690"/>
                  </a:lnTo>
                  <a:lnTo>
                    <a:pt x="2157" y="684"/>
                  </a:lnTo>
                  <a:lnTo>
                    <a:pt x="2183" y="675"/>
                  </a:lnTo>
                  <a:lnTo>
                    <a:pt x="2209" y="667"/>
                  </a:lnTo>
                  <a:lnTo>
                    <a:pt x="2234" y="656"/>
                  </a:lnTo>
                  <a:lnTo>
                    <a:pt x="2259" y="646"/>
                  </a:lnTo>
                  <a:lnTo>
                    <a:pt x="2283" y="633"/>
                  </a:lnTo>
                  <a:lnTo>
                    <a:pt x="2306" y="621"/>
                  </a:lnTo>
                  <a:lnTo>
                    <a:pt x="2328" y="606"/>
                  </a:lnTo>
                  <a:lnTo>
                    <a:pt x="2351" y="592"/>
                  </a:lnTo>
                  <a:lnTo>
                    <a:pt x="2372" y="576"/>
                  </a:lnTo>
                  <a:lnTo>
                    <a:pt x="2393" y="559"/>
                  </a:lnTo>
                  <a:lnTo>
                    <a:pt x="2413" y="541"/>
                  </a:lnTo>
                  <a:lnTo>
                    <a:pt x="2432" y="524"/>
                  </a:lnTo>
                  <a:lnTo>
                    <a:pt x="2450" y="504"/>
                  </a:lnTo>
                  <a:lnTo>
                    <a:pt x="2468" y="484"/>
                  </a:lnTo>
                  <a:lnTo>
                    <a:pt x="2484" y="463"/>
                  </a:lnTo>
                  <a:close/>
                  <a:moveTo>
                    <a:pt x="1455" y="859"/>
                  </a:moveTo>
                  <a:lnTo>
                    <a:pt x="1365" y="978"/>
                  </a:lnTo>
                  <a:lnTo>
                    <a:pt x="1352" y="991"/>
                  </a:lnTo>
                  <a:lnTo>
                    <a:pt x="1340" y="1004"/>
                  </a:lnTo>
                  <a:lnTo>
                    <a:pt x="1325" y="1014"/>
                  </a:lnTo>
                  <a:lnTo>
                    <a:pt x="1310" y="1024"/>
                  </a:lnTo>
                  <a:lnTo>
                    <a:pt x="1302" y="1028"/>
                  </a:lnTo>
                  <a:lnTo>
                    <a:pt x="1293" y="1031"/>
                  </a:lnTo>
                  <a:lnTo>
                    <a:pt x="1284" y="1034"/>
                  </a:lnTo>
                  <a:lnTo>
                    <a:pt x="1275" y="1036"/>
                  </a:lnTo>
                  <a:lnTo>
                    <a:pt x="1266" y="1038"/>
                  </a:lnTo>
                  <a:lnTo>
                    <a:pt x="1256" y="1039"/>
                  </a:lnTo>
                  <a:lnTo>
                    <a:pt x="1246" y="1040"/>
                  </a:lnTo>
                  <a:lnTo>
                    <a:pt x="1237" y="1040"/>
                  </a:lnTo>
                  <a:lnTo>
                    <a:pt x="938" y="1040"/>
                  </a:lnTo>
                  <a:lnTo>
                    <a:pt x="1132" y="786"/>
                  </a:lnTo>
                  <a:lnTo>
                    <a:pt x="1418" y="786"/>
                  </a:lnTo>
                  <a:lnTo>
                    <a:pt x="1426" y="787"/>
                  </a:lnTo>
                  <a:lnTo>
                    <a:pt x="1436" y="790"/>
                  </a:lnTo>
                  <a:lnTo>
                    <a:pt x="1443" y="795"/>
                  </a:lnTo>
                  <a:lnTo>
                    <a:pt x="1451" y="800"/>
                  </a:lnTo>
                  <a:lnTo>
                    <a:pt x="1456" y="807"/>
                  </a:lnTo>
                  <a:lnTo>
                    <a:pt x="1460" y="814"/>
                  </a:lnTo>
                  <a:lnTo>
                    <a:pt x="1462" y="823"/>
                  </a:lnTo>
                  <a:lnTo>
                    <a:pt x="1463" y="832"/>
                  </a:lnTo>
                  <a:lnTo>
                    <a:pt x="1463" y="836"/>
                  </a:lnTo>
                  <a:lnTo>
                    <a:pt x="1463" y="839"/>
                  </a:lnTo>
                  <a:lnTo>
                    <a:pt x="1462" y="844"/>
                  </a:lnTo>
                  <a:lnTo>
                    <a:pt x="1461" y="847"/>
                  </a:lnTo>
                  <a:lnTo>
                    <a:pt x="1460" y="850"/>
                  </a:lnTo>
                  <a:lnTo>
                    <a:pt x="1458" y="853"/>
                  </a:lnTo>
                  <a:lnTo>
                    <a:pt x="1457" y="856"/>
                  </a:lnTo>
                  <a:lnTo>
                    <a:pt x="1455" y="859"/>
                  </a:lnTo>
                  <a:close/>
                  <a:moveTo>
                    <a:pt x="1845" y="348"/>
                  </a:moveTo>
                  <a:lnTo>
                    <a:pt x="1768" y="448"/>
                  </a:lnTo>
                  <a:lnTo>
                    <a:pt x="1757" y="462"/>
                  </a:lnTo>
                  <a:lnTo>
                    <a:pt x="1743" y="475"/>
                  </a:lnTo>
                  <a:lnTo>
                    <a:pt x="1729" y="485"/>
                  </a:lnTo>
                  <a:lnTo>
                    <a:pt x="1713" y="494"/>
                  </a:lnTo>
                  <a:lnTo>
                    <a:pt x="1705" y="499"/>
                  </a:lnTo>
                  <a:lnTo>
                    <a:pt x="1696" y="502"/>
                  </a:lnTo>
                  <a:lnTo>
                    <a:pt x="1688" y="505"/>
                  </a:lnTo>
                  <a:lnTo>
                    <a:pt x="1678" y="507"/>
                  </a:lnTo>
                  <a:lnTo>
                    <a:pt x="1670" y="509"/>
                  </a:lnTo>
                  <a:lnTo>
                    <a:pt x="1660" y="510"/>
                  </a:lnTo>
                  <a:lnTo>
                    <a:pt x="1651" y="511"/>
                  </a:lnTo>
                  <a:lnTo>
                    <a:pt x="1641" y="511"/>
                  </a:lnTo>
                  <a:lnTo>
                    <a:pt x="1342" y="511"/>
                  </a:lnTo>
                  <a:lnTo>
                    <a:pt x="1522" y="275"/>
                  </a:lnTo>
                  <a:lnTo>
                    <a:pt x="1808" y="275"/>
                  </a:lnTo>
                  <a:lnTo>
                    <a:pt x="1817" y="276"/>
                  </a:lnTo>
                  <a:lnTo>
                    <a:pt x="1826" y="279"/>
                  </a:lnTo>
                  <a:lnTo>
                    <a:pt x="1833" y="283"/>
                  </a:lnTo>
                  <a:lnTo>
                    <a:pt x="1840" y="288"/>
                  </a:lnTo>
                  <a:lnTo>
                    <a:pt x="1846" y="296"/>
                  </a:lnTo>
                  <a:lnTo>
                    <a:pt x="1850" y="303"/>
                  </a:lnTo>
                  <a:lnTo>
                    <a:pt x="1853" y="311"/>
                  </a:lnTo>
                  <a:lnTo>
                    <a:pt x="1854" y="321"/>
                  </a:lnTo>
                  <a:lnTo>
                    <a:pt x="1854" y="325"/>
                  </a:lnTo>
                  <a:lnTo>
                    <a:pt x="1853" y="328"/>
                  </a:lnTo>
                  <a:lnTo>
                    <a:pt x="1852" y="332"/>
                  </a:lnTo>
                  <a:lnTo>
                    <a:pt x="1851" y="335"/>
                  </a:lnTo>
                  <a:lnTo>
                    <a:pt x="1850" y="339"/>
                  </a:lnTo>
                  <a:lnTo>
                    <a:pt x="1849" y="342"/>
                  </a:lnTo>
                  <a:lnTo>
                    <a:pt x="1847" y="345"/>
                  </a:lnTo>
                  <a:lnTo>
                    <a:pt x="1845" y="348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88480" y="5955480"/>
              <a:ext cx="45360" cy="55800"/>
            </a:xfrm>
            <a:custGeom>
              <a:avLst/>
              <a:gdLst/>
              <a:ahLst/>
              <a:rect l="l" t="t" r="r" b="b"/>
              <a:pathLst>
                <a:path w="508" h="502">
                  <a:moveTo>
                    <a:pt x="254" y="0"/>
                  </a:moveTo>
                  <a:lnTo>
                    <a:pt x="241" y="1"/>
                  </a:lnTo>
                  <a:lnTo>
                    <a:pt x="227" y="2"/>
                  </a:lnTo>
                  <a:lnTo>
                    <a:pt x="215" y="3"/>
                  </a:lnTo>
                  <a:lnTo>
                    <a:pt x="203" y="5"/>
                  </a:lnTo>
                  <a:lnTo>
                    <a:pt x="190" y="8"/>
                  </a:lnTo>
                  <a:lnTo>
                    <a:pt x="179" y="11"/>
                  </a:lnTo>
                  <a:lnTo>
                    <a:pt x="166" y="16"/>
                  </a:lnTo>
                  <a:lnTo>
                    <a:pt x="155" y="20"/>
                  </a:lnTo>
                  <a:lnTo>
                    <a:pt x="144" y="25"/>
                  </a:lnTo>
                  <a:lnTo>
                    <a:pt x="133" y="30"/>
                  </a:lnTo>
                  <a:lnTo>
                    <a:pt x="122" y="36"/>
                  </a:lnTo>
                  <a:lnTo>
                    <a:pt x="112" y="43"/>
                  </a:lnTo>
                  <a:lnTo>
                    <a:pt x="101" y="50"/>
                  </a:lnTo>
                  <a:lnTo>
                    <a:pt x="92" y="57"/>
                  </a:lnTo>
                  <a:lnTo>
                    <a:pt x="83" y="66"/>
                  </a:lnTo>
                  <a:lnTo>
                    <a:pt x="74" y="74"/>
                  </a:lnTo>
                  <a:lnTo>
                    <a:pt x="65" y="82"/>
                  </a:lnTo>
                  <a:lnTo>
                    <a:pt x="58" y="92"/>
                  </a:lnTo>
                  <a:lnTo>
                    <a:pt x="51" y="101"/>
                  </a:lnTo>
                  <a:lnTo>
                    <a:pt x="43" y="111"/>
                  </a:lnTo>
                  <a:lnTo>
                    <a:pt x="37" y="121"/>
                  </a:lnTo>
                  <a:lnTo>
                    <a:pt x="31" y="132"/>
                  </a:lnTo>
                  <a:lnTo>
                    <a:pt x="25" y="142"/>
                  </a:lnTo>
                  <a:lnTo>
                    <a:pt x="20" y="154"/>
                  </a:lnTo>
                  <a:lnTo>
                    <a:pt x="16" y="165"/>
                  </a:lnTo>
                  <a:lnTo>
                    <a:pt x="12" y="177"/>
                  </a:lnTo>
                  <a:lnTo>
                    <a:pt x="8" y="188"/>
                  </a:lnTo>
                  <a:lnTo>
                    <a:pt x="5" y="201"/>
                  </a:lnTo>
                  <a:lnTo>
                    <a:pt x="3" y="213"/>
                  </a:lnTo>
                  <a:lnTo>
                    <a:pt x="1" y="226"/>
                  </a:lnTo>
                  <a:lnTo>
                    <a:pt x="1" y="238"/>
                  </a:lnTo>
                  <a:lnTo>
                    <a:pt x="0" y="251"/>
                  </a:lnTo>
                  <a:lnTo>
                    <a:pt x="1" y="264"/>
                  </a:lnTo>
                  <a:lnTo>
                    <a:pt x="1" y="277"/>
                  </a:lnTo>
                  <a:lnTo>
                    <a:pt x="3" y="290"/>
                  </a:lnTo>
                  <a:lnTo>
                    <a:pt x="5" y="302"/>
                  </a:lnTo>
                  <a:lnTo>
                    <a:pt x="8" y="314"/>
                  </a:lnTo>
                  <a:lnTo>
                    <a:pt x="12" y="326"/>
                  </a:lnTo>
                  <a:lnTo>
                    <a:pt x="16" y="338"/>
                  </a:lnTo>
                  <a:lnTo>
                    <a:pt x="20" y="349"/>
                  </a:lnTo>
                  <a:lnTo>
                    <a:pt x="25" y="360"/>
                  </a:lnTo>
                  <a:lnTo>
                    <a:pt x="31" y="371"/>
                  </a:lnTo>
                  <a:lnTo>
                    <a:pt x="37" y="382"/>
                  </a:lnTo>
                  <a:lnTo>
                    <a:pt x="43" y="392"/>
                  </a:lnTo>
                  <a:lnTo>
                    <a:pt x="51" y="401"/>
                  </a:lnTo>
                  <a:lnTo>
                    <a:pt x="58" y="411"/>
                  </a:lnTo>
                  <a:lnTo>
                    <a:pt x="65" y="420"/>
                  </a:lnTo>
                  <a:lnTo>
                    <a:pt x="74" y="429"/>
                  </a:lnTo>
                  <a:lnTo>
                    <a:pt x="83" y="437"/>
                  </a:lnTo>
                  <a:lnTo>
                    <a:pt x="92" y="444"/>
                  </a:lnTo>
                  <a:lnTo>
                    <a:pt x="101" y="453"/>
                  </a:lnTo>
                  <a:lnTo>
                    <a:pt x="112" y="459"/>
                  </a:lnTo>
                  <a:lnTo>
                    <a:pt x="122" y="466"/>
                  </a:lnTo>
                  <a:lnTo>
                    <a:pt x="133" y="472"/>
                  </a:lnTo>
                  <a:lnTo>
                    <a:pt x="144" y="478"/>
                  </a:lnTo>
                  <a:lnTo>
                    <a:pt x="155" y="482"/>
                  </a:lnTo>
                  <a:lnTo>
                    <a:pt x="166" y="487"/>
                  </a:lnTo>
                  <a:lnTo>
                    <a:pt x="179" y="490"/>
                  </a:lnTo>
                  <a:lnTo>
                    <a:pt x="190" y="495"/>
                  </a:lnTo>
                  <a:lnTo>
                    <a:pt x="203" y="497"/>
                  </a:lnTo>
                  <a:lnTo>
                    <a:pt x="215" y="499"/>
                  </a:lnTo>
                  <a:lnTo>
                    <a:pt x="227" y="501"/>
                  </a:lnTo>
                  <a:lnTo>
                    <a:pt x="241" y="502"/>
                  </a:lnTo>
                  <a:lnTo>
                    <a:pt x="254" y="502"/>
                  </a:lnTo>
                  <a:lnTo>
                    <a:pt x="267" y="502"/>
                  </a:lnTo>
                  <a:lnTo>
                    <a:pt x="280" y="501"/>
                  </a:lnTo>
                  <a:lnTo>
                    <a:pt x="293" y="499"/>
                  </a:lnTo>
                  <a:lnTo>
                    <a:pt x="305" y="497"/>
                  </a:lnTo>
                  <a:lnTo>
                    <a:pt x="317" y="495"/>
                  </a:lnTo>
                  <a:lnTo>
                    <a:pt x="329" y="490"/>
                  </a:lnTo>
                  <a:lnTo>
                    <a:pt x="342" y="487"/>
                  </a:lnTo>
                  <a:lnTo>
                    <a:pt x="353" y="482"/>
                  </a:lnTo>
                  <a:lnTo>
                    <a:pt x="364" y="478"/>
                  </a:lnTo>
                  <a:lnTo>
                    <a:pt x="375" y="472"/>
                  </a:lnTo>
                  <a:lnTo>
                    <a:pt x="385" y="466"/>
                  </a:lnTo>
                  <a:lnTo>
                    <a:pt x="396" y="459"/>
                  </a:lnTo>
                  <a:lnTo>
                    <a:pt x="406" y="453"/>
                  </a:lnTo>
                  <a:lnTo>
                    <a:pt x="416" y="444"/>
                  </a:lnTo>
                  <a:lnTo>
                    <a:pt x="424" y="437"/>
                  </a:lnTo>
                  <a:lnTo>
                    <a:pt x="434" y="429"/>
                  </a:lnTo>
                  <a:lnTo>
                    <a:pt x="442" y="420"/>
                  </a:lnTo>
                  <a:lnTo>
                    <a:pt x="450" y="411"/>
                  </a:lnTo>
                  <a:lnTo>
                    <a:pt x="457" y="401"/>
                  </a:lnTo>
                  <a:lnTo>
                    <a:pt x="465" y="392"/>
                  </a:lnTo>
                  <a:lnTo>
                    <a:pt x="471" y="382"/>
                  </a:lnTo>
                  <a:lnTo>
                    <a:pt x="477" y="371"/>
                  </a:lnTo>
                  <a:lnTo>
                    <a:pt x="483" y="360"/>
                  </a:lnTo>
                  <a:lnTo>
                    <a:pt x="488" y="349"/>
                  </a:lnTo>
                  <a:lnTo>
                    <a:pt x="492" y="338"/>
                  </a:lnTo>
                  <a:lnTo>
                    <a:pt x="496" y="326"/>
                  </a:lnTo>
                  <a:lnTo>
                    <a:pt x="500" y="314"/>
                  </a:lnTo>
                  <a:lnTo>
                    <a:pt x="503" y="302"/>
                  </a:lnTo>
                  <a:lnTo>
                    <a:pt x="505" y="290"/>
                  </a:lnTo>
                  <a:lnTo>
                    <a:pt x="507" y="277"/>
                  </a:lnTo>
                  <a:lnTo>
                    <a:pt x="508" y="264"/>
                  </a:lnTo>
                  <a:lnTo>
                    <a:pt x="508" y="251"/>
                  </a:lnTo>
                  <a:lnTo>
                    <a:pt x="508" y="238"/>
                  </a:lnTo>
                  <a:lnTo>
                    <a:pt x="507" y="226"/>
                  </a:lnTo>
                  <a:lnTo>
                    <a:pt x="505" y="213"/>
                  </a:lnTo>
                  <a:lnTo>
                    <a:pt x="503" y="201"/>
                  </a:lnTo>
                  <a:lnTo>
                    <a:pt x="500" y="188"/>
                  </a:lnTo>
                  <a:lnTo>
                    <a:pt x="496" y="177"/>
                  </a:lnTo>
                  <a:lnTo>
                    <a:pt x="492" y="165"/>
                  </a:lnTo>
                  <a:lnTo>
                    <a:pt x="488" y="154"/>
                  </a:lnTo>
                  <a:lnTo>
                    <a:pt x="483" y="142"/>
                  </a:lnTo>
                  <a:lnTo>
                    <a:pt x="477" y="132"/>
                  </a:lnTo>
                  <a:lnTo>
                    <a:pt x="471" y="121"/>
                  </a:lnTo>
                  <a:lnTo>
                    <a:pt x="465" y="111"/>
                  </a:lnTo>
                  <a:lnTo>
                    <a:pt x="457" y="101"/>
                  </a:lnTo>
                  <a:lnTo>
                    <a:pt x="450" y="92"/>
                  </a:lnTo>
                  <a:lnTo>
                    <a:pt x="442" y="82"/>
                  </a:lnTo>
                  <a:lnTo>
                    <a:pt x="434" y="74"/>
                  </a:lnTo>
                  <a:lnTo>
                    <a:pt x="424" y="66"/>
                  </a:lnTo>
                  <a:lnTo>
                    <a:pt x="416" y="57"/>
                  </a:lnTo>
                  <a:lnTo>
                    <a:pt x="406" y="50"/>
                  </a:lnTo>
                  <a:lnTo>
                    <a:pt x="396" y="43"/>
                  </a:lnTo>
                  <a:lnTo>
                    <a:pt x="385" y="36"/>
                  </a:lnTo>
                  <a:lnTo>
                    <a:pt x="375" y="30"/>
                  </a:lnTo>
                  <a:lnTo>
                    <a:pt x="364" y="25"/>
                  </a:lnTo>
                  <a:lnTo>
                    <a:pt x="353" y="20"/>
                  </a:lnTo>
                  <a:lnTo>
                    <a:pt x="342" y="16"/>
                  </a:lnTo>
                  <a:lnTo>
                    <a:pt x="329" y="11"/>
                  </a:lnTo>
                  <a:lnTo>
                    <a:pt x="317" y="8"/>
                  </a:lnTo>
                  <a:lnTo>
                    <a:pt x="305" y="5"/>
                  </a:lnTo>
                  <a:lnTo>
                    <a:pt x="293" y="3"/>
                  </a:lnTo>
                  <a:lnTo>
                    <a:pt x="280" y="2"/>
                  </a:lnTo>
                  <a:lnTo>
                    <a:pt x="267" y="1"/>
                  </a:lnTo>
                  <a:lnTo>
                    <a:pt x="254" y="0"/>
                  </a:lnTo>
                  <a:close/>
                  <a:moveTo>
                    <a:pt x="255" y="480"/>
                  </a:moveTo>
                  <a:lnTo>
                    <a:pt x="242" y="480"/>
                  </a:lnTo>
                  <a:lnTo>
                    <a:pt x="231" y="479"/>
                  </a:lnTo>
                  <a:lnTo>
                    <a:pt x="219" y="477"/>
                  </a:lnTo>
                  <a:lnTo>
                    <a:pt x="207" y="475"/>
                  </a:lnTo>
                  <a:lnTo>
                    <a:pt x="197" y="473"/>
                  </a:lnTo>
                  <a:lnTo>
                    <a:pt x="185" y="469"/>
                  </a:lnTo>
                  <a:lnTo>
                    <a:pt x="175" y="466"/>
                  </a:lnTo>
                  <a:lnTo>
                    <a:pt x="164" y="462"/>
                  </a:lnTo>
                  <a:lnTo>
                    <a:pt x="154" y="457"/>
                  </a:lnTo>
                  <a:lnTo>
                    <a:pt x="144" y="453"/>
                  </a:lnTo>
                  <a:lnTo>
                    <a:pt x="134" y="446"/>
                  </a:lnTo>
                  <a:lnTo>
                    <a:pt x="125" y="441"/>
                  </a:lnTo>
                  <a:lnTo>
                    <a:pt x="116" y="435"/>
                  </a:lnTo>
                  <a:lnTo>
                    <a:pt x="108" y="428"/>
                  </a:lnTo>
                  <a:lnTo>
                    <a:pt x="99" y="420"/>
                  </a:lnTo>
                  <a:lnTo>
                    <a:pt x="92" y="413"/>
                  </a:lnTo>
                  <a:lnTo>
                    <a:pt x="85" y="406"/>
                  </a:lnTo>
                  <a:lnTo>
                    <a:pt x="77" y="397"/>
                  </a:lnTo>
                  <a:lnTo>
                    <a:pt x="71" y="388"/>
                  </a:lnTo>
                  <a:lnTo>
                    <a:pt x="64" y="379"/>
                  </a:lnTo>
                  <a:lnTo>
                    <a:pt x="58" y="370"/>
                  </a:lnTo>
                  <a:lnTo>
                    <a:pt x="53" y="361"/>
                  </a:lnTo>
                  <a:lnTo>
                    <a:pt x="47" y="350"/>
                  </a:lnTo>
                  <a:lnTo>
                    <a:pt x="43" y="341"/>
                  </a:lnTo>
                  <a:lnTo>
                    <a:pt x="39" y="330"/>
                  </a:lnTo>
                  <a:lnTo>
                    <a:pt x="36" y="319"/>
                  </a:lnTo>
                  <a:lnTo>
                    <a:pt x="33" y="308"/>
                  </a:lnTo>
                  <a:lnTo>
                    <a:pt x="31" y="297"/>
                  </a:lnTo>
                  <a:lnTo>
                    <a:pt x="28" y="286"/>
                  </a:lnTo>
                  <a:lnTo>
                    <a:pt x="27" y="275"/>
                  </a:lnTo>
                  <a:lnTo>
                    <a:pt x="26" y="263"/>
                  </a:lnTo>
                  <a:lnTo>
                    <a:pt x="26" y="251"/>
                  </a:lnTo>
                  <a:lnTo>
                    <a:pt x="26" y="239"/>
                  </a:lnTo>
                  <a:lnTo>
                    <a:pt x="27" y="227"/>
                  </a:lnTo>
                  <a:lnTo>
                    <a:pt x="28" y="215"/>
                  </a:lnTo>
                  <a:lnTo>
                    <a:pt x="31" y="204"/>
                  </a:lnTo>
                  <a:lnTo>
                    <a:pt x="33" y="193"/>
                  </a:lnTo>
                  <a:lnTo>
                    <a:pt x="36" y="182"/>
                  </a:lnTo>
                  <a:lnTo>
                    <a:pt x="39" y="171"/>
                  </a:lnTo>
                  <a:lnTo>
                    <a:pt x="43" y="161"/>
                  </a:lnTo>
                  <a:lnTo>
                    <a:pt x="47" y="150"/>
                  </a:lnTo>
                  <a:lnTo>
                    <a:pt x="53" y="141"/>
                  </a:lnTo>
                  <a:lnTo>
                    <a:pt x="58" y="132"/>
                  </a:lnTo>
                  <a:lnTo>
                    <a:pt x="63" y="122"/>
                  </a:lnTo>
                  <a:lnTo>
                    <a:pt x="70" y="113"/>
                  </a:lnTo>
                  <a:lnTo>
                    <a:pt x="76" y="104"/>
                  </a:lnTo>
                  <a:lnTo>
                    <a:pt x="83" y="96"/>
                  </a:lnTo>
                  <a:lnTo>
                    <a:pt x="91" y="88"/>
                  </a:lnTo>
                  <a:lnTo>
                    <a:pt x="99" y="80"/>
                  </a:lnTo>
                  <a:lnTo>
                    <a:pt x="107" y="74"/>
                  </a:lnTo>
                  <a:lnTo>
                    <a:pt x="115" y="67"/>
                  </a:lnTo>
                  <a:lnTo>
                    <a:pt x="125" y="61"/>
                  </a:lnTo>
                  <a:lnTo>
                    <a:pt x="134" y="55"/>
                  </a:lnTo>
                  <a:lnTo>
                    <a:pt x="144" y="49"/>
                  </a:lnTo>
                  <a:lnTo>
                    <a:pt x="153" y="45"/>
                  </a:lnTo>
                  <a:lnTo>
                    <a:pt x="164" y="40"/>
                  </a:lnTo>
                  <a:lnTo>
                    <a:pt x="175" y="36"/>
                  </a:lnTo>
                  <a:lnTo>
                    <a:pt x="185" y="32"/>
                  </a:lnTo>
                  <a:lnTo>
                    <a:pt x="196" y="29"/>
                  </a:lnTo>
                  <a:lnTo>
                    <a:pt x="207" y="27"/>
                  </a:lnTo>
                  <a:lnTo>
                    <a:pt x="219" y="25"/>
                  </a:lnTo>
                  <a:lnTo>
                    <a:pt x="231" y="24"/>
                  </a:lnTo>
                  <a:lnTo>
                    <a:pt x="242" y="23"/>
                  </a:lnTo>
                  <a:lnTo>
                    <a:pt x="255" y="23"/>
                  </a:lnTo>
                  <a:lnTo>
                    <a:pt x="267" y="23"/>
                  </a:lnTo>
                  <a:lnTo>
                    <a:pt x="278" y="24"/>
                  </a:lnTo>
                  <a:lnTo>
                    <a:pt x="290" y="25"/>
                  </a:lnTo>
                  <a:lnTo>
                    <a:pt x="302" y="27"/>
                  </a:lnTo>
                  <a:lnTo>
                    <a:pt x="313" y="29"/>
                  </a:lnTo>
                  <a:lnTo>
                    <a:pt x="324" y="32"/>
                  </a:lnTo>
                  <a:lnTo>
                    <a:pt x="334" y="36"/>
                  </a:lnTo>
                  <a:lnTo>
                    <a:pt x="345" y="40"/>
                  </a:lnTo>
                  <a:lnTo>
                    <a:pt x="365" y="50"/>
                  </a:lnTo>
                  <a:lnTo>
                    <a:pt x="384" y="61"/>
                  </a:lnTo>
                  <a:lnTo>
                    <a:pt x="401" y="74"/>
                  </a:lnTo>
                  <a:lnTo>
                    <a:pt x="417" y="89"/>
                  </a:lnTo>
                  <a:lnTo>
                    <a:pt x="432" y="104"/>
                  </a:lnTo>
                  <a:lnTo>
                    <a:pt x="444" y="122"/>
                  </a:lnTo>
                  <a:lnTo>
                    <a:pt x="456" y="141"/>
                  </a:lnTo>
                  <a:lnTo>
                    <a:pt x="465" y="161"/>
                  </a:lnTo>
                  <a:lnTo>
                    <a:pt x="472" y="182"/>
                  </a:lnTo>
                  <a:lnTo>
                    <a:pt x="477" y="204"/>
                  </a:lnTo>
                  <a:lnTo>
                    <a:pt x="479" y="215"/>
                  </a:lnTo>
                  <a:lnTo>
                    <a:pt x="482" y="227"/>
                  </a:lnTo>
                  <a:lnTo>
                    <a:pt x="482" y="238"/>
                  </a:lnTo>
                  <a:lnTo>
                    <a:pt x="483" y="251"/>
                  </a:lnTo>
                  <a:lnTo>
                    <a:pt x="482" y="262"/>
                  </a:lnTo>
                  <a:lnTo>
                    <a:pt x="482" y="274"/>
                  </a:lnTo>
                  <a:lnTo>
                    <a:pt x="479" y="285"/>
                  </a:lnTo>
                  <a:lnTo>
                    <a:pt x="477" y="297"/>
                  </a:lnTo>
                  <a:lnTo>
                    <a:pt x="475" y="308"/>
                  </a:lnTo>
                  <a:lnTo>
                    <a:pt x="472" y="319"/>
                  </a:lnTo>
                  <a:lnTo>
                    <a:pt x="469" y="329"/>
                  </a:lnTo>
                  <a:lnTo>
                    <a:pt x="465" y="340"/>
                  </a:lnTo>
                  <a:lnTo>
                    <a:pt x="455" y="360"/>
                  </a:lnTo>
                  <a:lnTo>
                    <a:pt x="444" y="378"/>
                  </a:lnTo>
                  <a:lnTo>
                    <a:pt x="438" y="388"/>
                  </a:lnTo>
                  <a:lnTo>
                    <a:pt x="432" y="396"/>
                  </a:lnTo>
                  <a:lnTo>
                    <a:pt x="424" y="405"/>
                  </a:lnTo>
                  <a:lnTo>
                    <a:pt x="417" y="413"/>
                  </a:lnTo>
                  <a:lnTo>
                    <a:pt x="401" y="428"/>
                  </a:lnTo>
                  <a:lnTo>
                    <a:pt x="384" y="441"/>
                  </a:lnTo>
                  <a:lnTo>
                    <a:pt x="375" y="446"/>
                  </a:lnTo>
                  <a:lnTo>
                    <a:pt x="365" y="453"/>
                  </a:lnTo>
                  <a:lnTo>
                    <a:pt x="354" y="457"/>
                  </a:lnTo>
                  <a:lnTo>
                    <a:pt x="345" y="462"/>
                  </a:lnTo>
                  <a:lnTo>
                    <a:pt x="334" y="466"/>
                  </a:lnTo>
                  <a:lnTo>
                    <a:pt x="324" y="469"/>
                  </a:lnTo>
                  <a:lnTo>
                    <a:pt x="313" y="473"/>
                  </a:lnTo>
                  <a:lnTo>
                    <a:pt x="302" y="475"/>
                  </a:lnTo>
                  <a:lnTo>
                    <a:pt x="290" y="477"/>
                  </a:lnTo>
                  <a:lnTo>
                    <a:pt x="278" y="479"/>
                  </a:lnTo>
                  <a:lnTo>
                    <a:pt x="267" y="480"/>
                  </a:lnTo>
                  <a:lnTo>
                    <a:pt x="255" y="48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03240" y="5967000"/>
              <a:ext cx="19440" cy="32400"/>
            </a:xfrm>
            <a:custGeom>
              <a:avLst/>
              <a:gdLst/>
              <a:ahLst/>
              <a:rect l="l" t="t" r="r" b="b"/>
              <a:pathLst>
                <a:path w="222" h="296">
                  <a:moveTo>
                    <a:pt x="210" y="82"/>
                  </a:moveTo>
                  <a:lnTo>
                    <a:pt x="209" y="73"/>
                  </a:lnTo>
                  <a:lnTo>
                    <a:pt x="208" y="63"/>
                  </a:lnTo>
                  <a:lnTo>
                    <a:pt x="207" y="55"/>
                  </a:lnTo>
                  <a:lnTo>
                    <a:pt x="204" y="46"/>
                  </a:lnTo>
                  <a:lnTo>
                    <a:pt x="201" y="39"/>
                  </a:lnTo>
                  <a:lnTo>
                    <a:pt x="197" y="32"/>
                  </a:lnTo>
                  <a:lnTo>
                    <a:pt x="192" y="27"/>
                  </a:lnTo>
                  <a:lnTo>
                    <a:pt x="187" y="20"/>
                  </a:lnTo>
                  <a:lnTo>
                    <a:pt x="181" y="16"/>
                  </a:lnTo>
                  <a:lnTo>
                    <a:pt x="173" y="12"/>
                  </a:lnTo>
                  <a:lnTo>
                    <a:pt x="165" y="8"/>
                  </a:lnTo>
                  <a:lnTo>
                    <a:pt x="157" y="6"/>
                  </a:lnTo>
                  <a:lnTo>
                    <a:pt x="147" y="3"/>
                  </a:lnTo>
                  <a:lnTo>
                    <a:pt x="136" y="1"/>
                  </a:lnTo>
                  <a:lnTo>
                    <a:pt x="125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296"/>
                  </a:lnTo>
                  <a:lnTo>
                    <a:pt x="25" y="296"/>
                  </a:lnTo>
                  <a:lnTo>
                    <a:pt x="25" y="159"/>
                  </a:lnTo>
                  <a:lnTo>
                    <a:pt x="104" y="159"/>
                  </a:lnTo>
                  <a:lnTo>
                    <a:pt x="194" y="296"/>
                  </a:lnTo>
                  <a:lnTo>
                    <a:pt x="222" y="296"/>
                  </a:lnTo>
                  <a:lnTo>
                    <a:pt x="133" y="160"/>
                  </a:lnTo>
                  <a:lnTo>
                    <a:pt x="148" y="157"/>
                  </a:lnTo>
                  <a:lnTo>
                    <a:pt x="163" y="152"/>
                  </a:lnTo>
                  <a:lnTo>
                    <a:pt x="169" y="149"/>
                  </a:lnTo>
                  <a:lnTo>
                    <a:pt x="176" y="145"/>
                  </a:lnTo>
                  <a:lnTo>
                    <a:pt x="182" y="142"/>
                  </a:lnTo>
                  <a:lnTo>
                    <a:pt x="187" y="136"/>
                  </a:lnTo>
                  <a:lnTo>
                    <a:pt x="192" y="131"/>
                  </a:lnTo>
                  <a:lnTo>
                    <a:pt x="197" y="126"/>
                  </a:lnTo>
                  <a:lnTo>
                    <a:pt x="201" y="120"/>
                  </a:lnTo>
                  <a:lnTo>
                    <a:pt x="204" y="113"/>
                  </a:lnTo>
                  <a:lnTo>
                    <a:pt x="206" y="106"/>
                  </a:lnTo>
                  <a:lnTo>
                    <a:pt x="208" y="99"/>
                  </a:lnTo>
                  <a:lnTo>
                    <a:pt x="209" y="90"/>
                  </a:lnTo>
                  <a:lnTo>
                    <a:pt x="210" y="82"/>
                  </a:lnTo>
                  <a:close/>
                  <a:moveTo>
                    <a:pt x="90" y="137"/>
                  </a:moveTo>
                  <a:lnTo>
                    <a:pt x="25" y="137"/>
                  </a:lnTo>
                  <a:lnTo>
                    <a:pt x="25" y="22"/>
                  </a:lnTo>
                  <a:lnTo>
                    <a:pt x="109" y="22"/>
                  </a:lnTo>
                  <a:lnTo>
                    <a:pt x="122" y="22"/>
                  </a:lnTo>
                  <a:lnTo>
                    <a:pt x="135" y="24"/>
                  </a:lnTo>
                  <a:lnTo>
                    <a:pt x="148" y="29"/>
                  </a:lnTo>
                  <a:lnTo>
                    <a:pt x="160" y="35"/>
                  </a:lnTo>
                  <a:lnTo>
                    <a:pt x="165" y="38"/>
                  </a:lnTo>
                  <a:lnTo>
                    <a:pt x="169" y="42"/>
                  </a:lnTo>
                  <a:lnTo>
                    <a:pt x="173" y="47"/>
                  </a:lnTo>
                  <a:lnTo>
                    <a:pt x="178" y="53"/>
                  </a:lnTo>
                  <a:lnTo>
                    <a:pt x="181" y="59"/>
                  </a:lnTo>
                  <a:lnTo>
                    <a:pt x="183" y="65"/>
                  </a:lnTo>
                  <a:lnTo>
                    <a:pt x="184" y="73"/>
                  </a:lnTo>
                  <a:lnTo>
                    <a:pt x="184" y="81"/>
                  </a:lnTo>
                  <a:lnTo>
                    <a:pt x="184" y="90"/>
                  </a:lnTo>
                  <a:lnTo>
                    <a:pt x="182" y="99"/>
                  </a:lnTo>
                  <a:lnTo>
                    <a:pt x="180" y="105"/>
                  </a:lnTo>
                  <a:lnTo>
                    <a:pt x="176" y="111"/>
                  </a:lnTo>
                  <a:lnTo>
                    <a:pt x="171" y="118"/>
                  </a:lnTo>
                  <a:lnTo>
                    <a:pt x="166" y="122"/>
                  </a:lnTo>
                  <a:lnTo>
                    <a:pt x="161" y="126"/>
                  </a:lnTo>
                  <a:lnTo>
                    <a:pt x="154" y="129"/>
                  </a:lnTo>
                  <a:lnTo>
                    <a:pt x="147" y="131"/>
                  </a:lnTo>
                  <a:lnTo>
                    <a:pt x="140" y="133"/>
                  </a:lnTo>
                  <a:lnTo>
                    <a:pt x="131" y="134"/>
                  </a:lnTo>
                  <a:lnTo>
                    <a:pt x="124" y="136"/>
                  </a:lnTo>
                  <a:lnTo>
                    <a:pt x="107" y="137"/>
                  </a:lnTo>
                  <a:lnTo>
                    <a:pt x="90" y="137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9200" y="358920"/>
            <a:ext cx="1146240" cy="642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26240" y="5911920"/>
            <a:ext cx="8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O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291960"/>
            <a:ext cx="717480" cy="736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206360" y="5602320"/>
            <a:ext cx="766800" cy="782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028960" y="2357280"/>
            <a:ext cx="51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Quarterly Project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 flipH="1">
            <a:off x="4731480" y="4257720"/>
            <a:ext cx="4164120" cy="1371600"/>
          </a:xfrm>
          <a:prstGeom prst="wedgeRoundRectCallout">
            <a:avLst>
              <a:gd name="adj1" fmla="val -4407"/>
              <a:gd name="adj2" fmla="val 88768"/>
              <a:gd name="adj3" fmla="val 16667"/>
            </a:avLst>
          </a:prstGeom>
          <a:solidFill>
            <a:srgbClr val="1d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6400" y="318960"/>
            <a:ext cx="63198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ltimate Goal of CoSMoS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19840" y="4354560"/>
            <a:ext cx="3682800" cy="1179360"/>
          </a:xfrm>
          <a:prstGeom prst="rect">
            <a:avLst/>
          </a:prstGeom>
          <a:solidFill>
            <a:srgbClr val="1d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er: BEM-based EM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ce.llnl.gov/ei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Solve: FEM-based 3-D 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ww.llnl.gov/casc/projects/ems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89000" y="1190520"/>
            <a:ext cx="8707320" cy="3221280"/>
            <a:chOff x="189000" y="1190520"/>
            <a:chExt cx="8707320" cy="3221280"/>
          </a:xfrm>
        </p:grpSpPr>
        <p:sp>
          <p:nvSpPr>
            <p:cNvPr id="202" name=""/>
            <p:cNvSpPr/>
            <p:nvPr/>
          </p:nvSpPr>
          <p:spPr>
            <a:xfrm>
              <a:off x="189000" y="1190520"/>
              <a:ext cx="4701960" cy="322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15000" y="2119320"/>
              <a:ext cx="4081320" cy="1495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HDL-AMS: IEEE std 1076.1-1999 hardware description language for mixed analog/digital circuits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http://www.eda.org/ana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833560" y="1324080"/>
            <a:ext cx="1754640" cy="563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71480" y="2111400"/>
            <a:ext cx="2317320" cy="563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00600" y="2952720"/>
            <a:ext cx="1395000" cy="563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57240" y="3801960"/>
            <a:ext cx="1916640" cy="563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09600" y="4614840"/>
            <a:ext cx="1375560" cy="563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64280" y="6141960"/>
            <a:ext cx="33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ull-wave Electromagne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224240" y="2786040"/>
            <a:ext cx="28800" cy="1974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46360" y="23036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H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79480" y="3514680"/>
            <a:ext cx="10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P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1800360"/>
            <a:ext cx="0" cy="37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617920"/>
            <a:ext cx="0" cy="37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3440160"/>
            <a:ext cx="0" cy="37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7600" y="4287960"/>
            <a:ext cx="0" cy="37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92760" y="178740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50360" y="3490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P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18600" y="1266840"/>
            <a:ext cx="2023200" cy="4348440"/>
            <a:chOff x="318600" y="1266840"/>
            <a:chExt cx="2023200" cy="4348440"/>
          </a:xfrm>
        </p:grpSpPr>
        <p:sp>
          <p:nvSpPr>
            <p:cNvPr id="220" name=""/>
            <p:cNvSpPr/>
            <p:nvPr/>
          </p:nvSpPr>
          <p:spPr>
            <a:xfrm>
              <a:off x="371520" y="1266840"/>
              <a:ext cx="1754640" cy="563760"/>
            </a:xfrm>
            <a:prstGeom prst="ellipse">
              <a:avLst/>
            </a:prstGeom>
            <a:solidFill>
              <a:srgbClr val="396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66"/>
                  </a:solidFill>
                  <a:latin typeface="Arial"/>
                </a:rPr>
                <a:t>behavi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7000" y="2112840"/>
              <a:ext cx="955440" cy="563760"/>
            </a:xfrm>
            <a:prstGeom prst="ellipse">
              <a:avLst/>
            </a:prstGeom>
            <a:solidFill>
              <a:srgbClr val="396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66"/>
                  </a:solidFill>
                  <a:latin typeface="Arial"/>
                </a:rPr>
                <a:t>RT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7200" y="2952720"/>
              <a:ext cx="996480" cy="563760"/>
            </a:xfrm>
            <a:prstGeom prst="ellipse">
              <a:avLst/>
            </a:prstGeom>
            <a:solidFill>
              <a:srgbClr val="396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66"/>
                  </a:solidFill>
                  <a:latin typeface="Arial"/>
                </a:rPr>
                <a:t>g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8800" y="3768840"/>
              <a:ext cx="1916640" cy="563760"/>
            </a:xfrm>
            <a:prstGeom prst="ellipse">
              <a:avLst/>
            </a:prstGeom>
            <a:solidFill>
              <a:srgbClr val="396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66"/>
                  </a:solidFill>
                  <a:latin typeface="Arial"/>
                </a:rPr>
                <a:t>transis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2440" y="4578480"/>
              <a:ext cx="1416960" cy="563760"/>
            </a:xfrm>
            <a:prstGeom prst="ellipse">
              <a:avLst/>
            </a:prstGeom>
            <a:solidFill>
              <a:srgbClr val="396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66"/>
                  </a:solidFill>
                  <a:latin typeface="Arial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89160" y="1785960"/>
              <a:ext cx="0" cy="37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89160" y="2604960"/>
              <a:ext cx="0" cy="37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89160" y="3448080"/>
              <a:ext cx="0" cy="37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89160" y="4268880"/>
              <a:ext cx="0" cy="37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8600" y="5216400"/>
              <a:ext cx="202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80"/>
                  </a:solidFill>
                  <a:latin typeface="Tahoma"/>
                </a:rPr>
                <a:t>Digital Design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74680" y="6121440"/>
            <a:ext cx="8331120" cy="386640"/>
            <a:chOff x="274680" y="6121440"/>
            <a:chExt cx="8331120" cy="386640"/>
          </a:xfrm>
        </p:grpSpPr>
        <p:sp>
          <p:nvSpPr>
            <p:cNvPr id="231" name=""/>
            <p:cNvSpPr/>
            <p:nvPr/>
          </p:nvSpPr>
          <p:spPr>
            <a:xfrm>
              <a:off x="274680" y="6121440"/>
              <a:ext cx="83311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2320" y="61707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M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02720" y="614196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62840" y="5222880"/>
            <a:ext cx="2068920" cy="725760"/>
            <a:chOff x="2562840" y="5222880"/>
            <a:chExt cx="2068920" cy="725760"/>
          </a:xfrm>
        </p:grpSpPr>
        <p:sp>
          <p:nvSpPr>
            <p:cNvPr id="235" name=""/>
            <p:cNvSpPr/>
            <p:nvPr/>
          </p:nvSpPr>
          <p:spPr>
            <a:xfrm>
              <a:off x="2562840" y="5222880"/>
              <a:ext cx="20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Tahoma"/>
                </a:rPr>
                <a:t>Analog Design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26080" y="554976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ahoma"/>
                </a:rPr>
                <a:t>RF Design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670640" y="57214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H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89640" y="1574640"/>
            <a:ext cx="2616120" cy="263556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uy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88840" y="26640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Technology Foundation for DoD </a:t>
            </a:r>
            <a:br>
              <a:rPr sz="2400"/>
            </a:b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Simulation-Based Acquisition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68960" y="1682640"/>
            <a:ext cx="2616120" cy="263520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78360" y="1949400"/>
            <a:ext cx="2616120" cy="26352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40240" y="2254320"/>
            <a:ext cx="2616120" cy="2635200"/>
          </a:xfrm>
          <a:prstGeom prst="ellipse">
            <a:avLst/>
          </a:prstGeom>
          <a:solidFill>
            <a:srgbClr val="fafa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44640" y="227484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97520" y="1703520"/>
            <a:ext cx="6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05280" y="2590920"/>
            <a:ext cx="1905120" cy="18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924360" y="2610000"/>
            <a:ext cx="1866960" cy="19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34040" y="2428920"/>
            <a:ext cx="112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m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22000" y="3440160"/>
            <a:ext cx="143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4440" y="2647800"/>
            <a:ext cx="3390840" cy="360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14440" y="4800600"/>
            <a:ext cx="4857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4600" y="5359320"/>
            <a:ext cx="1263600" cy="1244520"/>
          </a:xfrm>
          <a:prstGeom prst="ellipse">
            <a:avLst/>
          </a:prstGeom>
          <a:solidFill>
            <a:srgbClr val="fafa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VHDL-AM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69760" y="3416400"/>
            <a:ext cx="10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en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56120" y="4508640"/>
            <a:ext cx="14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mage/v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40200" y="3298680"/>
            <a:ext cx="76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60040" y="3022560"/>
            <a:ext cx="47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54440" y="2727360"/>
            <a:ext cx="81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2960" y="4348080"/>
            <a:ext cx="14590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Languag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Design/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080" y="1967040"/>
            <a:ext cx="1600200" cy="115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Fault Mode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Test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Fault Iso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22280" y="3165480"/>
            <a:ext cx="654120" cy="1854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29400" y="3524400"/>
            <a:ext cx="158760" cy="634680"/>
          </a:xfrm>
          <a:prstGeom prst="line">
            <a:avLst/>
          </a:prstGeom>
          <a:ln w="50760">
            <a:solidFill>
              <a:srgbClr val="00ae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02720" y="3444840"/>
            <a:ext cx="158760" cy="635040"/>
          </a:xfrm>
          <a:prstGeom prst="line">
            <a:avLst/>
          </a:prstGeom>
          <a:ln w="50760">
            <a:solidFill>
              <a:srgbClr val="00ae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289640" y="3656160"/>
            <a:ext cx="158760" cy="634680"/>
          </a:xfrm>
          <a:prstGeom prst="line">
            <a:avLst/>
          </a:prstGeom>
          <a:ln w="50760">
            <a:solidFill>
              <a:srgbClr val="00ae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19680" y="1241280"/>
            <a:ext cx="158760" cy="635040"/>
          </a:xfrm>
          <a:prstGeom prst="line">
            <a:avLst/>
          </a:prstGeom>
          <a:ln w="50760">
            <a:solidFill>
              <a:srgbClr val="00ae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40200" y="1919160"/>
            <a:ext cx="158760" cy="635040"/>
          </a:xfrm>
          <a:prstGeom prst="line">
            <a:avLst/>
          </a:prstGeom>
          <a:ln w="50760">
            <a:solidFill>
              <a:srgbClr val="00ae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51320" y="1541520"/>
            <a:ext cx="158760" cy="635040"/>
          </a:xfrm>
          <a:prstGeom prst="line">
            <a:avLst/>
          </a:prstGeom>
          <a:ln w="50760">
            <a:solidFill>
              <a:srgbClr val="00ae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16680" y="4325760"/>
            <a:ext cx="28605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Military Electronic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(Part Obsolete Proble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(Life-Time Co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(Radiation-Har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(Clock-less Desig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(3-D Circu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70720" y="1995480"/>
            <a:ext cx="215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78600" y="1316160"/>
            <a:ext cx="225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ield 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23480" y="6031080"/>
            <a:ext cx="172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W/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5400" y="144936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W/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62080" y="4910040"/>
            <a:ext cx="1414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Languag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51240" y="5003640"/>
            <a:ext cx="1368360" cy="568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84480" y="5595840"/>
            <a:ext cx="175284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Analog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Model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3-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Clock-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16840" y="62596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rora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to define the success (!)of a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s of magnitude improvement (result-orien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able impact on DoD electronics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ve research &amp; technology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ing year’s emphasis: technology transfer &amp; impact demo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EM tasks shall report results and comparison on NeoCAD test cases on August 2002 PI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eliminary results to PI by the end of July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EM tasks shall define their own bench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-year funding will be merit-dr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ergy as a tea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ilestones are accompl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/No-Go Criteria (quarterly milesto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8720" y="174600"/>
            <a:ext cx="69595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om Dr. Anantha Krish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your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breakthrough you need to demonst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est cases and how Bowing can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nd when to interface with CoSMoS and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ep in mind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. 2002 first CoSMoS release   (==&gt; Misty/BM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uch your part can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2003 second CoSMoS release  (CoSMoS FD)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2002 review (Feb 2002 re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oCAD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eing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will come back to status and planning part at the end of da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8720" y="174600"/>
            <a:ext cx="69595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Questions for Everyone Last Review and This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-time Sub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erence and journal papers (pd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submission and publication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: supported by DARPA NeoCAD program under Grant No. 66001-01-1-8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point slide files of your presentations at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erly report (last day of each quarter): make sure fina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al thanks go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tt Davis, Scott Beling, Rod.. Dr. Mar (Orora), Dr. Snapp and Gary Nelson from Boeing on DoD electronic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anks to all for the hard work this quarter and for this review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8720" y="174600"/>
            <a:ext cx="69595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nagerial and Contractual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Objective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Major Accomplishments in Past Qu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Contractual Re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71440" y="2921040"/>
            <a:ext cx="8697960" cy="1290600"/>
            <a:chOff x="271440" y="2921040"/>
            <a:chExt cx="8697960" cy="1290600"/>
          </a:xfrm>
        </p:grpSpPr>
        <p:sp>
          <p:nvSpPr>
            <p:cNvPr id="115" name=""/>
            <p:cNvSpPr/>
            <p:nvPr/>
          </p:nvSpPr>
          <p:spPr>
            <a:xfrm>
              <a:off x="1160280" y="3098880"/>
              <a:ext cx="3769200" cy="98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wrence Livermore Natl. L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R. Shar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D. Wh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271440" y="3255840"/>
              <a:ext cx="75420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668840" y="3429000"/>
              <a:ext cx="4300560" cy="6411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M methods and EM abstr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M method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7560" y="2921040"/>
              <a:ext cx="799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6360" y="4211640"/>
              <a:ext cx="799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14240" y="268200"/>
            <a:ext cx="5508360" cy="7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oSMoS Senior Investigators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6000" y="5925960"/>
            <a:ext cx="8692920" cy="739800"/>
            <a:chOff x="216000" y="5925960"/>
            <a:chExt cx="8692920" cy="739800"/>
          </a:xfrm>
        </p:grpSpPr>
        <p:sp>
          <p:nvSpPr>
            <p:cNvPr id="122" name=""/>
            <p:cNvSpPr/>
            <p:nvPr/>
          </p:nvSpPr>
          <p:spPr>
            <a:xfrm>
              <a:off x="1165320" y="5925960"/>
              <a:ext cx="659916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chnical Engineer: Dr. J. Rockway, SSC - San Dieg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gram Manager:   Dr. A. Krishnan, DARPA/MTO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91440" y="5929200"/>
              <a:ext cx="7174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216000" y="6031080"/>
              <a:ext cx="985680" cy="4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195120" y="4219560"/>
            <a:ext cx="8756640" cy="987840"/>
            <a:chOff x="195120" y="4219560"/>
            <a:chExt cx="8756640" cy="987840"/>
          </a:xfrm>
        </p:grpSpPr>
        <p:grpSp>
          <p:nvGrpSpPr>
            <p:cNvPr id="126" name=""/>
            <p:cNvGrpSpPr/>
            <p:nvPr/>
          </p:nvGrpSpPr>
          <p:grpSpPr>
            <a:xfrm>
              <a:off x="195120" y="4554360"/>
              <a:ext cx="981000" cy="456840"/>
              <a:chOff x="195120" y="4554360"/>
              <a:chExt cx="981000" cy="456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95120" y="4554360"/>
                <a:ext cx="259560" cy="456840"/>
              </a:xfrm>
              <a:custGeom>
                <a:avLst/>
                <a:gdLst/>
                <a:ahLst/>
                <a:rect l="l" t="t" r="r" b="b"/>
                <a:pathLst>
                  <a:path w="4475" h="3639">
                    <a:moveTo>
                      <a:pt x="2454" y="2210"/>
                    </a:moveTo>
                    <a:lnTo>
                      <a:pt x="2468" y="2179"/>
                    </a:lnTo>
                    <a:lnTo>
                      <a:pt x="2481" y="2148"/>
                    </a:lnTo>
                    <a:lnTo>
                      <a:pt x="2493" y="2117"/>
                    </a:lnTo>
                    <a:lnTo>
                      <a:pt x="2505" y="2084"/>
                    </a:lnTo>
                    <a:lnTo>
                      <a:pt x="2516" y="2052"/>
                    </a:lnTo>
                    <a:lnTo>
                      <a:pt x="2526" y="2019"/>
                    </a:lnTo>
                    <a:lnTo>
                      <a:pt x="2534" y="1986"/>
                    </a:lnTo>
                    <a:lnTo>
                      <a:pt x="2543" y="1952"/>
                    </a:lnTo>
                    <a:lnTo>
                      <a:pt x="2550" y="1919"/>
                    </a:lnTo>
                    <a:lnTo>
                      <a:pt x="2557" y="1884"/>
                    </a:lnTo>
                    <a:lnTo>
                      <a:pt x="2562" y="1851"/>
                    </a:lnTo>
                    <a:lnTo>
                      <a:pt x="2567" y="1815"/>
                    </a:lnTo>
                    <a:lnTo>
                      <a:pt x="2570" y="1781"/>
                    </a:lnTo>
                    <a:lnTo>
                      <a:pt x="2572" y="1745"/>
                    </a:lnTo>
                    <a:lnTo>
                      <a:pt x="2575" y="1710"/>
                    </a:lnTo>
                    <a:lnTo>
                      <a:pt x="2575" y="1674"/>
                    </a:lnTo>
                    <a:lnTo>
                      <a:pt x="2575" y="1632"/>
                    </a:lnTo>
                    <a:lnTo>
                      <a:pt x="2572" y="1592"/>
                    </a:lnTo>
                    <a:lnTo>
                      <a:pt x="2569" y="1552"/>
                    </a:lnTo>
                    <a:lnTo>
                      <a:pt x="2564" y="1511"/>
                    </a:lnTo>
                    <a:lnTo>
                      <a:pt x="2559" y="1471"/>
                    </a:lnTo>
                    <a:lnTo>
                      <a:pt x="2551" y="1432"/>
                    </a:lnTo>
                    <a:lnTo>
                      <a:pt x="2543" y="1393"/>
                    </a:lnTo>
                    <a:lnTo>
                      <a:pt x="2533" y="1354"/>
                    </a:lnTo>
                    <a:lnTo>
                      <a:pt x="2523" y="1317"/>
                    </a:lnTo>
                    <a:lnTo>
                      <a:pt x="2511" y="1279"/>
                    </a:lnTo>
                    <a:lnTo>
                      <a:pt x="2498" y="1242"/>
                    </a:lnTo>
                    <a:lnTo>
                      <a:pt x="2485" y="1206"/>
                    </a:lnTo>
                    <a:lnTo>
                      <a:pt x="2470" y="1169"/>
                    </a:lnTo>
                    <a:lnTo>
                      <a:pt x="2453" y="1134"/>
                    </a:lnTo>
                    <a:lnTo>
                      <a:pt x="2436" y="1099"/>
                    </a:lnTo>
                    <a:lnTo>
                      <a:pt x="2418" y="1065"/>
                    </a:lnTo>
                    <a:lnTo>
                      <a:pt x="2398" y="1031"/>
                    </a:lnTo>
                    <a:lnTo>
                      <a:pt x="2378" y="999"/>
                    </a:lnTo>
                    <a:lnTo>
                      <a:pt x="2356" y="966"/>
                    </a:lnTo>
                    <a:lnTo>
                      <a:pt x="2334" y="935"/>
                    </a:lnTo>
                    <a:lnTo>
                      <a:pt x="2311" y="904"/>
                    </a:lnTo>
                    <a:lnTo>
                      <a:pt x="2288" y="873"/>
                    </a:lnTo>
                    <a:lnTo>
                      <a:pt x="2262" y="844"/>
                    </a:lnTo>
                    <a:lnTo>
                      <a:pt x="2237" y="816"/>
                    </a:lnTo>
                    <a:lnTo>
                      <a:pt x="2210" y="787"/>
                    </a:lnTo>
                    <a:lnTo>
                      <a:pt x="2183" y="760"/>
                    </a:lnTo>
                    <a:lnTo>
                      <a:pt x="2154" y="734"/>
                    </a:lnTo>
                    <a:lnTo>
                      <a:pt x="2125" y="709"/>
                    </a:lnTo>
                    <a:lnTo>
                      <a:pt x="2095" y="684"/>
                    </a:lnTo>
                    <a:lnTo>
                      <a:pt x="2064" y="661"/>
                    </a:lnTo>
                    <a:lnTo>
                      <a:pt x="2034" y="638"/>
                    </a:lnTo>
                    <a:lnTo>
                      <a:pt x="2001" y="616"/>
                    </a:lnTo>
                    <a:lnTo>
                      <a:pt x="2079" y="538"/>
                    </a:lnTo>
                    <a:lnTo>
                      <a:pt x="2159" y="459"/>
                    </a:lnTo>
                    <a:lnTo>
                      <a:pt x="2240" y="381"/>
                    </a:lnTo>
                    <a:lnTo>
                      <a:pt x="2323" y="303"/>
                    </a:lnTo>
                    <a:lnTo>
                      <a:pt x="2406" y="227"/>
                    </a:lnTo>
                    <a:lnTo>
                      <a:pt x="2492" y="151"/>
                    </a:lnTo>
                    <a:lnTo>
                      <a:pt x="2579" y="75"/>
                    </a:lnTo>
                    <a:lnTo>
                      <a:pt x="2668" y="0"/>
                    </a:lnTo>
                    <a:lnTo>
                      <a:pt x="2615" y="30"/>
                    </a:lnTo>
                    <a:lnTo>
                      <a:pt x="2564" y="62"/>
                    </a:lnTo>
                    <a:lnTo>
                      <a:pt x="2512" y="93"/>
                    </a:lnTo>
                    <a:lnTo>
                      <a:pt x="2461" y="125"/>
                    </a:lnTo>
                    <a:lnTo>
                      <a:pt x="2412" y="159"/>
                    </a:lnTo>
                    <a:lnTo>
                      <a:pt x="2361" y="191"/>
                    </a:lnTo>
                    <a:lnTo>
                      <a:pt x="2311" y="226"/>
                    </a:lnTo>
                    <a:lnTo>
                      <a:pt x="2262" y="259"/>
                    </a:lnTo>
                    <a:lnTo>
                      <a:pt x="2214" y="294"/>
                    </a:lnTo>
                    <a:lnTo>
                      <a:pt x="2165" y="329"/>
                    </a:lnTo>
                    <a:lnTo>
                      <a:pt x="2117" y="365"/>
                    </a:lnTo>
                    <a:lnTo>
                      <a:pt x="2071" y="401"/>
                    </a:lnTo>
                    <a:lnTo>
                      <a:pt x="2023" y="437"/>
                    </a:lnTo>
                    <a:lnTo>
                      <a:pt x="1976" y="474"/>
                    </a:lnTo>
                    <a:lnTo>
                      <a:pt x="1931" y="511"/>
                    </a:lnTo>
                    <a:lnTo>
                      <a:pt x="1885" y="548"/>
                    </a:lnTo>
                    <a:lnTo>
                      <a:pt x="1852" y="531"/>
                    </a:lnTo>
                    <a:lnTo>
                      <a:pt x="1817" y="516"/>
                    </a:lnTo>
                    <a:lnTo>
                      <a:pt x="1782" y="501"/>
                    </a:lnTo>
                    <a:lnTo>
                      <a:pt x="1747" y="486"/>
                    </a:lnTo>
                    <a:lnTo>
                      <a:pt x="1711" y="474"/>
                    </a:lnTo>
                    <a:lnTo>
                      <a:pt x="1675" y="461"/>
                    </a:lnTo>
                    <a:lnTo>
                      <a:pt x="1638" y="451"/>
                    </a:lnTo>
                    <a:lnTo>
                      <a:pt x="1601" y="440"/>
                    </a:lnTo>
                    <a:lnTo>
                      <a:pt x="1563" y="432"/>
                    </a:lnTo>
                    <a:lnTo>
                      <a:pt x="1524" y="425"/>
                    </a:lnTo>
                    <a:lnTo>
                      <a:pt x="1485" y="417"/>
                    </a:lnTo>
                    <a:lnTo>
                      <a:pt x="1447" y="412"/>
                    </a:lnTo>
                    <a:lnTo>
                      <a:pt x="1407" y="408"/>
                    </a:lnTo>
                    <a:lnTo>
                      <a:pt x="1368" y="405"/>
                    </a:lnTo>
                    <a:lnTo>
                      <a:pt x="1328" y="403"/>
                    </a:lnTo>
                    <a:lnTo>
                      <a:pt x="1287" y="403"/>
                    </a:lnTo>
                    <a:lnTo>
                      <a:pt x="1222" y="404"/>
                    </a:lnTo>
                    <a:lnTo>
                      <a:pt x="1156" y="409"/>
                    </a:lnTo>
                    <a:lnTo>
                      <a:pt x="1091" y="417"/>
                    </a:lnTo>
                    <a:lnTo>
                      <a:pt x="1028" y="429"/>
                    </a:lnTo>
                    <a:lnTo>
                      <a:pt x="965" y="442"/>
                    </a:lnTo>
                    <a:lnTo>
                      <a:pt x="904" y="459"/>
                    </a:lnTo>
                    <a:lnTo>
                      <a:pt x="845" y="480"/>
                    </a:lnTo>
                    <a:lnTo>
                      <a:pt x="787" y="502"/>
                    </a:lnTo>
                    <a:lnTo>
                      <a:pt x="729" y="528"/>
                    </a:lnTo>
                    <a:lnTo>
                      <a:pt x="673" y="556"/>
                    </a:lnTo>
                    <a:lnTo>
                      <a:pt x="619" y="587"/>
                    </a:lnTo>
                    <a:lnTo>
                      <a:pt x="567" y="620"/>
                    </a:lnTo>
                    <a:lnTo>
                      <a:pt x="517" y="655"/>
                    </a:lnTo>
                    <a:lnTo>
                      <a:pt x="468" y="693"/>
                    </a:lnTo>
                    <a:lnTo>
                      <a:pt x="421" y="733"/>
                    </a:lnTo>
                    <a:lnTo>
                      <a:pt x="377" y="775"/>
                    </a:lnTo>
                    <a:lnTo>
                      <a:pt x="335" y="819"/>
                    </a:lnTo>
                    <a:lnTo>
                      <a:pt x="294" y="865"/>
                    </a:lnTo>
                    <a:lnTo>
                      <a:pt x="255" y="913"/>
                    </a:lnTo>
                    <a:lnTo>
                      <a:pt x="220" y="963"/>
                    </a:lnTo>
                    <a:lnTo>
                      <a:pt x="186" y="1014"/>
                    </a:lnTo>
                    <a:lnTo>
                      <a:pt x="156" y="1068"/>
                    </a:lnTo>
                    <a:lnTo>
                      <a:pt x="127" y="1123"/>
                    </a:lnTo>
                    <a:lnTo>
                      <a:pt x="102" y="1180"/>
                    </a:lnTo>
                    <a:lnTo>
                      <a:pt x="78" y="1237"/>
                    </a:lnTo>
                    <a:lnTo>
                      <a:pt x="58" y="1296"/>
                    </a:lnTo>
                    <a:lnTo>
                      <a:pt x="40" y="1356"/>
                    </a:lnTo>
                    <a:lnTo>
                      <a:pt x="26" y="1418"/>
                    </a:lnTo>
                    <a:lnTo>
                      <a:pt x="15" y="1481"/>
                    </a:lnTo>
                    <a:lnTo>
                      <a:pt x="6" y="1545"/>
                    </a:lnTo>
                    <a:lnTo>
                      <a:pt x="2" y="1608"/>
                    </a:lnTo>
                    <a:lnTo>
                      <a:pt x="0" y="1674"/>
                    </a:lnTo>
                    <a:lnTo>
                      <a:pt x="0" y="1703"/>
                    </a:lnTo>
                    <a:lnTo>
                      <a:pt x="1" y="1733"/>
                    </a:lnTo>
                    <a:lnTo>
                      <a:pt x="3" y="1762"/>
                    </a:lnTo>
                    <a:lnTo>
                      <a:pt x="5" y="1791"/>
                    </a:lnTo>
                    <a:lnTo>
                      <a:pt x="8" y="1821"/>
                    </a:lnTo>
                    <a:lnTo>
                      <a:pt x="12" y="1850"/>
                    </a:lnTo>
                    <a:lnTo>
                      <a:pt x="17" y="1878"/>
                    </a:lnTo>
                    <a:lnTo>
                      <a:pt x="21" y="1906"/>
                    </a:lnTo>
                    <a:lnTo>
                      <a:pt x="28" y="1935"/>
                    </a:lnTo>
                    <a:lnTo>
                      <a:pt x="33" y="1962"/>
                    </a:lnTo>
                    <a:lnTo>
                      <a:pt x="40" y="1990"/>
                    </a:lnTo>
                    <a:lnTo>
                      <a:pt x="48" y="2017"/>
                    </a:lnTo>
                    <a:lnTo>
                      <a:pt x="56" y="2044"/>
                    </a:lnTo>
                    <a:lnTo>
                      <a:pt x="65" y="2072"/>
                    </a:lnTo>
                    <a:lnTo>
                      <a:pt x="74" y="2098"/>
                    </a:lnTo>
                    <a:lnTo>
                      <a:pt x="84" y="2124"/>
                    </a:lnTo>
                    <a:lnTo>
                      <a:pt x="94" y="2150"/>
                    </a:lnTo>
                    <a:lnTo>
                      <a:pt x="105" y="2176"/>
                    </a:lnTo>
                    <a:lnTo>
                      <a:pt x="116" y="2201"/>
                    </a:lnTo>
                    <a:lnTo>
                      <a:pt x="128" y="2227"/>
                    </a:lnTo>
                    <a:lnTo>
                      <a:pt x="141" y="2251"/>
                    </a:lnTo>
                    <a:lnTo>
                      <a:pt x="155" y="2277"/>
                    </a:lnTo>
                    <a:lnTo>
                      <a:pt x="167" y="2301"/>
                    </a:lnTo>
                    <a:lnTo>
                      <a:pt x="182" y="2325"/>
                    </a:lnTo>
                    <a:lnTo>
                      <a:pt x="197" y="2349"/>
                    </a:lnTo>
                    <a:lnTo>
                      <a:pt x="212" y="2372"/>
                    </a:lnTo>
                    <a:lnTo>
                      <a:pt x="228" y="2395"/>
                    </a:lnTo>
                    <a:lnTo>
                      <a:pt x="243" y="2417"/>
                    </a:lnTo>
                    <a:lnTo>
                      <a:pt x="260" y="2440"/>
                    </a:lnTo>
                    <a:lnTo>
                      <a:pt x="277" y="2461"/>
                    </a:lnTo>
                    <a:lnTo>
                      <a:pt x="295" y="2483"/>
                    </a:lnTo>
                    <a:lnTo>
                      <a:pt x="313" y="2503"/>
                    </a:lnTo>
                    <a:lnTo>
                      <a:pt x="290" y="2553"/>
                    </a:lnTo>
                    <a:lnTo>
                      <a:pt x="269" y="2601"/>
                    </a:lnTo>
                    <a:lnTo>
                      <a:pt x="249" y="2649"/>
                    </a:lnTo>
                    <a:lnTo>
                      <a:pt x="230" y="2696"/>
                    </a:lnTo>
                    <a:lnTo>
                      <a:pt x="213" y="2742"/>
                    </a:lnTo>
                    <a:lnTo>
                      <a:pt x="196" y="2788"/>
                    </a:lnTo>
                    <a:lnTo>
                      <a:pt x="181" y="2833"/>
                    </a:lnTo>
                    <a:lnTo>
                      <a:pt x="167" y="2877"/>
                    </a:lnTo>
                    <a:lnTo>
                      <a:pt x="155" y="2920"/>
                    </a:lnTo>
                    <a:lnTo>
                      <a:pt x="143" y="2962"/>
                    </a:lnTo>
                    <a:lnTo>
                      <a:pt x="132" y="3003"/>
                    </a:lnTo>
                    <a:lnTo>
                      <a:pt x="124" y="3043"/>
                    </a:lnTo>
                    <a:lnTo>
                      <a:pt x="116" y="3083"/>
                    </a:lnTo>
                    <a:lnTo>
                      <a:pt x="110" y="3120"/>
                    </a:lnTo>
                    <a:lnTo>
                      <a:pt x="106" y="3158"/>
                    </a:lnTo>
                    <a:lnTo>
                      <a:pt x="103" y="3194"/>
                    </a:lnTo>
                    <a:lnTo>
                      <a:pt x="101" y="3229"/>
                    </a:lnTo>
                    <a:lnTo>
                      <a:pt x="100" y="3263"/>
                    </a:lnTo>
                    <a:lnTo>
                      <a:pt x="101" y="3295"/>
                    </a:lnTo>
                    <a:lnTo>
                      <a:pt x="103" y="3326"/>
                    </a:lnTo>
                    <a:lnTo>
                      <a:pt x="106" y="3357"/>
                    </a:lnTo>
                    <a:lnTo>
                      <a:pt x="110" y="3386"/>
                    </a:lnTo>
                    <a:lnTo>
                      <a:pt x="116" y="3413"/>
                    </a:lnTo>
                    <a:lnTo>
                      <a:pt x="125" y="3439"/>
                    </a:lnTo>
                    <a:lnTo>
                      <a:pt x="133" y="3465"/>
                    </a:lnTo>
                    <a:lnTo>
                      <a:pt x="144" y="3488"/>
                    </a:lnTo>
                    <a:lnTo>
                      <a:pt x="157" y="3509"/>
                    </a:lnTo>
                    <a:lnTo>
                      <a:pt x="170" y="3530"/>
                    </a:lnTo>
                    <a:lnTo>
                      <a:pt x="185" y="3549"/>
                    </a:lnTo>
                    <a:lnTo>
                      <a:pt x="202" y="3567"/>
                    </a:lnTo>
                    <a:lnTo>
                      <a:pt x="220" y="3583"/>
                    </a:lnTo>
                    <a:lnTo>
                      <a:pt x="239" y="3596"/>
                    </a:lnTo>
                    <a:lnTo>
                      <a:pt x="263" y="3610"/>
                    </a:lnTo>
                    <a:lnTo>
                      <a:pt x="286" y="3620"/>
                    </a:lnTo>
                    <a:lnTo>
                      <a:pt x="311" y="3629"/>
                    </a:lnTo>
                    <a:lnTo>
                      <a:pt x="339" y="3635"/>
                    </a:lnTo>
                    <a:lnTo>
                      <a:pt x="366" y="3638"/>
                    </a:lnTo>
                    <a:lnTo>
                      <a:pt x="396" y="3639"/>
                    </a:lnTo>
                    <a:lnTo>
                      <a:pt x="427" y="3638"/>
                    </a:lnTo>
                    <a:lnTo>
                      <a:pt x="458" y="3635"/>
                    </a:lnTo>
                    <a:lnTo>
                      <a:pt x="490" y="3630"/>
                    </a:lnTo>
                    <a:lnTo>
                      <a:pt x="523" y="3622"/>
                    </a:lnTo>
                    <a:lnTo>
                      <a:pt x="557" y="3613"/>
                    </a:lnTo>
                    <a:lnTo>
                      <a:pt x="592" y="3602"/>
                    </a:lnTo>
                    <a:lnTo>
                      <a:pt x="627" y="3588"/>
                    </a:lnTo>
                    <a:lnTo>
                      <a:pt x="662" y="3572"/>
                    </a:lnTo>
                    <a:lnTo>
                      <a:pt x="698" y="3554"/>
                    </a:lnTo>
                    <a:lnTo>
                      <a:pt x="734" y="3536"/>
                    </a:lnTo>
                    <a:lnTo>
                      <a:pt x="771" y="3515"/>
                    </a:lnTo>
                    <a:lnTo>
                      <a:pt x="807" y="3492"/>
                    </a:lnTo>
                    <a:lnTo>
                      <a:pt x="844" y="3468"/>
                    </a:lnTo>
                    <a:lnTo>
                      <a:pt x="880" y="3442"/>
                    </a:lnTo>
                    <a:lnTo>
                      <a:pt x="916" y="3414"/>
                    </a:lnTo>
                    <a:lnTo>
                      <a:pt x="953" y="3385"/>
                    </a:lnTo>
                    <a:lnTo>
                      <a:pt x="988" y="3355"/>
                    </a:lnTo>
                    <a:lnTo>
                      <a:pt x="1024" y="3322"/>
                    </a:lnTo>
                    <a:lnTo>
                      <a:pt x="1059" y="3289"/>
                    </a:lnTo>
                    <a:lnTo>
                      <a:pt x="1093" y="3254"/>
                    </a:lnTo>
                    <a:lnTo>
                      <a:pt x="1126" y="3219"/>
                    </a:lnTo>
                    <a:lnTo>
                      <a:pt x="1159" y="3181"/>
                    </a:lnTo>
                    <a:lnTo>
                      <a:pt x="1191" y="3142"/>
                    </a:lnTo>
                    <a:lnTo>
                      <a:pt x="1223" y="3103"/>
                    </a:lnTo>
                    <a:lnTo>
                      <a:pt x="1252" y="3062"/>
                    </a:lnTo>
                    <a:lnTo>
                      <a:pt x="1282" y="3020"/>
                    </a:lnTo>
                    <a:lnTo>
                      <a:pt x="1261" y="3038"/>
                    </a:lnTo>
                    <a:lnTo>
                      <a:pt x="1205" y="3084"/>
                    </a:lnTo>
                    <a:lnTo>
                      <a:pt x="1164" y="3114"/>
                    </a:lnTo>
                    <a:lnTo>
                      <a:pt x="1119" y="3148"/>
                    </a:lnTo>
                    <a:lnTo>
                      <a:pt x="1069" y="3182"/>
                    </a:lnTo>
                    <a:lnTo>
                      <a:pt x="1014" y="3218"/>
                    </a:lnTo>
                    <a:lnTo>
                      <a:pt x="987" y="3234"/>
                    </a:lnTo>
                    <a:lnTo>
                      <a:pt x="957" y="3251"/>
                    </a:lnTo>
                    <a:lnTo>
                      <a:pt x="927" y="3267"/>
                    </a:lnTo>
                    <a:lnTo>
                      <a:pt x="898" y="3283"/>
                    </a:lnTo>
                    <a:lnTo>
                      <a:pt x="867" y="3297"/>
                    </a:lnTo>
                    <a:lnTo>
                      <a:pt x="837" y="3311"/>
                    </a:lnTo>
                    <a:lnTo>
                      <a:pt x="807" y="3322"/>
                    </a:lnTo>
                    <a:lnTo>
                      <a:pt x="777" y="3333"/>
                    </a:lnTo>
                    <a:lnTo>
                      <a:pt x="746" y="3341"/>
                    </a:lnTo>
                    <a:lnTo>
                      <a:pt x="717" y="3348"/>
                    </a:lnTo>
                    <a:lnTo>
                      <a:pt x="688" y="3354"/>
                    </a:lnTo>
                    <a:lnTo>
                      <a:pt x="660" y="3356"/>
                    </a:lnTo>
                    <a:lnTo>
                      <a:pt x="632" y="3357"/>
                    </a:lnTo>
                    <a:lnTo>
                      <a:pt x="606" y="3355"/>
                    </a:lnTo>
                    <a:lnTo>
                      <a:pt x="579" y="3349"/>
                    </a:lnTo>
                    <a:lnTo>
                      <a:pt x="555" y="3342"/>
                    </a:lnTo>
                    <a:lnTo>
                      <a:pt x="540" y="3336"/>
                    </a:lnTo>
                    <a:lnTo>
                      <a:pt x="526" y="3330"/>
                    </a:lnTo>
                    <a:lnTo>
                      <a:pt x="514" y="3321"/>
                    </a:lnTo>
                    <a:lnTo>
                      <a:pt x="503" y="3312"/>
                    </a:lnTo>
                    <a:lnTo>
                      <a:pt x="491" y="3301"/>
                    </a:lnTo>
                    <a:lnTo>
                      <a:pt x="482" y="3291"/>
                    </a:lnTo>
                    <a:lnTo>
                      <a:pt x="473" y="3278"/>
                    </a:lnTo>
                    <a:lnTo>
                      <a:pt x="465" y="3265"/>
                    </a:lnTo>
                    <a:lnTo>
                      <a:pt x="458" y="3251"/>
                    </a:lnTo>
                    <a:lnTo>
                      <a:pt x="452" y="3237"/>
                    </a:lnTo>
                    <a:lnTo>
                      <a:pt x="447" y="3220"/>
                    </a:lnTo>
                    <a:lnTo>
                      <a:pt x="443" y="3203"/>
                    </a:lnTo>
                    <a:lnTo>
                      <a:pt x="438" y="3185"/>
                    </a:lnTo>
                    <a:lnTo>
                      <a:pt x="436" y="3166"/>
                    </a:lnTo>
                    <a:lnTo>
                      <a:pt x="434" y="3148"/>
                    </a:lnTo>
                    <a:lnTo>
                      <a:pt x="433" y="3127"/>
                    </a:lnTo>
                    <a:lnTo>
                      <a:pt x="433" y="3106"/>
                    </a:lnTo>
                    <a:lnTo>
                      <a:pt x="433" y="3084"/>
                    </a:lnTo>
                    <a:lnTo>
                      <a:pt x="435" y="3061"/>
                    </a:lnTo>
                    <a:lnTo>
                      <a:pt x="437" y="3038"/>
                    </a:lnTo>
                    <a:lnTo>
                      <a:pt x="440" y="3014"/>
                    </a:lnTo>
                    <a:lnTo>
                      <a:pt x="445" y="2989"/>
                    </a:lnTo>
                    <a:lnTo>
                      <a:pt x="449" y="2963"/>
                    </a:lnTo>
                    <a:lnTo>
                      <a:pt x="455" y="2936"/>
                    </a:lnTo>
                    <a:lnTo>
                      <a:pt x="462" y="2909"/>
                    </a:lnTo>
                    <a:lnTo>
                      <a:pt x="469" y="2881"/>
                    </a:lnTo>
                    <a:lnTo>
                      <a:pt x="476" y="2852"/>
                    </a:lnTo>
                    <a:lnTo>
                      <a:pt x="485" y="2822"/>
                    </a:lnTo>
                    <a:lnTo>
                      <a:pt x="505" y="2763"/>
                    </a:lnTo>
                    <a:lnTo>
                      <a:pt x="528" y="2699"/>
                    </a:lnTo>
                    <a:lnTo>
                      <a:pt x="568" y="2727"/>
                    </a:lnTo>
                    <a:lnTo>
                      <a:pt x="610" y="2754"/>
                    </a:lnTo>
                    <a:lnTo>
                      <a:pt x="653" y="2780"/>
                    </a:lnTo>
                    <a:lnTo>
                      <a:pt x="697" y="2803"/>
                    </a:lnTo>
                    <a:lnTo>
                      <a:pt x="741" y="2825"/>
                    </a:lnTo>
                    <a:lnTo>
                      <a:pt x="787" y="2845"/>
                    </a:lnTo>
                    <a:lnTo>
                      <a:pt x="833" y="2863"/>
                    </a:lnTo>
                    <a:lnTo>
                      <a:pt x="881" y="2880"/>
                    </a:lnTo>
                    <a:lnTo>
                      <a:pt x="905" y="2888"/>
                    </a:lnTo>
                    <a:lnTo>
                      <a:pt x="929" y="2896"/>
                    </a:lnTo>
                    <a:lnTo>
                      <a:pt x="954" y="2902"/>
                    </a:lnTo>
                    <a:lnTo>
                      <a:pt x="978" y="2908"/>
                    </a:lnTo>
                    <a:lnTo>
                      <a:pt x="1003" y="2914"/>
                    </a:lnTo>
                    <a:lnTo>
                      <a:pt x="1028" y="2920"/>
                    </a:lnTo>
                    <a:lnTo>
                      <a:pt x="1053" y="2925"/>
                    </a:lnTo>
                    <a:lnTo>
                      <a:pt x="1079" y="2929"/>
                    </a:lnTo>
                    <a:lnTo>
                      <a:pt x="1104" y="2933"/>
                    </a:lnTo>
                    <a:lnTo>
                      <a:pt x="1130" y="2936"/>
                    </a:lnTo>
                    <a:lnTo>
                      <a:pt x="1156" y="2940"/>
                    </a:lnTo>
                    <a:lnTo>
                      <a:pt x="1181" y="2942"/>
                    </a:lnTo>
                    <a:lnTo>
                      <a:pt x="1208" y="2944"/>
                    </a:lnTo>
                    <a:lnTo>
                      <a:pt x="1234" y="2945"/>
                    </a:lnTo>
                    <a:lnTo>
                      <a:pt x="1261" y="2946"/>
                    </a:lnTo>
                    <a:lnTo>
                      <a:pt x="1287" y="2946"/>
                    </a:lnTo>
                    <a:lnTo>
                      <a:pt x="1320" y="2946"/>
                    </a:lnTo>
                    <a:lnTo>
                      <a:pt x="1353" y="2944"/>
                    </a:lnTo>
                    <a:lnTo>
                      <a:pt x="1386" y="2942"/>
                    </a:lnTo>
                    <a:lnTo>
                      <a:pt x="1417" y="2940"/>
                    </a:lnTo>
                    <a:lnTo>
                      <a:pt x="1450" y="2935"/>
                    </a:lnTo>
                    <a:lnTo>
                      <a:pt x="1482" y="2931"/>
                    </a:lnTo>
                    <a:lnTo>
                      <a:pt x="1514" y="2926"/>
                    </a:lnTo>
                    <a:lnTo>
                      <a:pt x="1545" y="2921"/>
                    </a:lnTo>
                    <a:lnTo>
                      <a:pt x="1575" y="2913"/>
                    </a:lnTo>
                    <a:lnTo>
                      <a:pt x="1607" y="2906"/>
                    </a:lnTo>
                    <a:lnTo>
                      <a:pt x="1637" y="2898"/>
                    </a:lnTo>
                    <a:lnTo>
                      <a:pt x="1667" y="2889"/>
                    </a:lnTo>
                    <a:lnTo>
                      <a:pt x="1697" y="2880"/>
                    </a:lnTo>
                    <a:lnTo>
                      <a:pt x="1727" y="2869"/>
                    </a:lnTo>
                    <a:lnTo>
                      <a:pt x="1756" y="2859"/>
                    </a:lnTo>
                    <a:lnTo>
                      <a:pt x="1785" y="2848"/>
                    </a:lnTo>
                    <a:lnTo>
                      <a:pt x="1813" y="2835"/>
                    </a:lnTo>
                    <a:lnTo>
                      <a:pt x="1841" y="2822"/>
                    </a:lnTo>
                    <a:lnTo>
                      <a:pt x="1868" y="2809"/>
                    </a:lnTo>
                    <a:lnTo>
                      <a:pt x="1896" y="2794"/>
                    </a:lnTo>
                    <a:lnTo>
                      <a:pt x="1924" y="2780"/>
                    </a:lnTo>
                    <a:lnTo>
                      <a:pt x="1950" y="2764"/>
                    </a:lnTo>
                    <a:lnTo>
                      <a:pt x="1976" y="2748"/>
                    </a:lnTo>
                    <a:lnTo>
                      <a:pt x="2002" y="2731"/>
                    </a:lnTo>
                    <a:lnTo>
                      <a:pt x="2027" y="2715"/>
                    </a:lnTo>
                    <a:lnTo>
                      <a:pt x="2053" y="2697"/>
                    </a:lnTo>
                    <a:lnTo>
                      <a:pt x="2077" y="2678"/>
                    </a:lnTo>
                    <a:lnTo>
                      <a:pt x="2100" y="2659"/>
                    </a:lnTo>
                    <a:lnTo>
                      <a:pt x="2125" y="2640"/>
                    </a:lnTo>
                    <a:lnTo>
                      <a:pt x="2147" y="2620"/>
                    </a:lnTo>
                    <a:lnTo>
                      <a:pt x="2170" y="2600"/>
                    </a:lnTo>
                    <a:lnTo>
                      <a:pt x="2192" y="2579"/>
                    </a:lnTo>
                    <a:lnTo>
                      <a:pt x="2238" y="2663"/>
                    </a:lnTo>
                    <a:lnTo>
                      <a:pt x="2355" y="2655"/>
                    </a:lnTo>
                    <a:lnTo>
                      <a:pt x="2495" y="2647"/>
                    </a:lnTo>
                    <a:lnTo>
                      <a:pt x="2653" y="2638"/>
                    </a:lnTo>
                    <a:lnTo>
                      <a:pt x="2824" y="2631"/>
                    </a:lnTo>
                    <a:lnTo>
                      <a:pt x="3192" y="2616"/>
                    </a:lnTo>
                    <a:lnTo>
                      <a:pt x="3567" y="2603"/>
                    </a:lnTo>
                    <a:lnTo>
                      <a:pt x="3915" y="2591"/>
                    </a:lnTo>
                    <a:lnTo>
                      <a:pt x="4204" y="2583"/>
                    </a:lnTo>
                    <a:lnTo>
                      <a:pt x="4402" y="2577"/>
                    </a:lnTo>
                    <a:lnTo>
                      <a:pt x="4475" y="2575"/>
                    </a:lnTo>
                    <a:lnTo>
                      <a:pt x="4472" y="2568"/>
                    </a:lnTo>
                    <a:lnTo>
                      <a:pt x="4462" y="2562"/>
                    </a:lnTo>
                    <a:lnTo>
                      <a:pt x="4446" y="2556"/>
                    </a:lnTo>
                    <a:lnTo>
                      <a:pt x="4425" y="2552"/>
                    </a:lnTo>
                    <a:lnTo>
                      <a:pt x="4399" y="2546"/>
                    </a:lnTo>
                    <a:lnTo>
                      <a:pt x="4366" y="2542"/>
                    </a:lnTo>
                    <a:lnTo>
                      <a:pt x="4329" y="2539"/>
                    </a:lnTo>
                    <a:lnTo>
                      <a:pt x="4286" y="2535"/>
                    </a:lnTo>
                    <a:lnTo>
                      <a:pt x="4075" y="2519"/>
                    </a:lnTo>
                    <a:lnTo>
                      <a:pt x="3806" y="2496"/>
                    </a:lnTo>
                    <a:lnTo>
                      <a:pt x="3731" y="2489"/>
                    </a:lnTo>
                    <a:lnTo>
                      <a:pt x="3653" y="2482"/>
                    </a:lnTo>
                    <a:lnTo>
                      <a:pt x="3574" y="2472"/>
                    </a:lnTo>
                    <a:lnTo>
                      <a:pt x="3493" y="2462"/>
                    </a:lnTo>
                    <a:lnTo>
                      <a:pt x="3410" y="2450"/>
                    </a:lnTo>
                    <a:lnTo>
                      <a:pt x="3326" y="2437"/>
                    </a:lnTo>
                    <a:lnTo>
                      <a:pt x="3240" y="2423"/>
                    </a:lnTo>
                    <a:lnTo>
                      <a:pt x="3154" y="2406"/>
                    </a:lnTo>
                    <a:lnTo>
                      <a:pt x="3066" y="2388"/>
                    </a:lnTo>
                    <a:lnTo>
                      <a:pt x="2978" y="2370"/>
                    </a:lnTo>
                    <a:lnTo>
                      <a:pt x="2890" y="2349"/>
                    </a:lnTo>
                    <a:lnTo>
                      <a:pt x="2802" y="2325"/>
                    </a:lnTo>
                    <a:lnTo>
                      <a:pt x="2714" y="2300"/>
                    </a:lnTo>
                    <a:lnTo>
                      <a:pt x="2626" y="2272"/>
                    </a:lnTo>
                    <a:lnTo>
                      <a:pt x="2540" y="2242"/>
                    </a:lnTo>
                    <a:lnTo>
                      <a:pt x="2454" y="2210"/>
                    </a:lnTo>
                    <a:close/>
                    <a:moveTo>
                      <a:pt x="359" y="2408"/>
                    </a:moveTo>
                    <a:lnTo>
                      <a:pt x="329" y="2371"/>
                    </a:lnTo>
                    <a:lnTo>
                      <a:pt x="301" y="2331"/>
                    </a:lnTo>
                    <a:lnTo>
                      <a:pt x="287" y="2311"/>
                    </a:lnTo>
                    <a:lnTo>
                      <a:pt x="274" y="2290"/>
                    </a:lnTo>
                    <a:lnTo>
                      <a:pt x="261" y="2269"/>
                    </a:lnTo>
                    <a:lnTo>
                      <a:pt x="249" y="2248"/>
                    </a:lnTo>
                    <a:lnTo>
                      <a:pt x="225" y="2205"/>
                    </a:lnTo>
                    <a:lnTo>
                      <a:pt x="204" y="2162"/>
                    </a:lnTo>
                    <a:lnTo>
                      <a:pt x="184" y="2117"/>
                    </a:lnTo>
                    <a:lnTo>
                      <a:pt x="167" y="2071"/>
                    </a:lnTo>
                    <a:lnTo>
                      <a:pt x="159" y="2047"/>
                    </a:lnTo>
                    <a:lnTo>
                      <a:pt x="150" y="2023"/>
                    </a:lnTo>
                    <a:lnTo>
                      <a:pt x="144" y="1999"/>
                    </a:lnTo>
                    <a:lnTo>
                      <a:pt x="137" y="1975"/>
                    </a:lnTo>
                    <a:lnTo>
                      <a:pt x="130" y="1951"/>
                    </a:lnTo>
                    <a:lnTo>
                      <a:pt x="125" y="1927"/>
                    </a:lnTo>
                    <a:lnTo>
                      <a:pt x="120" y="1902"/>
                    </a:lnTo>
                    <a:lnTo>
                      <a:pt x="115" y="1878"/>
                    </a:lnTo>
                    <a:lnTo>
                      <a:pt x="111" y="1853"/>
                    </a:lnTo>
                    <a:lnTo>
                      <a:pt x="107" y="1828"/>
                    </a:lnTo>
                    <a:lnTo>
                      <a:pt x="104" y="1803"/>
                    </a:lnTo>
                    <a:lnTo>
                      <a:pt x="102" y="1778"/>
                    </a:lnTo>
                    <a:lnTo>
                      <a:pt x="100" y="1752"/>
                    </a:lnTo>
                    <a:lnTo>
                      <a:pt x="98" y="1725"/>
                    </a:lnTo>
                    <a:lnTo>
                      <a:pt x="97" y="1700"/>
                    </a:lnTo>
                    <a:lnTo>
                      <a:pt x="97" y="1674"/>
                    </a:lnTo>
                    <a:lnTo>
                      <a:pt x="98" y="1614"/>
                    </a:lnTo>
                    <a:lnTo>
                      <a:pt x="104" y="1554"/>
                    </a:lnTo>
                    <a:lnTo>
                      <a:pt x="111" y="1495"/>
                    </a:lnTo>
                    <a:lnTo>
                      <a:pt x="122" y="1437"/>
                    </a:lnTo>
                    <a:lnTo>
                      <a:pt x="134" y="1380"/>
                    </a:lnTo>
                    <a:lnTo>
                      <a:pt x="150" y="1325"/>
                    </a:lnTo>
                    <a:lnTo>
                      <a:pt x="169" y="1270"/>
                    </a:lnTo>
                    <a:lnTo>
                      <a:pt x="191" y="1216"/>
                    </a:lnTo>
                    <a:lnTo>
                      <a:pt x="215" y="1164"/>
                    </a:lnTo>
                    <a:lnTo>
                      <a:pt x="240" y="1114"/>
                    </a:lnTo>
                    <a:lnTo>
                      <a:pt x="269" y="1065"/>
                    </a:lnTo>
                    <a:lnTo>
                      <a:pt x="301" y="1016"/>
                    </a:lnTo>
                    <a:lnTo>
                      <a:pt x="333" y="970"/>
                    </a:lnTo>
                    <a:lnTo>
                      <a:pt x="368" y="927"/>
                    </a:lnTo>
                    <a:lnTo>
                      <a:pt x="407" y="884"/>
                    </a:lnTo>
                    <a:lnTo>
                      <a:pt x="446" y="843"/>
                    </a:lnTo>
                    <a:lnTo>
                      <a:pt x="487" y="804"/>
                    </a:lnTo>
                    <a:lnTo>
                      <a:pt x="530" y="767"/>
                    </a:lnTo>
                    <a:lnTo>
                      <a:pt x="575" y="732"/>
                    </a:lnTo>
                    <a:lnTo>
                      <a:pt x="621" y="700"/>
                    </a:lnTo>
                    <a:lnTo>
                      <a:pt x="670" y="668"/>
                    </a:lnTo>
                    <a:lnTo>
                      <a:pt x="720" y="640"/>
                    </a:lnTo>
                    <a:lnTo>
                      <a:pt x="772" y="614"/>
                    </a:lnTo>
                    <a:lnTo>
                      <a:pt x="824" y="591"/>
                    </a:lnTo>
                    <a:lnTo>
                      <a:pt x="879" y="570"/>
                    </a:lnTo>
                    <a:lnTo>
                      <a:pt x="934" y="551"/>
                    </a:lnTo>
                    <a:lnTo>
                      <a:pt x="990" y="535"/>
                    </a:lnTo>
                    <a:lnTo>
                      <a:pt x="1047" y="522"/>
                    </a:lnTo>
                    <a:lnTo>
                      <a:pt x="1106" y="512"/>
                    </a:lnTo>
                    <a:lnTo>
                      <a:pt x="1166" y="504"/>
                    </a:lnTo>
                    <a:lnTo>
                      <a:pt x="1226" y="500"/>
                    </a:lnTo>
                    <a:lnTo>
                      <a:pt x="1287" y="499"/>
                    </a:lnTo>
                    <a:lnTo>
                      <a:pt x="1322" y="499"/>
                    </a:lnTo>
                    <a:lnTo>
                      <a:pt x="1356" y="501"/>
                    </a:lnTo>
                    <a:lnTo>
                      <a:pt x="1391" y="503"/>
                    </a:lnTo>
                    <a:lnTo>
                      <a:pt x="1425" y="506"/>
                    </a:lnTo>
                    <a:lnTo>
                      <a:pt x="1458" y="510"/>
                    </a:lnTo>
                    <a:lnTo>
                      <a:pt x="1492" y="516"/>
                    </a:lnTo>
                    <a:lnTo>
                      <a:pt x="1524" y="522"/>
                    </a:lnTo>
                    <a:lnTo>
                      <a:pt x="1557" y="529"/>
                    </a:lnTo>
                    <a:lnTo>
                      <a:pt x="1589" y="538"/>
                    </a:lnTo>
                    <a:lnTo>
                      <a:pt x="1621" y="546"/>
                    </a:lnTo>
                    <a:lnTo>
                      <a:pt x="1653" y="556"/>
                    </a:lnTo>
                    <a:lnTo>
                      <a:pt x="1683" y="567"/>
                    </a:lnTo>
                    <a:lnTo>
                      <a:pt x="1714" y="577"/>
                    </a:lnTo>
                    <a:lnTo>
                      <a:pt x="1745" y="590"/>
                    </a:lnTo>
                    <a:lnTo>
                      <a:pt x="1774" y="602"/>
                    </a:lnTo>
                    <a:lnTo>
                      <a:pt x="1804" y="616"/>
                    </a:lnTo>
                    <a:lnTo>
                      <a:pt x="1744" y="669"/>
                    </a:lnTo>
                    <a:lnTo>
                      <a:pt x="1683" y="723"/>
                    </a:lnTo>
                    <a:lnTo>
                      <a:pt x="1623" y="777"/>
                    </a:lnTo>
                    <a:lnTo>
                      <a:pt x="1565" y="832"/>
                    </a:lnTo>
                    <a:lnTo>
                      <a:pt x="1507" y="887"/>
                    </a:lnTo>
                    <a:lnTo>
                      <a:pt x="1450" y="942"/>
                    </a:lnTo>
                    <a:lnTo>
                      <a:pt x="1395" y="999"/>
                    </a:lnTo>
                    <a:lnTo>
                      <a:pt x="1340" y="1055"/>
                    </a:lnTo>
                    <a:lnTo>
                      <a:pt x="1287" y="1112"/>
                    </a:lnTo>
                    <a:lnTo>
                      <a:pt x="1234" y="1168"/>
                    </a:lnTo>
                    <a:lnTo>
                      <a:pt x="1184" y="1226"/>
                    </a:lnTo>
                    <a:lnTo>
                      <a:pt x="1133" y="1282"/>
                    </a:lnTo>
                    <a:lnTo>
                      <a:pt x="1083" y="1340"/>
                    </a:lnTo>
                    <a:lnTo>
                      <a:pt x="1034" y="1397"/>
                    </a:lnTo>
                    <a:lnTo>
                      <a:pt x="988" y="1455"/>
                    </a:lnTo>
                    <a:lnTo>
                      <a:pt x="941" y="1512"/>
                    </a:lnTo>
                    <a:lnTo>
                      <a:pt x="897" y="1570"/>
                    </a:lnTo>
                    <a:lnTo>
                      <a:pt x="852" y="1627"/>
                    </a:lnTo>
                    <a:lnTo>
                      <a:pt x="809" y="1685"/>
                    </a:lnTo>
                    <a:lnTo>
                      <a:pt x="768" y="1742"/>
                    </a:lnTo>
                    <a:lnTo>
                      <a:pt x="727" y="1800"/>
                    </a:lnTo>
                    <a:lnTo>
                      <a:pt x="687" y="1856"/>
                    </a:lnTo>
                    <a:lnTo>
                      <a:pt x="649" y="1914"/>
                    </a:lnTo>
                    <a:lnTo>
                      <a:pt x="612" y="1970"/>
                    </a:lnTo>
                    <a:lnTo>
                      <a:pt x="576" y="2027"/>
                    </a:lnTo>
                    <a:lnTo>
                      <a:pt x="541" y="2082"/>
                    </a:lnTo>
                    <a:lnTo>
                      <a:pt x="508" y="2137"/>
                    </a:lnTo>
                    <a:lnTo>
                      <a:pt x="475" y="2193"/>
                    </a:lnTo>
                    <a:lnTo>
                      <a:pt x="445" y="2247"/>
                    </a:lnTo>
                    <a:lnTo>
                      <a:pt x="415" y="2302"/>
                    </a:lnTo>
                    <a:lnTo>
                      <a:pt x="386" y="2356"/>
                    </a:lnTo>
                    <a:lnTo>
                      <a:pt x="359" y="2408"/>
                    </a:lnTo>
                    <a:close/>
                    <a:moveTo>
                      <a:pt x="1774" y="1804"/>
                    </a:moveTo>
                    <a:lnTo>
                      <a:pt x="2144" y="2489"/>
                    </a:lnTo>
                    <a:lnTo>
                      <a:pt x="2124" y="2510"/>
                    </a:lnTo>
                    <a:lnTo>
                      <a:pt x="2102" y="2530"/>
                    </a:lnTo>
                    <a:lnTo>
                      <a:pt x="2080" y="2549"/>
                    </a:lnTo>
                    <a:lnTo>
                      <a:pt x="2059" y="2568"/>
                    </a:lnTo>
                    <a:lnTo>
                      <a:pt x="2036" y="2587"/>
                    </a:lnTo>
                    <a:lnTo>
                      <a:pt x="2014" y="2605"/>
                    </a:lnTo>
                    <a:lnTo>
                      <a:pt x="1990" y="2623"/>
                    </a:lnTo>
                    <a:lnTo>
                      <a:pt x="1966" y="2639"/>
                    </a:lnTo>
                    <a:lnTo>
                      <a:pt x="1942" y="2655"/>
                    </a:lnTo>
                    <a:lnTo>
                      <a:pt x="1917" y="2671"/>
                    </a:lnTo>
                    <a:lnTo>
                      <a:pt x="1892" y="2686"/>
                    </a:lnTo>
                    <a:lnTo>
                      <a:pt x="1866" y="2701"/>
                    </a:lnTo>
                    <a:lnTo>
                      <a:pt x="1840" y="2715"/>
                    </a:lnTo>
                    <a:lnTo>
                      <a:pt x="1814" y="2728"/>
                    </a:lnTo>
                    <a:lnTo>
                      <a:pt x="1787" y="2741"/>
                    </a:lnTo>
                    <a:lnTo>
                      <a:pt x="1760" y="2752"/>
                    </a:lnTo>
                    <a:lnTo>
                      <a:pt x="1733" y="2764"/>
                    </a:lnTo>
                    <a:lnTo>
                      <a:pt x="1705" y="2774"/>
                    </a:lnTo>
                    <a:lnTo>
                      <a:pt x="1678" y="2785"/>
                    </a:lnTo>
                    <a:lnTo>
                      <a:pt x="1649" y="2794"/>
                    </a:lnTo>
                    <a:lnTo>
                      <a:pt x="1621" y="2803"/>
                    </a:lnTo>
                    <a:lnTo>
                      <a:pt x="1591" y="2811"/>
                    </a:lnTo>
                    <a:lnTo>
                      <a:pt x="1563" y="2818"/>
                    </a:lnTo>
                    <a:lnTo>
                      <a:pt x="1533" y="2825"/>
                    </a:lnTo>
                    <a:lnTo>
                      <a:pt x="1503" y="2831"/>
                    </a:lnTo>
                    <a:lnTo>
                      <a:pt x="1473" y="2835"/>
                    </a:lnTo>
                    <a:lnTo>
                      <a:pt x="1443" y="2840"/>
                    </a:lnTo>
                    <a:lnTo>
                      <a:pt x="1412" y="2843"/>
                    </a:lnTo>
                    <a:lnTo>
                      <a:pt x="1382" y="2846"/>
                    </a:lnTo>
                    <a:lnTo>
                      <a:pt x="1350" y="2849"/>
                    </a:lnTo>
                    <a:lnTo>
                      <a:pt x="1319" y="2850"/>
                    </a:lnTo>
                    <a:lnTo>
                      <a:pt x="1287" y="2850"/>
                    </a:lnTo>
                    <a:lnTo>
                      <a:pt x="1262" y="2850"/>
                    </a:lnTo>
                    <a:lnTo>
                      <a:pt x="1236" y="2849"/>
                    </a:lnTo>
                    <a:lnTo>
                      <a:pt x="1211" y="2848"/>
                    </a:lnTo>
                    <a:lnTo>
                      <a:pt x="1187" y="2845"/>
                    </a:lnTo>
                    <a:lnTo>
                      <a:pt x="1137" y="2840"/>
                    </a:lnTo>
                    <a:lnTo>
                      <a:pt x="1088" y="2833"/>
                    </a:lnTo>
                    <a:lnTo>
                      <a:pt x="1064" y="2829"/>
                    </a:lnTo>
                    <a:lnTo>
                      <a:pt x="1040" y="2825"/>
                    </a:lnTo>
                    <a:lnTo>
                      <a:pt x="1015" y="2818"/>
                    </a:lnTo>
                    <a:lnTo>
                      <a:pt x="992" y="2813"/>
                    </a:lnTo>
                    <a:lnTo>
                      <a:pt x="945" y="2800"/>
                    </a:lnTo>
                    <a:lnTo>
                      <a:pt x="899" y="2785"/>
                    </a:lnTo>
                    <a:lnTo>
                      <a:pt x="854" y="2769"/>
                    </a:lnTo>
                    <a:lnTo>
                      <a:pt x="810" y="2750"/>
                    </a:lnTo>
                    <a:lnTo>
                      <a:pt x="766" y="2730"/>
                    </a:lnTo>
                    <a:lnTo>
                      <a:pt x="724" y="2708"/>
                    </a:lnTo>
                    <a:lnTo>
                      <a:pt x="683" y="2685"/>
                    </a:lnTo>
                    <a:lnTo>
                      <a:pt x="643" y="2660"/>
                    </a:lnTo>
                    <a:lnTo>
                      <a:pt x="602" y="2634"/>
                    </a:lnTo>
                    <a:lnTo>
                      <a:pt x="564" y="2607"/>
                    </a:lnTo>
                    <a:lnTo>
                      <a:pt x="586" y="2558"/>
                    </a:lnTo>
                    <a:lnTo>
                      <a:pt x="609" y="2508"/>
                    </a:lnTo>
                    <a:lnTo>
                      <a:pt x="633" y="2456"/>
                    </a:lnTo>
                    <a:lnTo>
                      <a:pt x="658" y="2404"/>
                    </a:lnTo>
                    <a:lnTo>
                      <a:pt x="686" y="2352"/>
                    </a:lnTo>
                    <a:lnTo>
                      <a:pt x="715" y="2297"/>
                    </a:lnTo>
                    <a:lnTo>
                      <a:pt x="745" y="2242"/>
                    </a:lnTo>
                    <a:lnTo>
                      <a:pt x="777" y="2187"/>
                    </a:lnTo>
                    <a:lnTo>
                      <a:pt x="810" y="2130"/>
                    </a:lnTo>
                    <a:lnTo>
                      <a:pt x="845" y="2073"/>
                    </a:lnTo>
                    <a:lnTo>
                      <a:pt x="881" y="2014"/>
                    </a:lnTo>
                    <a:lnTo>
                      <a:pt x="918" y="1956"/>
                    </a:lnTo>
                    <a:lnTo>
                      <a:pt x="956" y="1896"/>
                    </a:lnTo>
                    <a:lnTo>
                      <a:pt x="996" y="1835"/>
                    </a:lnTo>
                    <a:lnTo>
                      <a:pt x="1037" y="1775"/>
                    </a:lnTo>
                    <a:lnTo>
                      <a:pt x="1081" y="1713"/>
                    </a:lnTo>
                    <a:lnTo>
                      <a:pt x="1124" y="1651"/>
                    </a:lnTo>
                    <a:lnTo>
                      <a:pt x="1170" y="1588"/>
                    </a:lnTo>
                    <a:lnTo>
                      <a:pt x="1216" y="1526"/>
                    </a:lnTo>
                    <a:lnTo>
                      <a:pt x="1264" y="1463"/>
                    </a:lnTo>
                    <a:lnTo>
                      <a:pt x="1314" y="1399"/>
                    </a:lnTo>
                    <a:lnTo>
                      <a:pt x="1364" y="1335"/>
                    </a:lnTo>
                    <a:lnTo>
                      <a:pt x="1415" y="1271"/>
                    </a:lnTo>
                    <a:lnTo>
                      <a:pt x="1468" y="1207"/>
                    </a:lnTo>
                    <a:lnTo>
                      <a:pt x="1522" y="1142"/>
                    </a:lnTo>
                    <a:lnTo>
                      <a:pt x="1577" y="1077"/>
                    </a:lnTo>
                    <a:lnTo>
                      <a:pt x="1633" y="1012"/>
                    </a:lnTo>
                    <a:lnTo>
                      <a:pt x="1692" y="947"/>
                    </a:lnTo>
                    <a:lnTo>
                      <a:pt x="1750" y="882"/>
                    </a:lnTo>
                    <a:lnTo>
                      <a:pt x="1809" y="817"/>
                    </a:lnTo>
                    <a:lnTo>
                      <a:pt x="1871" y="752"/>
                    </a:lnTo>
                    <a:lnTo>
                      <a:pt x="1932" y="687"/>
                    </a:lnTo>
                    <a:lnTo>
                      <a:pt x="1963" y="707"/>
                    </a:lnTo>
                    <a:lnTo>
                      <a:pt x="1992" y="728"/>
                    </a:lnTo>
                    <a:lnTo>
                      <a:pt x="2022" y="750"/>
                    </a:lnTo>
                    <a:lnTo>
                      <a:pt x="2049" y="773"/>
                    </a:lnTo>
                    <a:lnTo>
                      <a:pt x="2077" y="796"/>
                    </a:lnTo>
                    <a:lnTo>
                      <a:pt x="2105" y="820"/>
                    </a:lnTo>
                    <a:lnTo>
                      <a:pt x="2130" y="845"/>
                    </a:lnTo>
                    <a:lnTo>
                      <a:pt x="2155" y="871"/>
                    </a:lnTo>
                    <a:lnTo>
                      <a:pt x="2181" y="898"/>
                    </a:lnTo>
                    <a:lnTo>
                      <a:pt x="2204" y="925"/>
                    </a:lnTo>
                    <a:lnTo>
                      <a:pt x="2227" y="954"/>
                    </a:lnTo>
                    <a:lnTo>
                      <a:pt x="2249" y="982"/>
                    </a:lnTo>
                    <a:lnTo>
                      <a:pt x="2270" y="1011"/>
                    </a:lnTo>
                    <a:lnTo>
                      <a:pt x="2290" y="1042"/>
                    </a:lnTo>
                    <a:lnTo>
                      <a:pt x="2310" y="1072"/>
                    </a:lnTo>
                    <a:lnTo>
                      <a:pt x="2328" y="1103"/>
                    </a:lnTo>
                    <a:lnTo>
                      <a:pt x="2345" y="1136"/>
                    </a:lnTo>
                    <a:lnTo>
                      <a:pt x="2362" y="1168"/>
                    </a:lnTo>
                    <a:lnTo>
                      <a:pt x="2377" y="1202"/>
                    </a:lnTo>
                    <a:lnTo>
                      <a:pt x="2391" y="1235"/>
                    </a:lnTo>
                    <a:lnTo>
                      <a:pt x="2405" y="1270"/>
                    </a:lnTo>
                    <a:lnTo>
                      <a:pt x="2417" y="1304"/>
                    </a:lnTo>
                    <a:lnTo>
                      <a:pt x="2428" y="1339"/>
                    </a:lnTo>
                    <a:lnTo>
                      <a:pt x="2438" y="1374"/>
                    </a:lnTo>
                    <a:lnTo>
                      <a:pt x="2448" y="1411"/>
                    </a:lnTo>
                    <a:lnTo>
                      <a:pt x="2455" y="1447"/>
                    </a:lnTo>
                    <a:lnTo>
                      <a:pt x="2462" y="1484"/>
                    </a:lnTo>
                    <a:lnTo>
                      <a:pt x="2468" y="1522"/>
                    </a:lnTo>
                    <a:lnTo>
                      <a:pt x="2472" y="1559"/>
                    </a:lnTo>
                    <a:lnTo>
                      <a:pt x="2475" y="1597"/>
                    </a:lnTo>
                    <a:lnTo>
                      <a:pt x="2477" y="1636"/>
                    </a:lnTo>
                    <a:lnTo>
                      <a:pt x="2477" y="1674"/>
                    </a:lnTo>
                    <a:lnTo>
                      <a:pt x="2477" y="1708"/>
                    </a:lnTo>
                    <a:lnTo>
                      <a:pt x="2476" y="1740"/>
                    </a:lnTo>
                    <a:lnTo>
                      <a:pt x="2473" y="1774"/>
                    </a:lnTo>
                    <a:lnTo>
                      <a:pt x="2470" y="1806"/>
                    </a:lnTo>
                    <a:lnTo>
                      <a:pt x="2466" y="1838"/>
                    </a:lnTo>
                    <a:lnTo>
                      <a:pt x="2460" y="1871"/>
                    </a:lnTo>
                    <a:lnTo>
                      <a:pt x="2455" y="1902"/>
                    </a:lnTo>
                    <a:lnTo>
                      <a:pt x="2448" y="1934"/>
                    </a:lnTo>
                    <a:lnTo>
                      <a:pt x="2440" y="1965"/>
                    </a:lnTo>
                    <a:lnTo>
                      <a:pt x="2432" y="1995"/>
                    </a:lnTo>
                    <a:lnTo>
                      <a:pt x="2422" y="2026"/>
                    </a:lnTo>
                    <a:lnTo>
                      <a:pt x="2413" y="2056"/>
                    </a:lnTo>
                    <a:lnTo>
                      <a:pt x="2401" y="2086"/>
                    </a:lnTo>
                    <a:lnTo>
                      <a:pt x="2389" y="2116"/>
                    </a:lnTo>
                    <a:lnTo>
                      <a:pt x="2378" y="2144"/>
                    </a:lnTo>
                    <a:lnTo>
                      <a:pt x="2364" y="2173"/>
                    </a:lnTo>
                    <a:lnTo>
                      <a:pt x="2324" y="2155"/>
                    </a:lnTo>
                    <a:lnTo>
                      <a:pt x="2283" y="2136"/>
                    </a:lnTo>
                    <a:lnTo>
                      <a:pt x="2243" y="2118"/>
                    </a:lnTo>
                    <a:lnTo>
                      <a:pt x="2204" y="2098"/>
                    </a:lnTo>
                    <a:lnTo>
                      <a:pt x="2165" y="2077"/>
                    </a:lnTo>
                    <a:lnTo>
                      <a:pt x="2127" y="2056"/>
                    </a:lnTo>
                    <a:lnTo>
                      <a:pt x="2089" y="2034"/>
                    </a:lnTo>
                    <a:lnTo>
                      <a:pt x="2052" y="2011"/>
                    </a:lnTo>
                    <a:lnTo>
                      <a:pt x="2015" y="1988"/>
                    </a:lnTo>
                    <a:lnTo>
                      <a:pt x="1979" y="1964"/>
                    </a:lnTo>
                    <a:lnTo>
                      <a:pt x="1943" y="1940"/>
                    </a:lnTo>
                    <a:lnTo>
                      <a:pt x="1908" y="1914"/>
                    </a:lnTo>
                    <a:lnTo>
                      <a:pt x="1873" y="1888"/>
                    </a:lnTo>
                    <a:lnTo>
                      <a:pt x="1839" y="1860"/>
                    </a:lnTo>
                    <a:lnTo>
                      <a:pt x="1806" y="1833"/>
                    </a:lnTo>
                    <a:lnTo>
                      <a:pt x="1774" y="1804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74640" y="4650120"/>
                <a:ext cx="142560" cy="165600"/>
              </a:xfrm>
              <a:custGeom>
                <a:avLst/>
                <a:gdLst/>
                <a:ahLst/>
                <a:rect l="l" t="t" r="r" b="b"/>
                <a:pathLst>
                  <a:path w="2463" h="1315">
                    <a:moveTo>
                      <a:pt x="1862" y="786"/>
                    </a:moveTo>
                    <a:lnTo>
                      <a:pt x="2073" y="511"/>
                    </a:lnTo>
                    <a:lnTo>
                      <a:pt x="1342" y="511"/>
                    </a:lnTo>
                    <a:lnTo>
                      <a:pt x="1522" y="275"/>
                    </a:lnTo>
                    <a:lnTo>
                      <a:pt x="2253" y="275"/>
                    </a:lnTo>
                    <a:lnTo>
                      <a:pt x="2463" y="0"/>
                    </a:lnTo>
                    <a:lnTo>
                      <a:pt x="1004" y="0"/>
                    </a:lnTo>
                    <a:lnTo>
                      <a:pt x="0" y="1315"/>
                    </a:lnTo>
                    <a:lnTo>
                      <a:pt x="1459" y="1315"/>
                    </a:lnTo>
                    <a:lnTo>
                      <a:pt x="1669" y="1040"/>
                    </a:lnTo>
                    <a:lnTo>
                      <a:pt x="938" y="1040"/>
                    </a:lnTo>
                    <a:lnTo>
                      <a:pt x="1132" y="786"/>
                    </a:lnTo>
                    <a:lnTo>
                      <a:pt x="1862" y="786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83360" y="4650120"/>
                <a:ext cx="99720" cy="165600"/>
              </a:xfrm>
              <a:custGeom>
                <a:avLst/>
                <a:gdLst/>
                <a:ahLst/>
                <a:rect l="l" t="t" r="r" b="b"/>
                <a:pathLst>
                  <a:path w="1733" h="1315">
                    <a:moveTo>
                      <a:pt x="1005" y="0"/>
                    </a:moveTo>
                    <a:lnTo>
                      <a:pt x="0" y="1315"/>
                    </a:lnTo>
                    <a:lnTo>
                      <a:pt x="728" y="1315"/>
                    </a:lnTo>
                    <a:lnTo>
                      <a:pt x="1733" y="0"/>
                    </a:lnTo>
                    <a:lnTo>
                      <a:pt x="1005" y="0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2120" y="4650120"/>
                <a:ext cx="157320" cy="165600"/>
              </a:xfrm>
              <a:custGeom>
                <a:avLst/>
                <a:gdLst/>
                <a:ahLst/>
                <a:rect l="l" t="t" r="r" b="b"/>
                <a:pathLst>
                  <a:path w="2721" h="1315">
                    <a:moveTo>
                      <a:pt x="2238" y="0"/>
                    </a:moveTo>
                    <a:lnTo>
                      <a:pt x="1730" y="667"/>
                    </a:lnTo>
                    <a:lnTo>
                      <a:pt x="1573" y="0"/>
                    </a:lnTo>
                    <a:lnTo>
                      <a:pt x="1005" y="0"/>
                    </a:lnTo>
                    <a:lnTo>
                      <a:pt x="0" y="1315"/>
                    </a:lnTo>
                    <a:lnTo>
                      <a:pt x="483" y="1315"/>
                    </a:lnTo>
                    <a:lnTo>
                      <a:pt x="987" y="654"/>
                    </a:lnTo>
                    <a:lnTo>
                      <a:pt x="1141" y="1315"/>
                    </a:lnTo>
                    <a:lnTo>
                      <a:pt x="1716" y="1315"/>
                    </a:lnTo>
                    <a:lnTo>
                      <a:pt x="2721" y="0"/>
                    </a:lnTo>
                    <a:lnTo>
                      <a:pt x="2238" y="0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986760" y="4650120"/>
                <a:ext cx="143640" cy="165600"/>
              </a:xfrm>
              <a:custGeom>
                <a:avLst/>
                <a:gdLst/>
                <a:ahLst/>
                <a:rect l="l" t="t" r="r" b="b"/>
                <a:pathLst>
                  <a:path w="2480" h="1315">
                    <a:moveTo>
                      <a:pt x="2302" y="0"/>
                    </a:moveTo>
                    <a:lnTo>
                      <a:pt x="1131" y="0"/>
                    </a:lnTo>
                    <a:lnTo>
                      <a:pt x="1112" y="0"/>
                    </a:lnTo>
                    <a:lnTo>
                      <a:pt x="1094" y="1"/>
                    </a:lnTo>
                    <a:lnTo>
                      <a:pt x="1075" y="2"/>
                    </a:lnTo>
                    <a:lnTo>
                      <a:pt x="1057" y="4"/>
                    </a:lnTo>
                    <a:lnTo>
                      <a:pt x="1021" y="9"/>
                    </a:lnTo>
                    <a:lnTo>
                      <a:pt x="986" y="16"/>
                    </a:lnTo>
                    <a:lnTo>
                      <a:pt x="951" y="26"/>
                    </a:lnTo>
                    <a:lnTo>
                      <a:pt x="917" y="37"/>
                    </a:lnTo>
                    <a:lnTo>
                      <a:pt x="884" y="51"/>
                    </a:lnTo>
                    <a:lnTo>
                      <a:pt x="853" y="66"/>
                    </a:lnTo>
                    <a:lnTo>
                      <a:pt x="822" y="82"/>
                    </a:lnTo>
                    <a:lnTo>
                      <a:pt x="792" y="100"/>
                    </a:lnTo>
                    <a:lnTo>
                      <a:pt x="764" y="120"/>
                    </a:lnTo>
                    <a:lnTo>
                      <a:pt x="736" y="142"/>
                    </a:lnTo>
                    <a:lnTo>
                      <a:pt x="711" y="165"/>
                    </a:lnTo>
                    <a:lnTo>
                      <a:pt x="685" y="189"/>
                    </a:lnTo>
                    <a:lnTo>
                      <a:pt x="662" y="214"/>
                    </a:lnTo>
                    <a:lnTo>
                      <a:pt x="641" y="241"/>
                    </a:lnTo>
                    <a:lnTo>
                      <a:pt x="36" y="1033"/>
                    </a:lnTo>
                    <a:lnTo>
                      <a:pt x="28" y="1044"/>
                    </a:lnTo>
                    <a:lnTo>
                      <a:pt x="22" y="1057"/>
                    </a:lnTo>
                    <a:lnTo>
                      <a:pt x="15" y="1070"/>
                    </a:lnTo>
                    <a:lnTo>
                      <a:pt x="10" y="1082"/>
                    </a:lnTo>
                    <a:lnTo>
                      <a:pt x="6" y="1096"/>
                    </a:lnTo>
                    <a:lnTo>
                      <a:pt x="2" y="1110"/>
                    </a:lnTo>
                    <a:lnTo>
                      <a:pt x="1" y="1125"/>
                    </a:lnTo>
                    <a:lnTo>
                      <a:pt x="0" y="1140"/>
                    </a:lnTo>
                    <a:lnTo>
                      <a:pt x="1" y="1157"/>
                    </a:lnTo>
                    <a:lnTo>
                      <a:pt x="4" y="1175"/>
                    </a:lnTo>
                    <a:lnTo>
                      <a:pt x="9" y="1192"/>
                    </a:lnTo>
                    <a:lnTo>
                      <a:pt x="14" y="1208"/>
                    </a:lnTo>
                    <a:lnTo>
                      <a:pt x="22" y="1223"/>
                    </a:lnTo>
                    <a:lnTo>
                      <a:pt x="31" y="1238"/>
                    </a:lnTo>
                    <a:lnTo>
                      <a:pt x="42" y="1251"/>
                    </a:lnTo>
                    <a:lnTo>
                      <a:pt x="52" y="1264"/>
                    </a:lnTo>
                    <a:lnTo>
                      <a:pt x="65" y="1276"/>
                    </a:lnTo>
                    <a:lnTo>
                      <a:pt x="79" y="1285"/>
                    </a:lnTo>
                    <a:lnTo>
                      <a:pt x="94" y="1294"/>
                    </a:lnTo>
                    <a:lnTo>
                      <a:pt x="109" y="1302"/>
                    </a:lnTo>
                    <a:lnTo>
                      <a:pt x="125" y="1308"/>
                    </a:lnTo>
                    <a:lnTo>
                      <a:pt x="142" y="1312"/>
                    </a:lnTo>
                    <a:lnTo>
                      <a:pt x="160" y="1314"/>
                    </a:lnTo>
                    <a:lnTo>
                      <a:pt x="179" y="1315"/>
                    </a:lnTo>
                    <a:lnTo>
                      <a:pt x="1349" y="1315"/>
                    </a:lnTo>
                    <a:lnTo>
                      <a:pt x="1368" y="1315"/>
                    </a:lnTo>
                    <a:lnTo>
                      <a:pt x="1386" y="1314"/>
                    </a:lnTo>
                    <a:lnTo>
                      <a:pt x="1405" y="1313"/>
                    </a:lnTo>
                    <a:lnTo>
                      <a:pt x="1423" y="1311"/>
                    </a:lnTo>
                    <a:lnTo>
                      <a:pt x="1441" y="1309"/>
                    </a:lnTo>
                    <a:lnTo>
                      <a:pt x="1459" y="1306"/>
                    </a:lnTo>
                    <a:lnTo>
                      <a:pt x="1477" y="1303"/>
                    </a:lnTo>
                    <a:lnTo>
                      <a:pt x="1494" y="1299"/>
                    </a:lnTo>
                    <a:lnTo>
                      <a:pt x="1529" y="1289"/>
                    </a:lnTo>
                    <a:lnTo>
                      <a:pt x="1563" y="1278"/>
                    </a:lnTo>
                    <a:lnTo>
                      <a:pt x="1596" y="1265"/>
                    </a:lnTo>
                    <a:lnTo>
                      <a:pt x="1627" y="1249"/>
                    </a:lnTo>
                    <a:lnTo>
                      <a:pt x="1658" y="1234"/>
                    </a:lnTo>
                    <a:lnTo>
                      <a:pt x="1688" y="1215"/>
                    </a:lnTo>
                    <a:lnTo>
                      <a:pt x="1716" y="1195"/>
                    </a:lnTo>
                    <a:lnTo>
                      <a:pt x="1744" y="1174"/>
                    </a:lnTo>
                    <a:lnTo>
                      <a:pt x="1769" y="1151"/>
                    </a:lnTo>
                    <a:lnTo>
                      <a:pt x="1795" y="1127"/>
                    </a:lnTo>
                    <a:lnTo>
                      <a:pt x="1818" y="1101"/>
                    </a:lnTo>
                    <a:lnTo>
                      <a:pt x="1839" y="1074"/>
                    </a:lnTo>
                    <a:lnTo>
                      <a:pt x="1985" y="883"/>
                    </a:lnTo>
                    <a:lnTo>
                      <a:pt x="2154" y="883"/>
                    </a:lnTo>
                    <a:lnTo>
                      <a:pt x="2365" y="606"/>
                    </a:lnTo>
                    <a:lnTo>
                      <a:pt x="1469" y="606"/>
                    </a:lnTo>
                    <a:lnTo>
                      <a:pt x="1186" y="978"/>
                    </a:lnTo>
                    <a:lnTo>
                      <a:pt x="1174" y="991"/>
                    </a:lnTo>
                    <a:lnTo>
                      <a:pt x="1161" y="1004"/>
                    </a:lnTo>
                    <a:lnTo>
                      <a:pt x="1146" y="1014"/>
                    </a:lnTo>
                    <a:lnTo>
                      <a:pt x="1131" y="1024"/>
                    </a:lnTo>
                    <a:lnTo>
                      <a:pt x="1123" y="1027"/>
                    </a:lnTo>
                    <a:lnTo>
                      <a:pt x="1114" y="1031"/>
                    </a:lnTo>
                    <a:lnTo>
                      <a:pt x="1106" y="1033"/>
                    </a:lnTo>
                    <a:lnTo>
                      <a:pt x="1096" y="1036"/>
                    </a:lnTo>
                    <a:lnTo>
                      <a:pt x="1087" y="1038"/>
                    </a:lnTo>
                    <a:lnTo>
                      <a:pt x="1078" y="1039"/>
                    </a:lnTo>
                    <a:lnTo>
                      <a:pt x="1069" y="1040"/>
                    </a:lnTo>
                    <a:lnTo>
                      <a:pt x="1059" y="1040"/>
                    </a:lnTo>
                    <a:lnTo>
                      <a:pt x="853" y="1040"/>
                    </a:lnTo>
                    <a:lnTo>
                      <a:pt x="843" y="1039"/>
                    </a:lnTo>
                    <a:lnTo>
                      <a:pt x="835" y="1036"/>
                    </a:lnTo>
                    <a:lnTo>
                      <a:pt x="826" y="1032"/>
                    </a:lnTo>
                    <a:lnTo>
                      <a:pt x="820" y="1027"/>
                    </a:lnTo>
                    <a:lnTo>
                      <a:pt x="813" y="1020"/>
                    </a:lnTo>
                    <a:lnTo>
                      <a:pt x="809" y="1012"/>
                    </a:lnTo>
                    <a:lnTo>
                      <a:pt x="807" y="1004"/>
                    </a:lnTo>
                    <a:lnTo>
                      <a:pt x="806" y="994"/>
                    </a:lnTo>
                    <a:lnTo>
                      <a:pt x="806" y="991"/>
                    </a:lnTo>
                    <a:lnTo>
                      <a:pt x="807" y="987"/>
                    </a:lnTo>
                    <a:lnTo>
                      <a:pt x="807" y="983"/>
                    </a:lnTo>
                    <a:lnTo>
                      <a:pt x="808" y="980"/>
                    </a:lnTo>
                    <a:lnTo>
                      <a:pt x="810" y="976"/>
                    </a:lnTo>
                    <a:lnTo>
                      <a:pt x="811" y="973"/>
                    </a:lnTo>
                    <a:lnTo>
                      <a:pt x="813" y="970"/>
                    </a:lnTo>
                    <a:lnTo>
                      <a:pt x="816" y="967"/>
                    </a:lnTo>
                    <a:lnTo>
                      <a:pt x="1295" y="338"/>
                    </a:lnTo>
                    <a:lnTo>
                      <a:pt x="1307" y="324"/>
                    </a:lnTo>
                    <a:lnTo>
                      <a:pt x="1320" y="311"/>
                    </a:lnTo>
                    <a:lnTo>
                      <a:pt x="1334" y="301"/>
                    </a:lnTo>
                    <a:lnTo>
                      <a:pt x="1350" y="293"/>
                    </a:lnTo>
                    <a:lnTo>
                      <a:pt x="1367" y="285"/>
                    </a:lnTo>
                    <a:lnTo>
                      <a:pt x="1385" y="279"/>
                    </a:lnTo>
                    <a:lnTo>
                      <a:pt x="1394" y="278"/>
                    </a:lnTo>
                    <a:lnTo>
                      <a:pt x="1403" y="276"/>
                    </a:lnTo>
                    <a:lnTo>
                      <a:pt x="1413" y="275"/>
                    </a:lnTo>
                    <a:lnTo>
                      <a:pt x="1422" y="275"/>
                    </a:lnTo>
                    <a:lnTo>
                      <a:pt x="1629" y="275"/>
                    </a:lnTo>
                    <a:lnTo>
                      <a:pt x="1638" y="276"/>
                    </a:lnTo>
                    <a:lnTo>
                      <a:pt x="1647" y="279"/>
                    </a:lnTo>
                    <a:lnTo>
                      <a:pt x="1655" y="283"/>
                    </a:lnTo>
                    <a:lnTo>
                      <a:pt x="1661" y="288"/>
                    </a:lnTo>
                    <a:lnTo>
                      <a:pt x="1667" y="296"/>
                    </a:lnTo>
                    <a:lnTo>
                      <a:pt x="1671" y="303"/>
                    </a:lnTo>
                    <a:lnTo>
                      <a:pt x="1674" y="311"/>
                    </a:lnTo>
                    <a:lnTo>
                      <a:pt x="1675" y="321"/>
                    </a:lnTo>
                    <a:lnTo>
                      <a:pt x="1675" y="325"/>
                    </a:lnTo>
                    <a:lnTo>
                      <a:pt x="1674" y="328"/>
                    </a:lnTo>
                    <a:lnTo>
                      <a:pt x="1674" y="332"/>
                    </a:lnTo>
                    <a:lnTo>
                      <a:pt x="1673" y="335"/>
                    </a:lnTo>
                    <a:lnTo>
                      <a:pt x="1671" y="339"/>
                    </a:lnTo>
                    <a:lnTo>
                      <a:pt x="1670" y="342"/>
                    </a:lnTo>
                    <a:lnTo>
                      <a:pt x="1668" y="345"/>
                    </a:lnTo>
                    <a:lnTo>
                      <a:pt x="1666" y="348"/>
                    </a:lnTo>
                    <a:lnTo>
                      <a:pt x="1587" y="450"/>
                    </a:lnTo>
                    <a:lnTo>
                      <a:pt x="2316" y="450"/>
                    </a:lnTo>
                    <a:lnTo>
                      <a:pt x="2444" y="282"/>
                    </a:lnTo>
                    <a:lnTo>
                      <a:pt x="2452" y="271"/>
                    </a:lnTo>
                    <a:lnTo>
                      <a:pt x="2459" y="259"/>
                    </a:lnTo>
                    <a:lnTo>
                      <a:pt x="2465" y="247"/>
                    </a:lnTo>
                    <a:lnTo>
                      <a:pt x="2470" y="233"/>
                    </a:lnTo>
                    <a:lnTo>
                      <a:pt x="2474" y="219"/>
                    </a:lnTo>
                    <a:lnTo>
                      <a:pt x="2478" y="205"/>
                    </a:lnTo>
                    <a:lnTo>
                      <a:pt x="2479" y="191"/>
                    </a:lnTo>
                    <a:lnTo>
                      <a:pt x="2480" y="175"/>
                    </a:lnTo>
                    <a:lnTo>
                      <a:pt x="2479" y="158"/>
                    </a:lnTo>
                    <a:lnTo>
                      <a:pt x="2475" y="141"/>
                    </a:lnTo>
                    <a:lnTo>
                      <a:pt x="2471" y="123"/>
                    </a:lnTo>
                    <a:lnTo>
                      <a:pt x="2466" y="107"/>
                    </a:lnTo>
                    <a:lnTo>
                      <a:pt x="2457" y="92"/>
                    </a:lnTo>
                    <a:lnTo>
                      <a:pt x="2449" y="77"/>
                    </a:lnTo>
                    <a:lnTo>
                      <a:pt x="2438" y="64"/>
                    </a:lnTo>
                    <a:lnTo>
                      <a:pt x="2428" y="51"/>
                    </a:lnTo>
                    <a:lnTo>
                      <a:pt x="2415" y="41"/>
                    </a:lnTo>
                    <a:lnTo>
                      <a:pt x="2401" y="30"/>
                    </a:lnTo>
                    <a:lnTo>
                      <a:pt x="2387" y="21"/>
                    </a:lnTo>
                    <a:lnTo>
                      <a:pt x="2371" y="13"/>
                    </a:lnTo>
                    <a:lnTo>
                      <a:pt x="2355" y="8"/>
                    </a:lnTo>
                    <a:lnTo>
                      <a:pt x="2337" y="3"/>
                    </a:lnTo>
                    <a:lnTo>
                      <a:pt x="2320" y="1"/>
                    </a:lnTo>
                    <a:lnTo>
                      <a:pt x="2302" y="0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54760" y="4650120"/>
                <a:ext cx="142560" cy="165600"/>
              </a:xfrm>
              <a:custGeom>
                <a:avLst/>
                <a:gdLst/>
                <a:ahLst/>
                <a:rect l="l" t="t" r="r" b="b"/>
                <a:pathLst>
                  <a:path w="2479" h="1315">
                    <a:moveTo>
                      <a:pt x="2479" y="175"/>
                    </a:moveTo>
                    <a:lnTo>
                      <a:pt x="2478" y="158"/>
                    </a:lnTo>
                    <a:lnTo>
                      <a:pt x="2475" y="141"/>
                    </a:lnTo>
                    <a:lnTo>
                      <a:pt x="2470" y="123"/>
                    </a:lnTo>
                    <a:lnTo>
                      <a:pt x="2465" y="107"/>
                    </a:lnTo>
                    <a:lnTo>
                      <a:pt x="2457" y="92"/>
                    </a:lnTo>
                    <a:lnTo>
                      <a:pt x="2448" y="77"/>
                    </a:lnTo>
                    <a:lnTo>
                      <a:pt x="2438" y="64"/>
                    </a:lnTo>
                    <a:lnTo>
                      <a:pt x="2426" y="51"/>
                    </a:lnTo>
                    <a:lnTo>
                      <a:pt x="2413" y="41"/>
                    </a:lnTo>
                    <a:lnTo>
                      <a:pt x="2401" y="30"/>
                    </a:lnTo>
                    <a:lnTo>
                      <a:pt x="2386" y="21"/>
                    </a:lnTo>
                    <a:lnTo>
                      <a:pt x="2370" y="13"/>
                    </a:lnTo>
                    <a:lnTo>
                      <a:pt x="2353" y="8"/>
                    </a:lnTo>
                    <a:lnTo>
                      <a:pt x="2336" y="3"/>
                    </a:lnTo>
                    <a:lnTo>
                      <a:pt x="2319" y="1"/>
                    </a:lnTo>
                    <a:lnTo>
                      <a:pt x="2300" y="0"/>
                    </a:lnTo>
                    <a:lnTo>
                      <a:pt x="1130" y="0"/>
                    </a:lnTo>
                    <a:lnTo>
                      <a:pt x="1111" y="0"/>
                    </a:lnTo>
                    <a:lnTo>
                      <a:pt x="1093" y="1"/>
                    </a:lnTo>
                    <a:lnTo>
                      <a:pt x="1074" y="2"/>
                    </a:lnTo>
                    <a:lnTo>
                      <a:pt x="1056" y="4"/>
                    </a:lnTo>
                    <a:lnTo>
                      <a:pt x="1020" y="9"/>
                    </a:lnTo>
                    <a:lnTo>
                      <a:pt x="985" y="16"/>
                    </a:lnTo>
                    <a:lnTo>
                      <a:pt x="950" y="26"/>
                    </a:lnTo>
                    <a:lnTo>
                      <a:pt x="916" y="37"/>
                    </a:lnTo>
                    <a:lnTo>
                      <a:pt x="883" y="51"/>
                    </a:lnTo>
                    <a:lnTo>
                      <a:pt x="852" y="66"/>
                    </a:lnTo>
                    <a:lnTo>
                      <a:pt x="821" y="82"/>
                    </a:lnTo>
                    <a:lnTo>
                      <a:pt x="791" y="100"/>
                    </a:lnTo>
                    <a:lnTo>
                      <a:pt x="763" y="120"/>
                    </a:lnTo>
                    <a:lnTo>
                      <a:pt x="735" y="142"/>
                    </a:lnTo>
                    <a:lnTo>
                      <a:pt x="710" y="165"/>
                    </a:lnTo>
                    <a:lnTo>
                      <a:pt x="684" y="189"/>
                    </a:lnTo>
                    <a:lnTo>
                      <a:pt x="661" y="214"/>
                    </a:lnTo>
                    <a:lnTo>
                      <a:pt x="640" y="241"/>
                    </a:lnTo>
                    <a:lnTo>
                      <a:pt x="36" y="1033"/>
                    </a:lnTo>
                    <a:lnTo>
                      <a:pt x="27" y="1044"/>
                    </a:lnTo>
                    <a:lnTo>
                      <a:pt x="21" y="1057"/>
                    </a:lnTo>
                    <a:lnTo>
                      <a:pt x="14" y="1070"/>
                    </a:lnTo>
                    <a:lnTo>
                      <a:pt x="9" y="1082"/>
                    </a:lnTo>
                    <a:lnTo>
                      <a:pt x="5" y="1097"/>
                    </a:lnTo>
                    <a:lnTo>
                      <a:pt x="2" y="1110"/>
                    </a:lnTo>
                    <a:lnTo>
                      <a:pt x="1" y="1125"/>
                    </a:lnTo>
                    <a:lnTo>
                      <a:pt x="0" y="1140"/>
                    </a:lnTo>
                    <a:lnTo>
                      <a:pt x="1" y="1157"/>
                    </a:lnTo>
                    <a:lnTo>
                      <a:pt x="4" y="1175"/>
                    </a:lnTo>
                    <a:lnTo>
                      <a:pt x="8" y="1192"/>
                    </a:lnTo>
                    <a:lnTo>
                      <a:pt x="13" y="1208"/>
                    </a:lnTo>
                    <a:lnTo>
                      <a:pt x="21" y="1223"/>
                    </a:lnTo>
                    <a:lnTo>
                      <a:pt x="30" y="1238"/>
                    </a:lnTo>
                    <a:lnTo>
                      <a:pt x="41" y="1251"/>
                    </a:lnTo>
                    <a:lnTo>
                      <a:pt x="52" y="1264"/>
                    </a:lnTo>
                    <a:lnTo>
                      <a:pt x="64" y="1276"/>
                    </a:lnTo>
                    <a:lnTo>
                      <a:pt x="78" y="1286"/>
                    </a:lnTo>
                    <a:lnTo>
                      <a:pt x="93" y="1294"/>
                    </a:lnTo>
                    <a:lnTo>
                      <a:pt x="109" y="1302"/>
                    </a:lnTo>
                    <a:lnTo>
                      <a:pt x="124" y="1308"/>
                    </a:lnTo>
                    <a:lnTo>
                      <a:pt x="142" y="1312"/>
                    </a:lnTo>
                    <a:lnTo>
                      <a:pt x="159" y="1314"/>
                    </a:lnTo>
                    <a:lnTo>
                      <a:pt x="178" y="1315"/>
                    </a:lnTo>
                    <a:lnTo>
                      <a:pt x="1348" y="1315"/>
                    </a:lnTo>
                    <a:lnTo>
                      <a:pt x="1367" y="1315"/>
                    </a:lnTo>
                    <a:lnTo>
                      <a:pt x="1385" y="1314"/>
                    </a:lnTo>
                    <a:lnTo>
                      <a:pt x="1403" y="1313"/>
                    </a:lnTo>
                    <a:lnTo>
                      <a:pt x="1422" y="1311"/>
                    </a:lnTo>
                    <a:lnTo>
                      <a:pt x="1440" y="1309"/>
                    </a:lnTo>
                    <a:lnTo>
                      <a:pt x="1458" y="1306"/>
                    </a:lnTo>
                    <a:lnTo>
                      <a:pt x="1476" y="1303"/>
                    </a:lnTo>
                    <a:lnTo>
                      <a:pt x="1493" y="1299"/>
                    </a:lnTo>
                    <a:lnTo>
                      <a:pt x="1528" y="1289"/>
                    </a:lnTo>
                    <a:lnTo>
                      <a:pt x="1562" y="1278"/>
                    </a:lnTo>
                    <a:lnTo>
                      <a:pt x="1595" y="1265"/>
                    </a:lnTo>
                    <a:lnTo>
                      <a:pt x="1627" y="1249"/>
                    </a:lnTo>
                    <a:lnTo>
                      <a:pt x="1657" y="1234"/>
                    </a:lnTo>
                    <a:lnTo>
                      <a:pt x="1687" y="1215"/>
                    </a:lnTo>
                    <a:lnTo>
                      <a:pt x="1716" y="1195"/>
                    </a:lnTo>
                    <a:lnTo>
                      <a:pt x="1743" y="1174"/>
                    </a:lnTo>
                    <a:lnTo>
                      <a:pt x="1769" y="1151"/>
                    </a:lnTo>
                    <a:lnTo>
                      <a:pt x="1794" y="1127"/>
                    </a:lnTo>
                    <a:lnTo>
                      <a:pt x="1817" y="1101"/>
                    </a:lnTo>
                    <a:lnTo>
                      <a:pt x="1838" y="1074"/>
                    </a:lnTo>
                    <a:lnTo>
                      <a:pt x="2443" y="282"/>
                    </a:lnTo>
                    <a:lnTo>
                      <a:pt x="2451" y="271"/>
                    </a:lnTo>
                    <a:lnTo>
                      <a:pt x="2458" y="259"/>
                    </a:lnTo>
                    <a:lnTo>
                      <a:pt x="2464" y="247"/>
                    </a:lnTo>
                    <a:lnTo>
                      <a:pt x="2469" y="233"/>
                    </a:lnTo>
                    <a:lnTo>
                      <a:pt x="2474" y="219"/>
                    </a:lnTo>
                    <a:lnTo>
                      <a:pt x="2477" y="206"/>
                    </a:lnTo>
                    <a:lnTo>
                      <a:pt x="2478" y="191"/>
                    </a:lnTo>
                    <a:lnTo>
                      <a:pt x="2479" y="175"/>
                    </a:lnTo>
                    <a:close/>
                    <a:moveTo>
                      <a:pt x="1665" y="348"/>
                    </a:moveTo>
                    <a:lnTo>
                      <a:pt x="1185" y="978"/>
                    </a:lnTo>
                    <a:lnTo>
                      <a:pt x="1174" y="991"/>
                    </a:lnTo>
                    <a:lnTo>
                      <a:pt x="1160" y="1004"/>
                    </a:lnTo>
                    <a:lnTo>
                      <a:pt x="1145" y="1014"/>
                    </a:lnTo>
                    <a:lnTo>
                      <a:pt x="1130" y="1024"/>
                    </a:lnTo>
                    <a:lnTo>
                      <a:pt x="1122" y="1027"/>
                    </a:lnTo>
                    <a:lnTo>
                      <a:pt x="1113" y="1031"/>
                    </a:lnTo>
                    <a:lnTo>
                      <a:pt x="1105" y="1033"/>
                    </a:lnTo>
                    <a:lnTo>
                      <a:pt x="1095" y="1036"/>
                    </a:lnTo>
                    <a:lnTo>
                      <a:pt x="1086" y="1038"/>
                    </a:lnTo>
                    <a:lnTo>
                      <a:pt x="1077" y="1039"/>
                    </a:lnTo>
                    <a:lnTo>
                      <a:pt x="1068" y="1040"/>
                    </a:lnTo>
                    <a:lnTo>
                      <a:pt x="1058" y="1040"/>
                    </a:lnTo>
                    <a:lnTo>
                      <a:pt x="852" y="1040"/>
                    </a:lnTo>
                    <a:lnTo>
                      <a:pt x="842" y="1039"/>
                    </a:lnTo>
                    <a:lnTo>
                      <a:pt x="834" y="1036"/>
                    </a:lnTo>
                    <a:lnTo>
                      <a:pt x="825" y="1032"/>
                    </a:lnTo>
                    <a:lnTo>
                      <a:pt x="819" y="1027"/>
                    </a:lnTo>
                    <a:lnTo>
                      <a:pt x="813" y="1020"/>
                    </a:lnTo>
                    <a:lnTo>
                      <a:pt x="808" y="1012"/>
                    </a:lnTo>
                    <a:lnTo>
                      <a:pt x="806" y="1004"/>
                    </a:lnTo>
                    <a:lnTo>
                      <a:pt x="805" y="994"/>
                    </a:lnTo>
                    <a:lnTo>
                      <a:pt x="805" y="991"/>
                    </a:lnTo>
                    <a:lnTo>
                      <a:pt x="806" y="987"/>
                    </a:lnTo>
                    <a:lnTo>
                      <a:pt x="806" y="984"/>
                    </a:lnTo>
                    <a:lnTo>
                      <a:pt x="807" y="980"/>
                    </a:lnTo>
                    <a:lnTo>
                      <a:pt x="809" y="976"/>
                    </a:lnTo>
                    <a:lnTo>
                      <a:pt x="810" y="973"/>
                    </a:lnTo>
                    <a:lnTo>
                      <a:pt x="813" y="970"/>
                    </a:lnTo>
                    <a:lnTo>
                      <a:pt x="815" y="967"/>
                    </a:lnTo>
                    <a:lnTo>
                      <a:pt x="1294" y="338"/>
                    </a:lnTo>
                    <a:lnTo>
                      <a:pt x="1306" y="324"/>
                    </a:lnTo>
                    <a:lnTo>
                      <a:pt x="1320" y="311"/>
                    </a:lnTo>
                    <a:lnTo>
                      <a:pt x="1333" y="301"/>
                    </a:lnTo>
                    <a:lnTo>
                      <a:pt x="1349" y="293"/>
                    </a:lnTo>
                    <a:lnTo>
                      <a:pt x="1366" y="285"/>
                    </a:lnTo>
                    <a:lnTo>
                      <a:pt x="1384" y="280"/>
                    </a:lnTo>
                    <a:lnTo>
                      <a:pt x="1393" y="278"/>
                    </a:lnTo>
                    <a:lnTo>
                      <a:pt x="1402" y="276"/>
                    </a:lnTo>
                    <a:lnTo>
                      <a:pt x="1412" y="276"/>
                    </a:lnTo>
                    <a:lnTo>
                      <a:pt x="1421" y="275"/>
                    </a:lnTo>
                    <a:lnTo>
                      <a:pt x="1628" y="275"/>
                    </a:lnTo>
                    <a:lnTo>
                      <a:pt x="1637" y="276"/>
                    </a:lnTo>
                    <a:lnTo>
                      <a:pt x="1646" y="279"/>
                    </a:lnTo>
                    <a:lnTo>
                      <a:pt x="1654" y="283"/>
                    </a:lnTo>
                    <a:lnTo>
                      <a:pt x="1661" y="288"/>
                    </a:lnTo>
                    <a:lnTo>
                      <a:pt x="1666" y="296"/>
                    </a:lnTo>
                    <a:lnTo>
                      <a:pt x="1670" y="303"/>
                    </a:lnTo>
                    <a:lnTo>
                      <a:pt x="1673" y="311"/>
                    </a:lnTo>
                    <a:lnTo>
                      <a:pt x="1674" y="321"/>
                    </a:lnTo>
                    <a:lnTo>
                      <a:pt x="1674" y="325"/>
                    </a:lnTo>
                    <a:lnTo>
                      <a:pt x="1673" y="328"/>
                    </a:lnTo>
                    <a:lnTo>
                      <a:pt x="1672" y="332"/>
                    </a:lnTo>
                    <a:lnTo>
                      <a:pt x="1672" y="335"/>
                    </a:lnTo>
                    <a:lnTo>
                      <a:pt x="1670" y="339"/>
                    </a:lnTo>
                    <a:lnTo>
                      <a:pt x="1669" y="342"/>
                    </a:lnTo>
                    <a:lnTo>
                      <a:pt x="1667" y="345"/>
                    </a:lnTo>
                    <a:lnTo>
                      <a:pt x="1665" y="348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5080" y="4650120"/>
                <a:ext cx="154440" cy="165600"/>
              </a:xfrm>
              <a:custGeom>
                <a:avLst/>
                <a:gdLst/>
                <a:ahLst/>
                <a:rect l="l" t="t" r="r" b="b"/>
                <a:pathLst>
                  <a:path w="2659" h="1315">
                    <a:moveTo>
                      <a:pt x="2484" y="463"/>
                    </a:moveTo>
                    <a:lnTo>
                      <a:pt x="2623" y="282"/>
                    </a:lnTo>
                    <a:lnTo>
                      <a:pt x="2631" y="271"/>
                    </a:lnTo>
                    <a:lnTo>
                      <a:pt x="2637" y="259"/>
                    </a:lnTo>
                    <a:lnTo>
                      <a:pt x="2644" y="247"/>
                    </a:lnTo>
                    <a:lnTo>
                      <a:pt x="2649" y="233"/>
                    </a:lnTo>
                    <a:lnTo>
                      <a:pt x="2653" y="219"/>
                    </a:lnTo>
                    <a:lnTo>
                      <a:pt x="2655" y="206"/>
                    </a:lnTo>
                    <a:lnTo>
                      <a:pt x="2658" y="191"/>
                    </a:lnTo>
                    <a:lnTo>
                      <a:pt x="2659" y="175"/>
                    </a:lnTo>
                    <a:lnTo>
                      <a:pt x="2658" y="158"/>
                    </a:lnTo>
                    <a:lnTo>
                      <a:pt x="2654" y="141"/>
                    </a:lnTo>
                    <a:lnTo>
                      <a:pt x="2650" y="123"/>
                    </a:lnTo>
                    <a:lnTo>
                      <a:pt x="2644" y="107"/>
                    </a:lnTo>
                    <a:lnTo>
                      <a:pt x="2636" y="92"/>
                    </a:lnTo>
                    <a:lnTo>
                      <a:pt x="2628" y="77"/>
                    </a:lnTo>
                    <a:lnTo>
                      <a:pt x="2617" y="64"/>
                    </a:lnTo>
                    <a:lnTo>
                      <a:pt x="2606" y="51"/>
                    </a:lnTo>
                    <a:lnTo>
                      <a:pt x="2593" y="41"/>
                    </a:lnTo>
                    <a:lnTo>
                      <a:pt x="2579" y="30"/>
                    </a:lnTo>
                    <a:lnTo>
                      <a:pt x="2566" y="21"/>
                    </a:lnTo>
                    <a:lnTo>
                      <a:pt x="2550" y="13"/>
                    </a:lnTo>
                    <a:lnTo>
                      <a:pt x="2533" y="8"/>
                    </a:lnTo>
                    <a:lnTo>
                      <a:pt x="2516" y="3"/>
                    </a:lnTo>
                    <a:lnTo>
                      <a:pt x="2499" y="1"/>
                    </a:lnTo>
                    <a:lnTo>
                      <a:pt x="2480" y="0"/>
                    </a:lnTo>
                    <a:lnTo>
                      <a:pt x="1732" y="0"/>
                    </a:lnTo>
                    <a:lnTo>
                      <a:pt x="1004" y="0"/>
                    </a:lnTo>
                    <a:lnTo>
                      <a:pt x="0" y="1315"/>
                    </a:lnTo>
                    <a:lnTo>
                      <a:pt x="693" y="1315"/>
                    </a:lnTo>
                    <a:lnTo>
                      <a:pt x="1528" y="1315"/>
                    </a:lnTo>
                    <a:lnTo>
                      <a:pt x="1546" y="1315"/>
                    </a:lnTo>
                    <a:lnTo>
                      <a:pt x="1565" y="1314"/>
                    </a:lnTo>
                    <a:lnTo>
                      <a:pt x="1583" y="1313"/>
                    </a:lnTo>
                    <a:lnTo>
                      <a:pt x="1602" y="1311"/>
                    </a:lnTo>
                    <a:lnTo>
                      <a:pt x="1620" y="1309"/>
                    </a:lnTo>
                    <a:lnTo>
                      <a:pt x="1638" y="1306"/>
                    </a:lnTo>
                    <a:lnTo>
                      <a:pt x="1656" y="1303"/>
                    </a:lnTo>
                    <a:lnTo>
                      <a:pt x="1673" y="1299"/>
                    </a:lnTo>
                    <a:lnTo>
                      <a:pt x="1708" y="1289"/>
                    </a:lnTo>
                    <a:lnTo>
                      <a:pt x="1742" y="1278"/>
                    </a:lnTo>
                    <a:lnTo>
                      <a:pt x="1775" y="1265"/>
                    </a:lnTo>
                    <a:lnTo>
                      <a:pt x="1806" y="1249"/>
                    </a:lnTo>
                    <a:lnTo>
                      <a:pt x="1837" y="1234"/>
                    </a:lnTo>
                    <a:lnTo>
                      <a:pt x="1867" y="1215"/>
                    </a:lnTo>
                    <a:lnTo>
                      <a:pt x="1895" y="1195"/>
                    </a:lnTo>
                    <a:lnTo>
                      <a:pt x="1923" y="1174"/>
                    </a:lnTo>
                    <a:lnTo>
                      <a:pt x="1948" y="1151"/>
                    </a:lnTo>
                    <a:lnTo>
                      <a:pt x="1974" y="1127"/>
                    </a:lnTo>
                    <a:lnTo>
                      <a:pt x="1997" y="1101"/>
                    </a:lnTo>
                    <a:lnTo>
                      <a:pt x="2018" y="1074"/>
                    </a:lnTo>
                    <a:lnTo>
                      <a:pt x="2160" y="889"/>
                    </a:lnTo>
                    <a:lnTo>
                      <a:pt x="2166" y="879"/>
                    </a:lnTo>
                    <a:lnTo>
                      <a:pt x="2172" y="870"/>
                    </a:lnTo>
                    <a:lnTo>
                      <a:pt x="2177" y="859"/>
                    </a:lnTo>
                    <a:lnTo>
                      <a:pt x="2181" y="849"/>
                    </a:lnTo>
                    <a:lnTo>
                      <a:pt x="2184" y="838"/>
                    </a:lnTo>
                    <a:lnTo>
                      <a:pt x="2187" y="827"/>
                    </a:lnTo>
                    <a:lnTo>
                      <a:pt x="2188" y="815"/>
                    </a:lnTo>
                    <a:lnTo>
                      <a:pt x="2189" y="804"/>
                    </a:lnTo>
                    <a:lnTo>
                      <a:pt x="2188" y="786"/>
                    </a:lnTo>
                    <a:lnTo>
                      <a:pt x="2184" y="769"/>
                    </a:lnTo>
                    <a:lnTo>
                      <a:pt x="2179" y="754"/>
                    </a:lnTo>
                    <a:lnTo>
                      <a:pt x="2173" y="739"/>
                    </a:lnTo>
                    <a:lnTo>
                      <a:pt x="2164" y="724"/>
                    </a:lnTo>
                    <a:lnTo>
                      <a:pt x="2155" y="712"/>
                    </a:lnTo>
                    <a:lnTo>
                      <a:pt x="2143" y="700"/>
                    </a:lnTo>
                    <a:lnTo>
                      <a:pt x="2130" y="690"/>
                    </a:lnTo>
                    <a:lnTo>
                      <a:pt x="2157" y="684"/>
                    </a:lnTo>
                    <a:lnTo>
                      <a:pt x="2183" y="675"/>
                    </a:lnTo>
                    <a:lnTo>
                      <a:pt x="2209" y="667"/>
                    </a:lnTo>
                    <a:lnTo>
                      <a:pt x="2234" y="656"/>
                    </a:lnTo>
                    <a:lnTo>
                      <a:pt x="2259" y="646"/>
                    </a:lnTo>
                    <a:lnTo>
                      <a:pt x="2283" y="633"/>
                    </a:lnTo>
                    <a:lnTo>
                      <a:pt x="2306" y="621"/>
                    </a:lnTo>
                    <a:lnTo>
                      <a:pt x="2328" y="606"/>
                    </a:lnTo>
                    <a:lnTo>
                      <a:pt x="2351" y="592"/>
                    </a:lnTo>
                    <a:lnTo>
                      <a:pt x="2372" y="576"/>
                    </a:lnTo>
                    <a:lnTo>
                      <a:pt x="2393" y="559"/>
                    </a:lnTo>
                    <a:lnTo>
                      <a:pt x="2413" y="541"/>
                    </a:lnTo>
                    <a:lnTo>
                      <a:pt x="2432" y="524"/>
                    </a:lnTo>
                    <a:lnTo>
                      <a:pt x="2450" y="504"/>
                    </a:lnTo>
                    <a:lnTo>
                      <a:pt x="2468" y="484"/>
                    </a:lnTo>
                    <a:lnTo>
                      <a:pt x="2484" y="463"/>
                    </a:lnTo>
                    <a:close/>
                    <a:moveTo>
                      <a:pt x="1455" y="859"/>
                    </a:moveTo>
                    <a:lnTo>
                      <a:pt x="1365" y="978"/>
                    </a:lnTo>
                    <a:lnTo>
                      <a:pt x="1352" y="991"/>
                    </a:lnTo>
                    <a:lnTo>
                      <a:pt x="1340" y="1004"/>
                    </a:lnTo>
                    <a:lnTo>
                      <a:pt x="1325" y="1014"/>
                    </a:lnTo>
                    <a:lnTo>
                      <a:pt x="1310" y="1024"/>
                    </a:lnTo>
                    <a:lnTo>
                      <a:pt x="1302" y="1028"/>
                    </a:lnTo>
                    <a:lnTo>
                      <a:pt x="1293" y="1031"/>
                    </a:lnTo>
                    <a:lnTo>
                      <a:pt x="1284" y="1034"/>
                    </a:lnTo>
                    <a:lnTo>
                      <a:pt x="1275" y="1036"/>
                    </a:lnTo>
                    <a:lnTo>
                      <a:pt x="1266" y="1038"/>
                    </a:lnTo>
                    <a:lnTo>
                      <a:pt x="1256" y="1039"/>
                    </a:lnTo>
                    <a:lnTo>
                      <a:pt x="1246" y="1040"/>
                    </a:lnTo>
                    <a:lnTo>
                      <a:pt x="1237" y="1040"/>
                    </a:lnTo>
                    <a:lnTo>
                      <a:pt x="938" y="1040"/>
                    </a:lnTo>
                    <a:lnTo>
                      <a:pt x="1132" y="786"/>
                    </a:lnTo>
                    <a:lnTo>
                      <a:pt x="1418" y="786"/>
                    </a:lnTo>
                    <a:lnTo>
                      <a:pt x="1426" y="787"/>
                    </a:lnTo>
                    <a:lnTo>
                      <a:pt x="1436" y="790"/>
                    </a:lnTo>
                    <a:lnTo>
                      <a:pt x="1443" y="795"/>
                    </a:lnTo>
                    <a:lnTo>
                      <a:pt x="1451" y="800"/>
                    </a:lnTo>
                    <a:lnTo>
                      <a:pt x="1456" y="807"/>
                    </a:lnTo>
                    <a:lnTo>
                      <a:pt x="1460" y="814"/>
                    </a:lnTo>
                    <a:lnTo>
                      <a:pt x="1462" y="823"/>
                    </a:lnTo>
                    <a:lnTo>
                      <a:pt x="1463" y="832"/>
                    </a:lnTo>
                    <a:lnTo>
                      <a:pt x="1463" y="836"/>
                    </a:lnTo>
                    <a:lnTo>
                      <a:pt x="1463" y="839"/>
                    </a:lnTo>
                    <a:lnTo>
                      <a:pt x="1462" y="844"/>
                    </a:lnTo>
                    <a:lnTo>
                      <a:pt x="1461" y="847"/>
                    </a:lnTo>
                    <a:lnTo>
                      <a:pt x="1460" y="850"/>
                    </a:lnTo>
                    <a:lnTo>
                      <a:pt x="1458" y="853"/>
                    </a:lnTo>
                    <a:lnTo>
                      <a:pt x="1457" y="856"/>
                    </a:lnTo>
                    <a:lnTo>
                      <a:pt x="1455" y="859"/>
                    </a:lnTo>
                    <a:close/>
                    <a:moveTo>
                      <a:pt x="1845" y="348"/>
                    </a:moveTo>
                    <a:lnTo>
                      <a:pt x="1768" y="448"/>
                    </a:lnTo>
                    <a:lnTo>
                      <a:pt x="1757" y="462"/>
                    </a:lnTo>
                    <a:lnTo>
                      <a:pt x="1743" y="475"/>
                    </a:lnTo>
                    <a:lnTo>
                      <a:pt x="1729" y="485"/>
                    </a:lnTo>
                    <a:lnTo>
                      <a:pt x="1713" y="494"/>
                    </a:lnTo>
                    <a:lnTo>
                      <a:pt x="1705" y="499"/>
                    </a:lnTo>
                    <a:lnTo>
                      <a:pt x="1696" y="502"/>
                    </a:lnTo>
                    <a:lnTo>
                      <a:pt x="1688" y="505"/>
                    </a:lnTo>
                    <a:lnTo>
                      <a:pt x="1678" y="507"/>
                    </a:lnTo>
                    <a:lnTo>
                      <a:pt x="1670" y="509"/>
                    </a:lnTo>
                    <a:lnTo>
                      <a:pt x="1660" y="510"/>
                    </a:lnTo>
                    <a:lnTo>
                      <a:pt x="1651" y="511"/>
                    </a:lnTo>
                    <a:lnTo>
                      <a:pt x="1641" y="511"/>
                    </a:lnTo>
                    <a:lnTo>
                      <a:pt x="1342" y="511"/>
                    </a:lnTo>
                    <a:lnTo>
                      <a:pt x="1522" y="275"/>
                    </a:lnTo>
                    <a:lnTo>
                      <a:pt x="1808" y="275"/>
                    </a:lnTo>
                    <a:lnTo>
                      <a:pt x="1817" y="276"/>
                    </a:lnTo>
                    <a:lnTo>
                      <a:pt x="1826" y="279"/>
                    </a:lnTo>
                    <a:lnTo>
                      <a:pt x="1833" y="283"/>
                    </a:lnTo>
                    <a:lnTo>
                      <a:pt x="1840" y="288"/>
                    </a:lnTo>
                    <a:lnTo>
                      <a:pt x="1846" y="296"/>
                    </a:lnTo>
                    <a:lnTo>
                      <a:pt x="1850" y="303"/>
                    </a:lnTo>
                    <a:lnTo>
                      <a:pt x="1853" y="311"/>
                    </a:lnTo>
                    <a:lnTo>
                      <a:pt x="1854" y="321"/>
                    </a:lnTo>
                    <a:lnTo>
                      <a:pt x="1854" y="325"/>
                    </a:lnTo>
                    <a:lnTo>
                      <a:pt x="1853" y="328"/>
                    </a:lnTo>
                    <a:lnTo>
                      <a:pt x="1852" y="332"/>
                    </a:lnTo>
                    <a:lnTo>
                      <a:pt x="1851" y="335"/>
                    </a:lnTo>
                    <a:lnTo>
                      <a:pt x="1850" y="339"/>
                    </a:lnTo>
                    <a:lnTo>
                      <a:pt x="1849" y="342"/>
                    </a:lnTo>
                    <a:lnTo>
                      <a:pt x="1847" y="345"/>
                    </a:lnTo>
                    <a:lnTo>
                      <a:pt x="1845" y="348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147320" y="4647960"/>
                <a:ext cx="28800" cy="63720"/>
              </a:xfrm>
              <a:custGeom>
                <a:avLst/>
                <a:gdLst/>
                <a:ahLst/>
                <a:rect l="l" t="t" r="r" b="b"/>
                <a:pathLst>
                  <a:path w="508" h="502">
                    <a:moveTo>
                      <a:pt x="254" y="0"/>
                    </a:moveTo>
                    <a:lnTo>
                      <a:pt x="241" y="1"/>
                    </a:lnTo>
                    <a:lnTo>
                      <a:pt x="227" y="2"/>
                    </a:lnTo>
                    <a:lnTo>
                      <a:pt x="215" y="3"/>
                    </a:lnTo>
                    <a:lnTo>
                      <a:pt x="203" y="5"/>
                    </a:lnTo>
                    <a:lnTo>
                      <a:pt x="190" y="8"/>
                    </a:lnTo>
                    <a:lnTo>
                      <a:pt x="179" y="11"/>
                    </a:lnTo>
                    <a:lnTo>
                      <a:pt x="166" y="16"/>
                    </a:lnTo>
                    <a:lnTo>
                      <a:pt x="155" y="20"/>
                    </a:lnTo>
                    <a:lnTo>
                      <a:pt x="144" y="25"/>
                    </a:lnTo>
                    <a:lnTo>
                      <a:pt x="133" y="30"/>
                    </a:lnTo>
                    <a:lnTo>
                      <a:pt x="122" y="36"/>
                    </a:lnTo>
                    <a:lnTo>
                      <a:pt x="112" y="43"/>
                    </a:lnTo>
                    <a:lnTo>
                      <a:pt x="101" y="50"/>
                    </a:lnTo>
                    <a:lnTo>
                      <a:pt x="92" y="57"/>
                    </a:lnTo>
                    <a:lnTo>
                      <a:pt x="83" y="66"/>
                    </a:lnTo>
                    <a:lnTo>
                      <a:pt x="74" y="74"/>
                    </a:lnTo>
                    <a:lnTo>
                      <a:pt x="65" y="82"/>
                    </a:lnTo>
                    <a:lnTo>
                      <a:pt x="58" y="92"/>
                    </a:lnTo>
                    <a:lnTo>
                      <a:pt x="51" y="101"/>
                    </a:lnTo>
                    <a:lnTo>
                      <a:pt x="43" y="111"/>
                    </a:lnTo>
                    <a:lnTo>
                      <a:pt x="37" y="121"/>
                    </a:lnTo>
                    <a:lnTo>
                      <a:pt x="31" y="132"/>
                    </a:lnTo>
                    <a:lnTo>
                      <a:pt x="25" y="142"/>
                    </a:lnTo>
                    <a:lnTo>
                      <a:pt x="20" y="154"/>
                    </a:lnTo>
                    <a:lnTo>
                      <a:pt x="16" y="165"/>
                    </a:lnTo>
                    <a:lnTo>
                      <a:pt x="12" y="177"/>
                    </a:lnTo>
                    <a:lnTo>
                      <a:pt x="8" y="188"/>
                    </a:lnTo>
                    <a:lnTo>
                      <a:pt x="5" y="201"/>
                    </a:lnTo>
                    <a:lnTo>
                      <a:pt x="3" y="213"/>
                    </a:lnTo>
                    <a:lnTo>
                      <a:pt x="1" y="226"/>
                    </a:lnTo>
                    <a:lnTo>
                      <a:pt x="1" y="238"/>
                    </a:lnTo>
                    <a:lnTo>
                      <a:pt x="0" y="251"/>
                    </a:lnTo>
                    <a:lnTo>
                      <a:pt x="1" y="264"/>
                    </a:lnTo>
                    <a:lnTo>
                      <a:pt x="1" y="277"/>
                    </a:lnTo>
                    <a:lnTo>
                      <a:pt x="3" y="290"/>
                    </a:lnTo>
                    <a:lnTo>
                      <a:pt x="5" y="302"/>
                    </a:lnTo>
                    <a:lnTo>
                      <a:pt x="8" y="314"/>
                    </a:lnTo>
                    <a:lnTo>
                      <a:pt x="12" y="326"/>
                    </a:lnTo>
                    <a:lnTo>
                      <a:pt x="16" y="338"/>
                    </a:lnTo>
                    <a:lnTo>
                      <a:pt x="20" y="349"/>
                    </a:lnTo>
                    <a:lnTo>
                      <a:pt x="25" y="360"/>
                    </a:lnTo>
                    <a:lnTo>
                      <a:pt x="31" y="371"/>
                    </a:lnTo>
                    <a:lnTo>
                      <a:pt x="37" y="382"/>
                    </a:lnTo>
                    <a:lnTo>
                      <a:pt x="43" y="392"/>
                    </a:lnTo>
                    <a:lnTo>
                      <a:pt x="51" y="401"/>
                    </a:lnTo>
                    <a:lnTo>
                      <a:pt x="58" y="411"/>
                    </a:lnTo>
                    <a:lnTo>
                      <a:pt x="65" y="420"/>
                    </a:lnTo>
                    <a:lnTo>
                      <a:pt x="74" y="429"/>
                    </a:lnTo>
                    <a:lnTo>
                      <a:pt x="83" y="437"/>
                    </a:lnTo>
                    <a:lnTo>
                      <a:pt x="92" y="444"/>
                    </a:lnTo>
                    <a:lnTo>
                      <a:pt x="101" y="453"/>
                    </a:lnTo>
                    <a:lnTo>
                      <a:pt x="112" y="459"/>
                    </a:lnTo>
                    <a:lnTo>
                      <a:pt x="122" y="466"/>
                    </a:lnTo>
                    <a:lnTo>
                      <a:pt x="133" y="472"/>
                    </a:lnTo>
                    <a:lnTo>
                      <a:pt x="144" y="478"/>
                    </a:lnTo>
                    <a:lnTo>
                      <a:pt x="155" y="482"/>
                    </a:lnTo>
                    <a:lnTo>
                      <a:pt x="166" y="487"/>
                    </a:lnTo>
                    <a:lnTo>
                      <a:pt x="179" y="490"/>
                    </a:lnTo>
                    <a:lnTo>
                      <a:pt x="190" y="495"/>
                    </a:lnTo>
                    <a:lnTo>
                      <a:pt x="203" y="497"/>
                    </a:lnTo>
                    <a:lnTo>
                      <a:pt x="215" y="499"/>
                    </a:lnTo>
                    <a:lnTo>
                      <a:pt x="227" y="501"/>
                    </a:lnTo>
                    <a:lnTo>
                      <a:pt x="241" y="502"/>
                    </a:lnTo>
                    <a:lnTo>
                      <a:pt x="254" y="502"/>
                    </a:lnTo>
                    <a:lnTo>
                      <a:pt x="267" y="502"/>
                    </a:lnTo>
                    <a:lnTo>
                      <a:pt x="280" y="501"/>
                    </a:lnTo>
                    <a:lnTo>
                      <a:pt x="293" y="499"/>
                    </a:lnTo>
                    <a:lnTo>
                      <a:pt x="305" y="497"/>
                    </a:lnTo>
                    <a:lnTo>
                      <a:pt x="317" y="495"/>
                    </a:lnTo>
                    <a:lnTo>
                      <a:pt x="329" y="490"/>
                    </a:lnTo>
                    <a:lnTo>
                      <a:pt x="342" y="487"/>
                    </a:lnTo>
                    <a:lnTo>
                      <a:pt x="353" y="482"/>
                    </a:lnTo>
                    <a:lnTo>
                      <a:pt x="364" y="478"/>
                    </a:lnTo>
                    <a:lnTo>
                      <a:pt x="375" y="472"/>
                    </a:lnTo>
                    <a:lnTo>
                      <a:pt x="385" y="466"/>
                    </a:lnTo>
                    <a:lnTo>
                      <a:pt x="396" y="459"/>
                    </a:lnTo>
                    <a:lnTo>
                      <a:pt x="406" y="453"/>
                    </a:lnTo>
                    <a:lnTo>
                      <a:pt x="416" y="444"/>
                    </a:lnTo>
                    <a:lnTo>
                      <a:pt x="424" y="437"/>
                    </a:lnTo>
                    <a:lnTo>
                      <a:pt x="434" y="429"/>
                    </a:lnTo>
                    <a:lnTo>
                      <a:pt x="442" y="420"/>
                    </a:lnTo>
                    <a:lnTo>
                      <a:pt x="450" y="411"/>
                    </a:lnTo>
                    <a:lnTo>
                      <a:pt x="457" y="401"/>
                    </a:lnTo>
                    <a:lnTo>
                      <a:pt x="465" y="392"/>
                    </a:lnTo>
                    <a:lnTo>
                      <a:pt x="471" y="382"/>
                    </a:lnTo>
                    <a:lnTo>
                      <a:pt x="477" y="371"/>
                    </a:lnTo>
                    <a:lnTo>
                      <a:pt x="483" y="360"/>
                    </a:lnTo>
                    <a:lnTo>
                      <a:pt x="488" y="349"/>
                    </a:lnTo>
                    <a:lnTo>
                      <a:pt x="492" y="338"/>
                    </a:lnTo>
                    <a:lnTo>
                      <a:pt x="496" y="326"/>
                    </a:lnTo>
                    <a:lnTo>
                      <a:pt x="500" y="314"/>
                    </a:lnTo>
                    <a:lnTo>
                      <a:pt x="503" y="302"/>
                    </a:lnTo>
                    <a:lnTo>
                      <a:pt x="505" y="290"/>
                    </a:lnTo>
                    <a:lnTo>
                      <a:pt x="507" y="277"/>
                    </a:lnTo>
                    <a:lnTo>
                      <a:pt x="508" y="264"/>
                    </a:lnTo>
                    <a:lnTo>
                      <a:pt x="508" y="251"/>
                    </a:lnTo>
                    <a:lnTo>
                      <a:pt x="508" y="238"/>
                    </a:lnTo>
                    <a:lnTo>
                      <a:pt x="507" y="226"/>
                    </a:lnTo>
                    <a:lnTo>
                      <a:pt x="505" y="213"/>
                    </a:lnTo>
                    <a:lnTo>
                      <a:pt x="503" y="201"/>
                    </a:lnTo>
                    <a:lnTo>
                      <a:pt x="500" y="188"/>
                    </a:lnTo>
                    <a:lnTo>
                      <a:pt x="496" y="177"/>
                    </a:lnTo>
                    <a:lnTo>
                      <a:pt x="492" y="165"/>
                    </a:lnTo>
                    <a:lnTo>
                      <a:pt x="488" y="154"/>
                    </a:lnTo>
                    <a:lnTo>
                      <a:pt x="483" y="142"/>
                    </a:lnTo>
                    <a:lnTo>
                      <a:pt x="477" y="132"/>
                    </a:lnTo>
                    <a:lnTo>
                      <a:pt x="471" y="121"/>
                    </a:lnTo>
                    <a:lnTo>
                      <a:pt x="465" y="111"/>
                    </a:lnTo>
                    <a:lnTo>
                      <a:pt x="457" y="101"/>
                    </a:lnTo>
                    <a:lnTo>
                      <a:pt x="450" y="92"/>
                    </a:lnTo>
                    <a:lnTo>
                      <a:pt x="442" y="82"/>
                    </a:lnTo>
                    <a:lnTo>
                      <a:pt x="434" y="74"/>
                    </a:lnTo>
                    <a:lnTo>
                      <a:pt x="424" y="66"/>
                    </a:lnTo>
                    <a:lnTo>
                      <a:pt x="416" y="57"/>
                    </a:lnTo>
                    <a:lnTo>
                      <a:pt x="406" y="50"/>
                    </a:lnTo>
                    <a:lnTo>
                      <a:pt x="396" y="43"/>
                    </a:lnTo>
                    <a:lnTo>
                      <a:pt x="385" y="36"/>
                    </a:lnTo>
                    <a:lnTo>
                      <a:pt x="375" y="30"/>
                    </a:lnTo>
                    <a:lnTo>
                      <a:pt x="364" y="25"/>
                    </a:lnTo>
                    <a:lnTo>
                      <a:pt x="353" y="20"/>
                    </a:lnTo>
                    <a:lnTo>
                      <a:pt x="342" y="16"/>
                    </a:lnTo>
                    <a:lnTo>
                      <a:pt x="329" y="11"/>
                    </a:lnTo>
                    <a:lnTo>
                      <a:pt x="317" y="8"/>
                    </a:lnTo>
                    <a:lnTo>
                      <a:pt x="305" y="5"/>
                    </a:lnTo>
                    <a:lnTo>
                      <a:pt x="293" y="3"/>
                    </a:lnTo>
                    <a:lnTo>
                      <a:pt x="280" y="2"/>
                    </a:lnTo>
                    <a:lnTo>
                      <a:pt x="267" y="1"/>
                    </a:lnTo>
                    <a:lnTo>
                      <a:pt x="254" y="0"/>
                    </a:lnTo>
                    <a:close/>
                    <a:moveTo>
                      <a:pt x="255" y="480"/>
                    </a:moveTo>
                    <a:lnTo>
                      <a:pt x="242" y="480"/>
                    </a:lnTo>
                    <a:lnTo>
                      <a:pt x="231" y="479"/>
                    </a:lnTo>
                    <a:lnTo>
                      <a:pt x="219" y="477"/>
                    </a:lnTo>
                    <a:lnTo>
                      <a:pt x="207" y="475"/>
                    </a:lnTo>
                    <a:lnTo>
                      <a:pt x="197" y="473"/>
                    </a:lnTo>
                    <a:lnTo>
                      <a:pt x="185" y="469"/>
                    </a:lnTo>
                    <a:lnTo>
                      <a:pt x="175" y="466"/>
                    </a:lnTo>
                    <a:lnTo>
                      <a:pt x="164" y="462"/>
                    </a:lnTo>
                    <a:lnTo>
                      <a:pt x="154" y="457"/>
                    </a:lnTo>
                    <a:lnTo>
                      <a:pt x="144" y="453"/>
                    </a:lnTo>
                    <a:lnTo>
                      <a:pt x="134" y="446"/>
                    </a:lnTo>
                    <a:lnTo>
                      <a:pt x="125" y="441"/>
                    </a:lnTo>
                    <a:lnTo>
                      <a:pt x="116" y="435"/>
                    </a:lnTo>
                    <a:lnTo>
                      <a:pt x="108" y="428"/>
                    </a:lnTo>
                    <a:lnTo>
                      <a:pt x="99" y="420"/>
                    </a:lnTo>
                    <a:lnTo>
                      <a:pt x="92" y="413"/>
                    </a:lnTo>
                    <a:lnTo>
                      <a:pt x="85" y="406"/>
                    </a:lnTo>
                    <a:lnTo>
                      <a:pt x="77" y="397"/>
                    </a:lnTo>
                    <a:lnTo>
                      <a:pt x="71" y="388"/>
                    </a:lnTo>
                    <a:lnTo>
                      <a:pt x="64" y="379"/>
                    </a:lnTo>
                    <a:lnTo>
                      <a:pt x="58" y="370"/>
                    </a:lnTo>
                    <a:lnTo>
                      <a:pt x="53" y="361"/>
                    </a:lnTo>
                    <a:lnTo>
                      <a:pt x="47" y="350"/>
                    </a:lnTo>
                    <a:lnTo>
                      <a:pt x="43" y="341"/>
                    </a:lnTo>
                    <a:lnTo>
                      <a:pt x="39" y="330"/>
                    </a:lnTo>
                    <a:lnTo>
                      <a:pt x="36" y="319"/>
                    </a:lnTo>
                    <a:lnTo>
                      <a:pt x="33" y="308"/>
                    </a:lnTo>
                    <a:lnTo>
                      <a:pt x="31" y="297"/>
                    </a:lnTo>
                    <a:lnTo>
                      <a:pt x="28" y="286"/>
                    </a:lnTo>
                    <a:lnTo>
                      <a:pt x="27" y="275"/>
                    </a:lnTo>
                    <a:lnTo>
                      <a:pt x="26" y="263"/>
                    </a:lnTo>
                    <a:lnTo>
                      <a:pt x="26" y="251"/>
                    </a:lnTo>
                    <a:lnTo>
                      <a:pt x="26" y="239"/>
                    </a:lnTo>
                    <a:lnTo>
                      <a:pt x="27" y="227"/>
                    </a:lnTo>
                    <a:lnTo>
                      <a:pt x="28" y="215"/>
                    </a:lnTo>
                    <a:lnTo>
                      <a:pt x="31" y="204"/>
                    </a:lnTo>
                    <a:lnTo>
                      <a:pt x="33" y="193"/>
                    </a:lnTo>
                    <a:lnTo>
                      <a:pt x="36" y="182"/>
                    </a:lnTo>
                    <a:lnTo>
                      <a:pt x="39" y="171"/>
                    </a:lnTo>
                    <a:lnTo>
                      <a:pt x="43" y="161"/>
                    </a:lnTo>
                    <a:lnTo>
                      <a:pt x="47" y="150"/>
                    </a:lnTo>
                    <a:lnTo>
                      <a:pt x="53" y="141"/>
                    </a:lnTo>
                    <a:lnTo>
                      <a:pt x="58" y="132"/>
                    </a:lnTo>
                    <a:lnTo>
                      <a:pt x="63" y="122"/>
                    </a:lnTo>
                    <a:lnTo>
                      <a:pt x="70" y="113"/>
                    </a:lnTo>
                    <a:lnTo>
                      <a:pt x="76" y="104"/>
                    </a:lnTo>
                    <a:lnTo>
                      <a:pt x="83" y="96"/>
                    </a:lnTo>
                    <a:lnTo>
                      <a:pt x="91" y="88"/>
                    </a:lnTo>
                    <a:lnTo>
                      <a:pt x="99" y="80"/>
                    </a:lnTo>
                    <a:lnTo>
                      <a:pt x="107" y="74"/>
                    </a:lnTo>
                    <a:lnTo>
                      <a:pt x="115" y="67"/>
                    </a:lnTo>
                    <a:lnTo>
                      <a:pt x="125" y="61"/>
                    </a:lnTo>
                    <a:lnTo>
                      <a:pt x="134" y="55"/>
                    </a:lnTo>
                    <a:lnTo>
                      <a:pt x="144" y="49"/>
                    </a:lnTo>
                    <a:lnTo>
                      <a:pt x="153" y="45"/>
                    </a:lnTo>
                    <a:lnTo>
                      <a:pt x="164" y="40"/>
                    </a:lnTo>
                    <a:lnTo>
                      <a:pt x="175" y="36"/>
                    </a:lnTo>
                    <a:lnTo>
                      <a:pt x="185" y="32"/>
                    </a:lnTo>
                    <a:lnTo>
                      <a:pt x="196" y="29"/>
                    </a:lnTo>
                    <a:lnTo>
                      <a:pt x="207" y="27"/>
                    </a:lnTo>
                    <a:lnTo>
                      <a:pt x="219" y="25"/>
                    </a:lnTo>
                    <a:lnTo>
                      <a:pt x="231" y="24"/>
                    </a:lnTo>
                    <a:lnTo>
                      <a:pt x="242" y="23"/>
                    </a:lnTo>
                    <a:lnTo>
                      <a:pt x="255" y="23"/>
                    </a:lnTo>
                    <a:lnTo>
                      <a:pt x="267" y="23"/>
                    </a:lnTo>
                    <a:lnTo>
                      <a:pt x="278" y="24"/>
                    </a:lnTo>
                    <a:lnTo>
                      <a:pt x="290" y="25"/>
                    </a:lnTo>
                    <a:lnTo>
                      <a:pt x="302" y="27"/>
                    </a:lnTo>
                    <a:lnTo>
                      <a:pt x="313" y="29"/>
                    </a:lnTo>
                    <a:lnTo>
                      <a:pt x="324" y="32"/>
                    </a:lnTo>
                    <a:lnTo>
                      <a:pt x="334" y="36"/>
                    </a:lnTo>
                    <a:lnTo>
                      <a:pt x="345" y="40"/>
                    </a:lnTo>
                    <a:lnTo>
                      <a:pt x="365" y="50"/>
                    </a:lnTo>
                    <a:lnTo>
                      <a:pt x="384" y="61"/>
                    </a:lnTo>
                    <a:lnTo>
                      <a:pt x="401" y="74"/>
                    </a:lnTo>
                    <a:lnTo>
                      <a:pt x="417" y="89"/>
                    </a:lnTo>
                    <a:lnTo>
                      <a:pt x="432" y="104"/>
                    </a:lnTo>
                    <a:lnTo>
                      <a:pt x="444" y="122"/>
                    </a:lnTo>
                    <a:lnTo>
                      <a:pt x="456" y="141"/>
                    </a:lnTo>
                    <a:lnTo>
                      <a:pt x="465" y="161"/>
                    </a:lnTo>
                    <a:lnTo>
                      <a:pt x="472" y="182"/>
                    </a:lnTo>
                    <a:lnTo>
                      <a:pt x="477" y="204"/>
                    </a:lnTo>
                    <a:lnTo>
                      <a:pt x="479" y="215"/>
                    </a:lnTo>
                    <a:lnTo>
                      <a:pt x="482" y="227"/>
                    </a:lnTo>
                    <a:lnTo>
                      <a:pt x="482" y="238"/>
                    </a:lnTo>
                    <a:lnTo>
                      <a:pt x="483" y="251"/>
                    </a:lnTo>
                    <a:lnTo>
                      <a:pt x="482" y="262"/>
                    </a:lnTo>
                    <a:lnTo>
                      <a:pt x="482" y="274"/>
                    </a:lnTo>
                    <a:lnTo>
                      <a:pt x="479" y="285"/>
                    </a:lnTo>
                    <a:lnTo>
                      <a:pt x="477" y="297"/>
                    </a:lnTo>
                    <a:lnTo>
                      <a:pt x="475" y="308"/>
                    </a:lnTo>
                    <a:lnTo>
                      <a:pt x="472" y="319"/>
                    </a:lnTo>
                    <a:lnTo>
                      <a:pt x="469" y="329"/>
                    </a:lnTo>
                    <a:lnTo>
                      <a:pt x="465" y="340"/>
                    </a:lnTo>
                    <a:lnTo>
                      <a:pt x="455" y="360"/>
                    </a:lnTo>
                    <a:lnTo>
                      <a:pt x="444" y="378"/>
                    </a:lnTo>
                    <a:lnTo>
                      <a:pt x="438" y="388"/>
                    </a:lnTo>
                    <a:lnTo>
                      <a:pt x="432" y="396"/>
                    </a:lnTo>
                    <a:lnTo>
                      <a:pt x="424" y="405"/>
                    </a:lnTo>
                    <a:lnTo>
                      <a:pt x="417" y="413"/>
                    </a:lnTo>
                    <a:lnTo>
                      <a:pt x="401" y="428"/>
                    </a:lnTo>
                    <a:lnTo>
                      <a:pt x="384" y="441"/>
                    </a:lnTo>
                    <a:lnTo>
                      <a:pt x="375" y="446"/>
                    </a:lnTo>
                    <a:lnTo>
                      <a:pt x="365" y="453"/>
                    </a:lnTo>
                    <a:lnTo>
                      <a:pt x="354" y="457"/>
                    </a:lnTo>
                    <a:lnTo>
                      <a:pt x="345" y="462"/>
                    </a:lnTo>
                    <a:lnTo>
                      <a:pt x="334" y="466"/>
                    </a:lnTo>
                    <a:lnTo>
                      <a:pt x="324" y="469"/>
                    </a:lnTo>
                    <a:lnTo>
                      <a:pt x="313" y="473"/>
                    </a:lnTo>
                    <a:lnTo>
                      <a:pt x="302" y="475"/>
                    </a:lnTo>
                    <a:lnTo>
                      <a:pt x="290" y="477"/>
                    </a:lnTo>
                    <a:lnTo>
                      <a:pt x="278" y="479"/>
                    </a:lnTo>
                    <a:lnTo>
                      <a:pt x="267" y="480"/>
                    </a:lnTo>
                    <a:lnTo>
                      <a:pt x="255" y="480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56680" y="4661280"/>
                <a:ext cx="12240" cy="37440"/>
              </a:xfrm>
              <a:custGeom>
                <a:avLst/>
                <a:gdLst/>
                <a:ahLst/>
                <a:rect l="l" t="t" r="r" b="b"/>
                <a:pathLst>
                  <a:path w="222" h="296">
                    <a:moveTo>
                      <a:pt x="210" y="82"/>
                    </a:moveTo>
                    <a:lnTo>
                      <a:pt x="209" y="73"/>
                    </a:lnTo>
                    <a:lnTo>
                      <a:pt x="208" y="63"/>
                    </a:lnTo>
                    <a:lnTo>
                      <a:pt x="207" y="55"/>
                    </a:lnTo>
                    <a:lnTo>
                      <a:pt x="204" y="46"/>
                    </a:lnTo>
                    <a:lnTo>
                      <a:pt x="201" y="39"/>
                    </a:lnTo>
                    <a:lnTo>
                      <a:pt x="197" y="32"/>
                    </a:lnTo>
                    <a:lnTo>
                      <a:pt x="192" y="27"/>
                    </a:lnTo>
                    <a:lnTo>
                      <a:pt x="187" y="20"/>
                    </a:lnTo>
                    <a:lnTo>
                      <a:pt x="181" y="16"/>
                    </a:lnTo>
                    <a:lnTo>
                      <a:pt x="173" y="12"/>
                    </a:lnTo>
                    <a:lnTo>
                      <a:pt x="165" y="8"/>
                    </a:lnTo>
                    <a:lnTo>
                      <a:pt x="157" y="6"/>
                    </a:lnTo>
                    <a:lnTo>
                      <a:pt x="147" y="3"/>
                    </a:lnTo>
                    <a:lnTo>
                      <a:pt x="136" y="1"/>
                    </a:lnTo>
                    <a:lnTo>
                      <a:pt x="125" y="0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0" y="296"/>
                    </a:lnTo>
                    <a:lnTo>
                      <a:pt x="25" y="296"/>
                    </a:lnTo>
                    <a:lnTo>
                      <a:pt x="25" y="159"/>
                    </a:lnTo>
                    <a:lnTo>
                      <a:pt x="104" y="159"/>
                    </a:lnTo>
                    <a:lnTo>
                      <a:pt x="194" y="296"/>
                    </a:lnTo>
                    <a:lnTo>
                      <a:pt x="222" y="296"/>
                    </a:lnTo>
                    <a:lnTo>
                      <a:pt x="133" y="160"/>
                    </a:lnTo>
                    <a:lnTo>
                      <a:pt x="148" y="157"/>
                    </a:lnTo>
                    <a:lnTo>
                      <a:pt x="163" y="152"/>
                    </a:lnTo>
                    <a:lnTo>
                      <a:pt x="169" y="149"/>
                    </a:lnTo>
                    <a:lnTo>
                      <a:pt x="176" y="145"/>
                    </a:lnTo>
                    <a:lnTo>
                      <a:pt x="182" y="142"/>
                    </a:lnTo>
                    <a:lnTo>
                      <a:pt x="187" y="136"/>
                    </a:lnTo>
                    <a:lnTo>
                      <a:pt x="192" y="131"/>
                    </a:lnTo>
                    <a:lnTo>
                      <a:pt x="197" y="126"/>
                    </a:lnTo>
                    <a:lnTo>
                      <a:pt x="201" y="120"/>
                    </a:lnTo>
                    <a:lnTo>
                      <a:pt x="204" y="113"/>
                    </a:lnTo>
                    <a:lnTo>
                      <a:pt x="206" y="106"/>
                    </a:lnTo>
                    <a:lnTo>
                      <a:pt x="208" y="99"/>
                    </a:lnTo>
                    <a:lnTo>
                      <a:pt x="209" y="90"/>
                    </a:lnTo>
                    <a:lnTo>
                      <a:pt x="210" y="82"/>
                    </a:lnTo>
                    <a:close/>
                    <a:moveTo>
                      <a:pt x="90" y="137"/>
                    </a:moveTo>
                    <a:lnTo>
                      <a:pt x="25" y="137"/>
                    </a:lnTo>
                    <a:lnTo>
                      <a:pt x="25" y="22"/>
                    </a:lnTo>
                    <a:lnTo>
                      <a:pt x="109" y="22"/>
                    </a:lnTo>
                    <a:lnTo>
                      <a:pt x="122" y="22"/>
                    </a:lnTo>
                    <a:lnTo>
                      <a:pt x="135" y="24"/>
                    </a:lnTo>
                    <a:lnTo>
                      <a:pt x="148" y="29"/>
                    </a:lnTo>
                    <a:lnTo>
                      <a:pt x="160" y="35"/>
                    </a:lnTo>
                    <a:lnTo>
                      <a:pt x="165" y="38"/>
                    </a:lnTo>
                    <a:lnTo>
                      <a:pt x="169" y="42"/>
                    </a:lnTo>
                    <a:lnTo>
                      <a:pt x="173" y="47"/>
                    </a:lnTo>
                    <a:lnTo>
                      <a:pt x="178" y="53"/>
                    </a:lnTo>
                    <a:lnTo>
                      <a:pt x="181" y="59"/>
                    </a:lnTo>
                    <a:lnTo>
                      <a:pt x="183" y="65"/>
                    </a:lnTo>
                    <a:lnTo>
                      <a:pt x="184" y="73"/>
                    </a:lnTo>
                    <a:lnTo>
                      <a:pt x="184" y="81"/>
                    </a:lnTo>
                    <a:lnTo>
                      <a:pt x="184" y="90"/>
                    </a:lnTo>
                    <a:lnTo>
                      <a:pt x="182" y="99"/>
                    </a:lnTo>
                    <a:lnTo>
                      <a:pt x="180" y="105"/>
                    </a:lnTo>
                    <a:lnTo>
                      <a:pt x="176" y="111"/>
                    </a:lnTo>
                    <a:lnTo>
                      <a:pt x="171" y="118"/>
                    </a:lnTo>
                    <a:lnTo>
                      <a:pt x="166" y="122"/>
                    </a:lnTo>
                    <a:lnTo>
                      <a:pt x="161" y="126"/>
                    </a:lnTo>
                    <a:lnTo>
                      <a:pt x="154" y="129"/>
                    </a:lnTo>
                    <a:lnTo>
                      <a:pt x="147" y="131"/>
                    </a:lnTo>
                    <a:lnTo>
                      <a:pt x="140" y="133"/>
                    </a:lnTo>
                    <a:lnTo>
                      <a:pt x="131" y="134"/>
                    </a:lnTo>
                    <a:lnTo>
                      <a:pt x="124" y="136"/>
                    </a:lnTo>
                    <a:lnTo>
                      <a:pt x="107" y="137"/>
                    </a:lnTo>
                    <a:lnTo>
                      <a:pt x="90" y="137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1165320" y="4219560"/>
              <a:ext cx="3898800" cy="98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eing Solid State Electron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W. Snap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r. Gary Nel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68840" y="4568760"/>
              <a:ext cx="4282920" cy="3668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fense electronic system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43800" y="1407960"/>
            <a:ext cx="2306520" cy="1464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xed-Signal 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ed 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7320" y="1100160"/>
            <a:ext cx="5163480" cy="19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. Richard Shi (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Pavel Nikitin (Assistant Directo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. V. Jandhyala (Co-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. D. Allstot (Co-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Guoyong Shi (CoSMoS Solver L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223920" y="1531800"/>
            <a:ext cx="766800" cy="78264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84320" y="5130720"/>
            <a:ext cx="8775360" cy="736560"/>
            <a:chOff x="184320" y="5130720"/>
            <a:chExt cx="8775360" cy="736560"/>
          </a:xfrm>
        </p:grpSpPr>
        <p:sp>
          <p:nvSpPr>
            <p:cNvPr id="142" name=""/>
            <p:cNvSpPr/>
            <p:nvPr/>
          </p:nvSpPr>
          <p:spPr>
            <a:xfrm>
              <a:off x="457200" y="5867280"/>
              <a:ext cx="799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4280" y="5148360"/>
              <a:ext cx="799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65320" y="5130720"/>
              <a:ext cx="355104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ora Design Technolog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M. M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68840" y="5329080"/>
              <a:ext cx="4290840" cy="3668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alog/RF design auto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4320" y="5261040"/>
              <a:ext cx="8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ahoma"/>
                </a:rPr>
                <a:t>OD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14240" y="268200"/>
            <a:ext cx="5508360" cy="7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oSMoS UW Student Researchers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93760" y="1101600"/>
            <a:ext cx="7777080" cy="61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toral Candida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icia Manthe (SRC Fel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ng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Wang (SRC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uddha Bhattacgarya (NSF-IT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hao Li (S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 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Xiaoyong Li (NSF), Adam Chu (TI), Jinho Pa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D Stud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Yang, Lili Zhou (NSF-CARE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 Hu, Kishore Tanikella, Renpi Yu (Jan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panjan Gope (S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odd 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wagato Chakrabo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hyanyi Yang (NSF-CARE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graduate Research Stud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ristopher Baker (NSF-R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us Mak (NSF-R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 Assi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m Eisenheim, Monica Leib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3920" y="1531800"/>
            <a:ext cx="7668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develop a unified language for exact, hierarchical, behavioral modeling and simulation of giga-scale mixed-signal systems-on-c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develop compilation and simulation technologies for coupled modeling  of discrete-event, continuous-time lumped (ODEs) and distributed (PDEs)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develop advanced EM (PDEs/IEs) solving capabilities with 100x speed improvement for performance-critical SoC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demonstrate and validate proposed modeling/simulation technologies in DoD electronic system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8720" y="174600"/>
            <a:ext cx="69595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S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esearch Tasks &amp;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oSMoS over the State-of-Ar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0 to 1000 times speed up for post layout SoC sim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cy when needed for wide dynamic range/high frequency military electron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 EM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 RF device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ce models in a day” for advanced and obsolete military semiconductor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mplement and depl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y physics (deep submicron, thermal, MEMS,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lle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 breakthrough research + industry robust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s this hard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17520" y="4646520"/>
            <a:ext cx="5857920" cy="1906560"/>
          </a:xfrm>
          <a:custGeom>
            <a:avLst/>
            <a:gdLst/>
            <a:ahLst/>
            <a:rect l="l" t="t" r="r" b="b"/>
            <a:pathLst>
              <a:path w="3690" h="1201">
                <a:moveTo>
                  <a:pt x="136" y="619"/>
                </a:moveTo>
                <a:lnTo>
                  <a:pt x="854" y="646"/>
                </a:lnTo>
                <a:lnTo>
                  <a:pt x="2045" y="673"/>
                </a:lnTo>
                <a:lnTo>
                  <a:pt x="2545" y="273"/>
                </a:lnTo>
                <a:lnTo>
                  <a:pt x="3300" y="0"/>
                </a:lnTo>
                <a:lnTo>
                  <a:pt x="3690" y="191"/>
                </a:lnTo>
                <a:lnTo>
                  <a:pt x="3654" y="546"/>
                </a:lnTo>
                <a:lnTo>
                  <a:pt x="3381" y="746"/>
                </a:lnTo>
                <a:lnTo>
                  <a:pt x="3245" y="1082"/>
                </a:lnTo>
                <a:lnTo>
                  <a:pt x="1691" y="1201"/>
                </a:lnTo>
                <a:lnTo>
                  <a:pt x="536" y="1191"/>
                </a:lnTo>
                <a:lnTo>
                  <a:pt x="0" y="991"/>
                </a:lnTo>
                <a:lnTo>
                  <a:pt x="109" y="710"/>
                </a:lnTo>
                <a:lnTo>
                  <a:pt x="136" y="61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CoSMoS Flow: Enable Behavioral Modeling</a:t>
            </a:r>
            <a:br>
              <a:rPr sz="2400"/>
            </a:b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and Simulation for SoC Design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85000" y="114948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1440" y="5842080"/>
            <a:ext cx="177624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SILCA/SP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73000" y="5124600"/>
            <a:ext cx="166680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Misty/B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37000" y="2981160"/>
            <a:ext cx="180828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Frosty CA/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94320" y="3371760"/>
            <a:ext cx="111492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SAM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80840" y="1639800"/>
            <a:ext cx="33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ircuit/Parasitic Extr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71520" y="1725480"/>
            <a:ext cx="10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75760" y="1706400"/>
            <a:ext cx="98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2400" y="4352760"/>
            <a:ext cx="209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asitic-A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ehavi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1400" y="337824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A Effort (D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22640" y="4417920"/>
            <a:ext cx="209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asitic-A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ehavi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65160" y="3746520"/>
            <a:ext cx="231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ierarch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MS*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37000" y="3754440"/>
            <a:ext cx="417240" cy="546120"/>
          </a:xfrm>
          <a:prstGeom prst="downArrow">
            <a:avLst>
              <a:gd name="adj1" fmla="val 50000"/>
              <a:gd name="adj2" fmla="val 327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02080" y="2867040"/>
            <a:ext cx="417240" cy="546120"/>
          </a:xfrm>
          <a:prstGeom prst="downArrow">
            <a:avLst>
              <a:gd name="adj1" fmla="val 50000"/>
              <a:gd name="adj2" fmla="val 327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92640" y="3365640"/>
            <a:ext cx="417600" cy="458640"/>
          </a:xfrm>
          <a:prstGeom prst="downArrow">
            <a:avLst>
              <a:gd name="adj1" fmla="val 50000"/>
              <a:gd name="adj2" fmla="val 2745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6520" y="4441680"/>
            <a:ext cx="417240" cy="546120"/>
          </a:xfrm>
          <a:prstGeom prst="downArrow">
            <a:avLst>
              <a:gd name="adj1" fmla="val 50000"/>
              <a:gd name="adj2" fmla="val 327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92640" y="2008080"/>
            <a:ext cx="417600" cy="906480"/>
          </a:xfrm>
          <a:prstGeom prst="downArrow">
            <a:avLst>
              <a:gd name="adj1" fmla="val 50000"/>
              <a:gd name="adj2" fmla="val 542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40640" y="3838680"/>
            <a:ext cx="417600" cy="546120"/>
          </a:xfrm>
          <a:prstGeom prst="downArrow">
            <a:avLst>
              <a:gd name="adj1" fmla="val 50000"/>
              <a:gd name="adj2" fmla="val 3269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18320" y="2774880"/>
            <a:ext cx="417600" cy="546120"/>
          </a:xfrm>
          <a:prstGeom prst="downArrow">
            <a:avLst>
              <a:gd name="adj1" fmla="val 50000"/>
              <a:gd name="adj2" fmla="val 3269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592400">
            <a:off x="3241800" y="2437920"/>
            <a:ext cx="1141200" cy="346320"/>
          </a:xfrm>
          <a:prstGeom prst="rightArrow">
            <a:avLst>
              <a:gd name="adj1" fmla="val 50000"/>
              <a:gd name="adj2" fmla="val 8238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8973200">
            <a:off x="3441240" y="3779640"/>
            <a:ext cx="1162080" cy="322200"/>
          </a:xfrm>
          <a:prstGeom prst="rightArrow">
            <a:avLst>
              <a:gd name="adj1" fmla="val 50000"/>
              <a:gd name="adj2" fmla="val 9016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rot="20007600">
            <a:off x="6381360" y="2401560"/>
            <a:ext cx="1141560" cy="346320"/>
          </a:xfrm>
          <a:prstGeom prst="rightArrow">
            <a:avLst>
              <a:gd name="adj1" fmla="val 50000"/>
              <a:gd name="adj2" fmla="val 8240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rot="2626800">
            <a:off x="6390360" y="3753000"/>
            <a:ext cx="1141200" cy="303120"/>
          </a:xfrm>
          <a:prstGeom prst="rightArrow">
            <a:avLst>
              <a:gd name="adj1" fmla="val 50000"/>
              <a:gd name="adj2" fmla="val 94121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733400" y="1371600"/>
            <a:ext cx="1370160" cy="374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24320" y="1308240"/>
            <a:ext cx="1268280" cy="30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4480" y="1665360"/>
            <a:ext cx="1325160" cy="16185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Parasi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Extr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(EI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PE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EMSol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89040" y="3349800"/>
            <a:ext cx="662040" cy="103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3640" y="5864400"/>
            <a:ext cx="187524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Digital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840" y="5807160"/>
            <a:ext cx="147924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EM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2200" y="3449520"/>
            <a:ext cx="547560" cy="2309760"/>
          </a:xfrm>
          <a:prstGeom prst="downArrow">
            <a:avLst>
              <a:gd name="adj1" fmla="val 50000"/>
              <a:gd name="adj2" fmla="val 10545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5320" y="6243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D-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51480" y="63025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D-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686800" y="555624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27" y="0"/>
                </a:moveTo>
                <a:cubicBezTo>
                  <a:pt x="18" y="3"/>
                  <a:pt x="0" y="9"/>
                  <a:pt x="0" y="9"/>
                </a:cubicBezTo>
                <a:cubicBezTo>
                  <a:pt x="0" y="9"/>
                  <a:pt x="18" y="3"/>
                  <a:pt x="27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31320" bIns="-313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920" y="4719600"/>
            <a:ext cx="8499240" cy="1933560"/>
          </a:xfrm>
          <a:custGeom>
            <a:avLst/>
            <a:gdLst/>
            <a:ahLst/>
            <a:rect l="l" t="t" r="r" b="b"/>
            <a:pathLst>
              <a:path w="5354" h="1218">
                <a:moveTo>
                  <a:pt x="5354" y="691"/>
                </a:moveTo>
                <a:cubicBezTo>
                  <a:pt x="5253" y="671"/>
                  <a:pt x="5156" y="662"/>
                  <a:pt x="5054" y="655"/>
                </a:cubicBezTo>
                <a:cubicBezTo>
                  <a:pt x="5039" y="652"/>
                  <a:pt x="5022" y="653"/>
                  <a:pt x="5009" y="645"/>
                </a:cubicBezTo>
                <a:cubicBezTo>
                  <a:pt x="4972" y="624"/>
                  <a:pt x="5008" y="600"/>
                  <a:pt x="4972" y="636"/>
                </a:cubicBezTo>
                <a:lnTo>
                  <a:pt x="3881" y="645"/>
                </a:lnTo>
                <a:lnTo>
                  <a:pt x="3718" y="64"/>
                </a:lnTo>
                <a:lnTo>
                  <a:pt x="2727" y="0"/>
                </a:lnTo>
                <a:lnTo>
                  <a:pt x="1900" y="655"/>
                </a:lnTo>
                <a:lnTo>
                  <a:pt x="0" y="564"/>
                </a:lnTo>
                <a:lnTo>
                  <a:pt x="273" y="1127"/>
                </a:lnTo>
                <a:lnTo>
                  <a:pt x="2518" y="1218"/>
                </a:lnTo>
                <a:lnTo>
                  <a:pt x="5209" y="1200"/>
                </a:lnTo>
                <a:lnTo>
                  <a:pt x="5354" y="745"/>
                </a:ln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6880" y="12492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0-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46440" y="286848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00-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55450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0-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13480" y="63738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0-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Major Accomplishments and Milestones since Last Review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Boeing designs have been transferred to and verified at U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 zero offset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and analog pressure belt 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Supply Module for F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VHDL-AMS* Compiler &amp; Simulator Release: Dec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!!! (developed from scratch in NeoC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first time, complete implementations of industry grade device modes in VHDL-AMS* (BSIM, BSIM-SOI, EVK,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odels in a day (instead of 2 years)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100x to 1000x faster than the best commercial simulator ($200K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 Comparable to human optimized code (50% slower)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Major Accomplishments since Last Review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novative linear, nonlinear and time domain solver technologies with 10-100 times speed up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 hierarchy extraction + Parasitic-aware digital behavioral mo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00-1000 speedup with 10% accuracy l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ynthesis algorithm for parasitic-aware RF 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4T21:48:39Z</dcterms:created>
  <dc:creator>Richard Shi</dc:creator>
  <dc:description/>
  <dc:language>en-US</dc:language>
  <cp:lastModifiedBy>Alicia Manthe</cp:lastModifiedBy>
  <cp:lastPrinted>2002-05-30T14:32:35Z</cp:lastPrinted>
  <dcterms:modified xsi:type="dcterms:W3CDTF">2002-12-10T18:26:20Z</dcterms:modified>
  <cp:revision>242</cp:revision>
  <dc:subject>DARPA NeoCAD Program Kickoff Presentation</dc:subject>
  <dc:title>CoSMoS Project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30482302</vt:r8>
  </property>
  <property fmtid="{D5CDD505-2E9C-101B-9397-08002B2CF9AE}" pid="3" name="_AuthorEmail">
    <vt:lpwstr>amanthe@u.washington.edu</vt:lpwstr>
  </property>
  <property fmtid="{D5CDD505-2E9C-101B-9397-08002B2CF9AE}" pid="4" name="_AuthorEmailDisplayName">
    <vt:lpwstr>Alicia Manthe</vt:lpwstr>
  </property>
  <property fmtid="{D5CDD505-2E9C-101B-9397-08002B2CF9AE}" pid="5" name="_EmailSubject">
    <vt:lpwstr>shi's presentation</vt:lpwstr>
  </property>
</Properties>
</file>