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-360" y="1133640"/>
            <a:ext cx="87850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-360" y="4003560"/>
            <a:ext cx="87850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360" y="113364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01080" y="113364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360" y="40035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01080" y="40035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-360" y="113364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970000" y="113364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0360" y="113364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-360" y="400356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2970000" y="400356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0360" y="400356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-360" y="113364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-360" y="113364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-360" y="113364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01080" y="113364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57360" y="585720"/>
            <a:ext cx="7772400" cy="35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-360" y="113364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01080" y="113364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-360" y="40035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-360" y="113364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-360" y="113364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01080" y="113364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01080" y="40035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-360" y="113364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01080" y="113364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-360" y="4003560"/>
            <a:ext cx="87850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-360" y="1133640"/>
            <a:ext cx="87850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-360" y="4003560"/>
            <a:ext cx="87850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-360" y="113364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01080" y="113364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-360" y="40035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01080" y="40035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-360" y="113364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970000" y="113364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0360" y="113364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-360" y="400356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970000" y="400356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0360" y="400356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-360" y="113364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360" y="113364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01080" y="113364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57360" y="585720"/>
            <a:ext cx="7772400" cy="35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-360" y="113364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01080" y="113364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-360" y="40035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-360" y="113364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01080" y="113364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01080" y="40035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-360" y="113364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01080" y="113364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-360" y="4003560"/>
            <a:ext cx="87850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1280" y="95400"/>
            <a:ext cx="8977320" cy="66085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2560" y="1146240"/>
            <a:ext cx="90151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1280" y="95400"/>
            <a:ext cx="8977320" cy="66085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2560" y="1143000"/>
            <a:ext cx="90151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-360" y="113364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563680" y="6657840"/>
            <a:ext cx="70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4C119-0111-40CC-9639-8C5CA6DA6BF7}" type="slidenum">
              <a:rPr b="0" lang="en-US" sz="900" spc="-1" strike="noStrike">
                <a:solidFill>
                  <a:srgbClr val="0033cc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234280" y="203040"/>
            <a:ext cx="690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174600" y="258840"/>
            <a:ext cx="833400" cy="44280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7799760" y="8748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CoS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1280" y="95400"/>
            <a:ext cx="8977320" cy="66085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1280" y="95400"/>
            <a:ext cx="8977320" cy="66085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1120" y="3441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Time Domain Mixed Electromagnetic Circuit Simulation for CoSMoS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80720" y="120024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:Chuanyi Ya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isor: Vikram Jandhy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 coupling of circuit and EM equations in the time 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nlinear circuits and E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aptive mesh refin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edance and material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ime domain visu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76240" y="5187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Incident Field Coupling to Non-linear Circuit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45360" bIns="-453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1790280" y="3809520"/>
            <a:ext cx="266760" cy="1047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867040" y="3305160"/>
            <a:ext cx="9360" cy="628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285840" y="1814400"/>
          <a:ext cx="4705200" cy="328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1814400"/>
                    <a:ext cx="4705200" cy="32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4848120" y="1623960"/>
            <a:ext cx="4038840" cy="29908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905120" y="14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360" bIns="-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PMCHW Simulation Resul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209520" y="1238400"/>
            <a:ext cx="3724200" cy="26478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399960" y="3848040"/>
            <a:ext cx="4438800" cy="27813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4809960" y="1181160"/>
            <a:ext cx="4124520" cy="27716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4"/>
          <a:stretch/>
        </p:blipFill>
        <p:spPr>
          <a:xfrm>
            <a:off x="4826160" y="4057560"/>
            <a:ext cx="4194000" cy="23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57360" y="56664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imulation of Current Flow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0" y="3165480"/>
          <a:ext cx="8785080" cy="143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165480"/>
                    <a:ext cx="8785080" cy="14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219240" y="1166760"/>
            <a:ext cx="8619840" cy="66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1000" y="510840"/>
            <a:ext cx="874404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Present Status and Continuing Work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69920" y="1114560"/>
            <a:ext cx="7731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5960" y="119376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-Wave time domain EM simulation for ideal and lossy conductors 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face to mesher and adaptive refinement 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pling to circuits with restricted linear and non-linear elements / SPICE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ing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region material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d Newton-Raphson Loop for arbitrary non-linear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R-based fast time ste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Time Domain EM Formula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0" y="1294920"/>
            <a:ext cx="9012240" cy="66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209520" y="1714680"/>
          <a:ext cx="4371840" cy="219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714680"/>
                    <a:ext cx="4371840" cy="21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5019840" y="1162080"/>
                <a:ext cx="3832200" cy="34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J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M</m:t>
                        </m:r>
                      </m:e>
                      <m:e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∓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∓</m:t>
                        </m:r>
                        <m:r>
                          <m:t xml:space="preserve">∇</m:t>
                        </m:r>
                        <m:sSubSup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  <m:sup>
                            <m:r>
                              <m:t xml:space="preserve">e</m:t>
                            </m:r>
                          </m:sup>
                        </m:sSubSup>
                        <m:r>
                          <m:t xml:space="preserve">∓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</m:den>
                        </m:f>
                        <m:r>
                          <m:t xml:space="preserve">∇</m:t>
                        </m:r>
                        <m:r>
                          <m:t xml:space="preserve">×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e>
                      <m:e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∓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∓</m:t>
                        </m:r>
                        <m:r>
                          <m:t xml:space="preserve">∇</m:t>
                        </m:r>
                        <m:sSubSup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∓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</m:den>
                        </m:f>
                        <m:r>
                          <m:t xml:space="preserve">∇</m:t>
                        </m:r>
                        <m:r>
                          <m:t xml:space="preserve">×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π</m:t>
                            </m:r>
                          </m:den>
                        </m:f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f>
                              <m:num>
                                <m:r>
                                  <m:t xml:space="preserve">J</m:t>
                                </m:r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R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v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</m:e>
                        </m:nary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π</m:t>
                            </m:r>
                          </m:den>
                        </m:f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f>
                              <m:num>
                                <m:r>
                                  <m:t xml:space="preserve">M</m:t>
                                </m:r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R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v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S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nary>
                      </m:e>
                      <m:e>
                        <m:sSubSup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  <m:sup>
                            <m:r>
                              <m:t xml:space="preserve">e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πε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  <m:sup>
                                    <m:r>
                                      <m:t xml:space="preserve">e</m:t>
                                    </m:r>
                                  </m:sup>
                                </m:sSubSup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R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v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</m:e>
                        </m:nary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e>
                      <m:e>
                        <m:sSubSup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πμ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  <m:sup>
                                    <m:r>
                                      <m:t xml:space="preserve">m</m:t>
                                    </m:r>
                                  </m:sup>
                                </m:sSubSup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R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v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</m:e>
                        </m:nary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258588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360" bIns="-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433440" y="4194000"/>
                <a:ext cx="4886280" cy="246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</m:e>
                        </m:d>
                        <m:sSub>
                          <m:e>
                            <m:r>
                              <m:t xml:space="preserve"> 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an</m:t>
                                </m:r>
                              </m:sub>
                            </m:sSub>
                          </m:sup>
                        </m:sSup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</m:e>
                        </m:d>
                        <m:sSub>
                          <m:e>
                            <m:r>
                              <m:t xml:space="preserve"> 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an</m:t>
                                </m:r>
                              </m:sub>
                            </m:sSub>
                          </m:sup>
                        </m:sSup>
                      </m:e>
                      <m:e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e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d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r>
                                  <m:t xml:space="preserve">∇</m:t>
                                </m:r>
                                <m:sSubSup>
                                  <m:e>
                                    <m:r>
                                      <m:t xml:space="preserve">Φ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  <m:sup>
                                    <m:r>
                                      <m:t xml:space="preserve">e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r>
                                  <m:t xml:space="preserve">∇</m:t>
                                </m:r>
                                <m:sSubSup>
                                  <m:e>
                                    <m:r>
                                      <m:t xml:space="preserve">Φ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  <m:sup>
                                    <m:r>
                                      <m:t xml:space="preserve">e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ε</m:t>
                                        </m:r>
                                      </m:e>
                                      <m:sub>
                                        <m:r>
                                          <m:t xml:space="preserve">e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∇</m:t>
                                </m:r>
                                <m:r>
                                  <m:t xml:space="preserve">×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ε</m:t>
                                        </m:r>
                                      </m:e>
                                      <m:sub>
                                        <m:r>
                                          <m:t xml:space="preserve">d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∇</m:t>
                                </m:r>
                                <m:r>
                                  <m:t xml:space="preserve">×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e>
                            </m:d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an</m:t>
                                </m:r>
                              </m:sub>
                            </m:sSub>
                          </m:sup>
                        </m:sSup>
                      </m:e>
                      <m:e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e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d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r>
                                  <m:t xml:space="preserve">∇</m:t>
                                </m:r>
                                <m:sSubSup>
                                  <m:e>
                                    <m:r>
                                      <m:t xml:space="preserve">Φ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  <m:sup>
                                    <m:r>
                                      <m:t xml:space="preserve">m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r>
                                  <m:t xml:space="preserve">∇</m:t>
                                </m:r>
                                <m:sSubSup>
                                  <m:e>
                                    <m:r>
                                      <m:t xml:space="preserve">Φ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  <m:sup>
                                    <m:r>
                                      <m:t xml:space="preserve">m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μ</m:t>
                                        </m:r>
                                      </m:e>
                                      <m:sub>
                                        <m:r>
                                          <m:t xml:space="preserve">e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∇</m:t>
                                </m:r>
                                <m:r>
                                  <m:t xml:space="preserve">×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μ</m:t>
                                        </m:r>
                                      </m:e>
                                      <m:sub>
                                        <m:r>
                                          <m:t xml:space="preserve">d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∇</m:t>
                                </m:r>
                                <m:r>
                                  <m:t xml:space="preserve">×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e>
                            </m:d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an</m:t>
                                </m:r>
                              </m:sub>
                            </m:sSub>
                          </m:sup>
                        </m:sSup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4087800" y="6026040"/>
            <a:ext cx="3654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Continuity of the tangential electric and magnetic fields at the dielectric interface is enforc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71480" y="156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Direct Coupling Between EM and Circuit Sections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3024360"/>
            <a:ext cx="91440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692080" y="2590560"/>
            <a:ext cx="1482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Open Stru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225560" y="2487240"/>
            <a:ext cx="1620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Closed Stru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45360" bIns="-453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76120" y="1295280"/>
          <a:ext cx="2009880" cy="158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6120" y="1295280"/>
                    <a:ext cx="2009880" cy="15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4838760" y="1236600"/>
          <a:ext cx="1859040" cy="1535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38760" y="1236600"/>
                    <a:ext cx="1859040" cy="15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388620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360" bIns="-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9088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360" bIns="-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7180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360" bIns="-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638440" y="2017800"/>
                <a:ext cx="149544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c</m:t>
                        </m:r>
                      </m:sup>
                    </m:sSup>
                    <m:r>
                      <m:t xml:space="preserve">,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379080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360" bIns="-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7229520" y="1292400"/>
                <a:ext cx="164772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∇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426708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360" bIns="-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664000" y="1438200"/>
                <a:ext cx="13903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W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7272360" y="2023920"/>
                <a:ext cx="15620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c</m:t>
                        </m:r>
                      </m:sup>
                    </m:sSup>
                    <m:r>
                      <m:t xml:space="preserve">,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12" name=""/>
          <p:cNvGrpSpPr/>
          <p:nvPr/>
        </p:nvGrpSpPr>
        <p:grpSpPr>
          <a:xfrm>
            <a:off x="1066680" y="3100320"/>
            <a:ext cx="7495560" cy="3533040"/>
            <a:chOff x="1066680" y="3100320"/>
            <a:chExt cx="7495560" cy="3533040"/>
          </a:xfrm>
        </p:grpSpPr>
        <p:sp>
          <p:nvSpPr>
            <p:cNvPr id="113" name=""/>
            <p:cNvSpPr/>
            <p:nvPr/>
          </p:nvSpPr>
          <p:spPr>
            <a:xfrm>
              <a:off x="1066680" y="3107520"/>
              <a:ext cx="2992680" cy="223920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431360" y="3947040"/>
              <a:ext cx="2343240" cy="99864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M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nonboundary edge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068120" y="5358600"/>
              <a:ext cx="3382920" cy="3060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074120" y="3106080"/>
              <a:ext cx="376920" cy="22521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452480" y="5666040"/>
              <a:ext cx="1117080" cy="8920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63360" y="5886000"/>
              <a:ext cx="101628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M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6200000">
              <a:off x="3300480" y="4014360"/>
              <a:ext cx="185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ff"/>
                  </a:solidFill>
                  <a:latin typeface="Times New Roman"/>
                </a:rPr>
                <a:t>Boundary edg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48080" y="5297400"/>
              <a:ext cx="210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ff"/>
                  </a:solidFill>
                  <a:latin typeface="Times New Roman"/>
                </a:rPr>
                <a:t>Boundary edg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068120" y="5679000"/>
              <a:ext cx="3384360" cy="88020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431240" y="3100320"/>
              <a:ext cx="1131840" cy="25862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869480" y="5865480"/>
              <a:ext cx="199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Conne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16200000">
              <a:off x="4071600" y="4020120"/>
              <a:ext cx="175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Conne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5" name=""/>
                <p:cNvSpPr txBox="1"/>
                <p:nvPr/>
              </p:nvSpPr>
              <p:spPr>
                <a:xfrm>
                  <a:off x="5612760" y="4609080"/>
                  <a:ext cx="983160" cy="495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grpSp>
          <p:nvGrpSpPr>
            <p:cNvPr id="126" name=""/>
            <p:cNvGrpSpPr/>
            <p:nvPr/>
          </p:nvGrpSpPr>
          <p:grpSpPr>
            <a:xfrm>
              <a:off x="6211080" y="3117600"/>
              <a:ext cx="665280" cy="3508560"/>
              <a:chOff x="6211080" y="3117600"/>
              <a:chExt cx="665280" cy="3508560"/>
            </a:xfrm>
          </p:grpSpPr>
          <p:sp>
            <p:nvSpPr>
              <p:cNvPr id="127" name=""/>
              <p:cNvSpPr/>
              <p:nvPr/>
            </p:nvSpPr>
            <p:spPr>
              <a:xfrm>
                <a:off x="6211080" y="5707800"/>
                <a:ext cx="665280" cy="86004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6200000">
                <a:off x="6025680" y="5888160"/>
                <a:ext cx="95760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ckt</a:t>
                </a:r>
                <a:br>
                  <a:rPr sz="1800"/>
                </a:b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</a:rPr>
                  <a:t>unknow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211080" y="3117600"/>
                <a:ext cx="663480" cy="258624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6200000">
                <a:off x="6049440" y="4190400"/>
                <a:ext cx="9547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EM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know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31" name=""/>
                <p:cNvSpPr txBox="1"/>
                <p:nvPr/>
              </p:nvSpPr>
              <p:spPr>
                <a:xfrm>
                  <a:off x="7002720" y="4744440"/>
                  <a:ext cx="1092240" cy="39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32" name=""/>
            <p:cNvGrpSpPr/>
            <p:nvPr/>
          </p:nvGrpSpPr>
          <p:grpSpPr>
            <a:xfrm>
              <a:off x="7896960" y="3123720"/>
              <a:ext cx="665280" cy="3509640"/>
              <a:chOff x="7896960" y="3123720"/>
              <a:chExt cx="665280" cy="3509640"/>
            </a:xfrm>
          </p:grpSpPr>
          <p:sp>
            <p:nvSpPr>
              <p:cNvPr id="133" name=""/>
              <p:cNvSpPr/>
              <p:nvPr/>
            </p:nvSpPr>
            <p:spPr>
              <a:xfrm>
                <a:off x="7896960" y="5713560"/>
                <a:ext cx="665280" cy="86004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6200000">
                <a:off x="7730640" y="5879880"/>
                <a:ext cx="95760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Ckt</a:t>
                </a:r>
                <a:br>
                  <a:rPr sz="1800"/>
                </a:b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</a:rPr>
                  <a:t>excitatio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896960" y="3123720"/>
                <a:ext cx="663480" cy="258552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6200000">
                <a:off x="7735320" y="4194720"/>
                <a:ext cx="9604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Field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Histor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7" name=""/>
          <p:cNvSpPr/>
          <p:nvPr/>
        </p:nvSpPr>
        <p:spPr>
          <a:xfrm>
            <a:off x="523800" y="4905360"/>
            <a:ext cx="0" cy="324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572080" y="5857920"/>
            <a:ext cx="9720" cy="485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572080" y="5867280"/>
            <a:ext cx="0" cy="55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90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Adaptive Meshing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155760" y="199800"/>
            <a:ext cx="3570120" cy="24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8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00280" y="371520"/>
            <a:ext cx="914400" cy="6094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838840" y="1562040"/>
            <a:ext cx="2247840" cy="6285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581800" y="1733400"/>
            <a:ext cx="1562040" cy="5241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1876320"/>
            <a:ext cx="1285920" cy="4762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153200" y="1447920"/>
            <a:ext cx="1000080" cy="419040"/>
          </a:xfrm>
          <a:prstGeom prst="flowChartProcess">
            <a:avLst/>
          </a:prstGeom>
          <a:noFill/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81640" y="2428920"/>
            <a:ext cx="228600" cy="1713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15040" y="2523960"/>
            <a:ext cx="2457360" cy="5432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676920" y="2219400"/>
            <a:ext cx="1962360" cy="495360"/>
          </a:xfrm>
          <a:prstGeom prst="flowChartProcess">
            <a:avLst/>
          </a:prstGeom>
          <a:noFill/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448320" y="3105000"/>
            <a:ext cx="2448000" cy="524160"/>
          </a:xfrm>
          <a:prstGeom prst="flowChartProcess">
            <a:avLst/>
          </a:prstGeom>
          <a:noFill/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14760" y="3867120"/>
            <a:ext cx="2048040" cy="628560"/>
          </a:xfrm>
          <a:prstGeom prst="flowChartDecision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743880" y="3981600"/>
            <a:ext cx="1866600" cy="752400"/>
          </a:xfrm>
          <a:prstGeom prst="flowChartDecision">
            <a:avLst/>
          </a:prstGeom>
          <a:noFill/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286760" y="5076720"/>
            <a:ext cx="895320" cy="381240"/>
          </a:xfrm>
          <a:prstGeom prst="rect">
            <a:avLst/>
          </a:prstGeom>
          <a:noFill/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38600" y="4114800"/>
            <a:ext cx="1571760" cy="447840"/>
          </a:xfrm>
          <a:prstGeom prst="flowChartProcess">
            <a:avLst/>
          </a:prstGeom>
          <a:noFill/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793920" y="1519200"/>
            <a:ext cx="1703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Arial"/>
              </a:rPr>
              <a:t>Initial Me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344280" y="2338560"/>
            <a:ext cx="2518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Arial"/>
              </a:rPr>
              <a:t>Solve Coupled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65640" y="3205080"/>
            <a:ext cx="3094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Arial"/>
              </a:rPr>
              <a:t>Generate Refinement Ind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754320" y="4214880"/>
            <a:ext cx="1931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Arial"/>
              </a:rPr>
              <a:t>Convergen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79040" y="5138640"/>
            <a:ext cx="1337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54360" y="4205160"/>
            <a:ext cx="1770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Arial"/>
              </a:rPr>
              <a:t>Refine Me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77000" y="1857240"/>
            <a:ext cx="0" cy="35244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705800" y="2724120"/>
            <a:ext cx="0" cy="39060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77000" y="3619440"/>
            <a:ext cx="0" cy="37152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67640" y="4753080"/>
            <a:ext cx="0" cy="34272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6219360" y="4352760"/>
            <a:ext cx="50508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5438880" y="2486160"/>
            <a:ext cx="0" cy="162864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438880" y="2486160"/>
            <a:ext cx="123804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401960" y="4757760"/>
            <a:ext cx="1144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946480" y="4081320"/>
            <a:ext cx="1073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00068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360" bIns="-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981000" y="2452680"/>
            <a:ext cx="2781360" cy="8190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80520" y="1896840"/>
            <a:ext cx="4659480" cy="36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Arial"/>
              </a:rPr>
              <a:t>Refinement Indicator for Individual Triangular P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77920" y="3392640"/>
            <a:ext cx="4402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Arial"/>
              </a:rPr>
              <a:t>Convergence Criteria Based on Circuit Unknow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8136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360" bIns="-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657360" y="4067280"/>
                <a:ext cx="2679480" cy="14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I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ew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I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ast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I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ew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imple Meshing Exampl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16360" y="5095440"/>
            <a:ext cx="1139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c0128"/>
                </a:solidFill>
                <a:latin typeface="Arial"/>
              </a:rPr>
              <a:t>Initial Me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46800" y="5171760"/>
            <a:ext cx="110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c0128"/>
                </a:solidFill>
                <a:latin typeface="Arial"/>
              </a:rPr>
              <a:t>Final Me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28600" y="2238480"/>
            <a:ext cx="4268880" cy="29509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811760" y="2152800"/>
            <a:ext cx="3830760" cy="28080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395640" y="5611680"/>
            <a:ext cx="82206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inement indicator : Total current integrated over all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gence criterion : Circuit parameters of inter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52400" y="31428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imple Validation Example : Transmission Line versus Full-Wave Simulation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66228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360" bIns="-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362240" y="3019320"/>
            <a:ext cx="5333760" cy="3591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5" name=""/>
          <p:cNvGraphicFramePr/>
          <p:nvPr/>
        </p:nvGraphicFramePr>
        <p:xfrm>
          <a:off x="182520" y="1195560"/>
          <a:ext cx="6383520" cy="176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520" y="1195560"/>
                    <a:ext cx="6383520" cy="17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omplex Via Cross Talk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676440" y="2695320"/>
            <a:ext cx="361800" cy="28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17280" bIns="-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714240" y="3038400"/>
            <a:ext cx="600120" cy="123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57360" y="2644920"/>
            <a:ext cx="409320" cy="88920"/>
          </a:xfrm>
          <a:prstGeom prst="rightArrow">
            <a:avLst>
              <a:gd name="adj1" fmla="val 50000"/>
              <a:gd name="adj2" fmla="val 11508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1080" bIns="-1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33320" y="3017880"/>
            <a:ext cx="581040" cy="135000"/>
          </a:xfrm>
          <a:prstGeom prst="rightArrow">
            <a:avLst>
              <a:gd name="adj1" fmla="val 50000"/>
              <a:gd name="adj2" fmla="val 1076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21960" bIns="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689120" y="5141880"/>
            <a:ext cx="59180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76440" y="2523960"/>
            <a:ext cx="295200" cy="200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76440" y="2552760"/>
            <a:ext cx="266400" cy="162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23960" y="3057480"/>
            <a:ext cx="504720" cy="85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39960" bIns="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485640" y="2505240"/>
            <a:ext cx="514440" cy="142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704880" y="3038400"/>
            <a:ext cx="495360" cy="114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752400" y="3381480"/>
            <a:ext cx="390600" cy="133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3809880" y="3352680"/>
            <a:ext cx="571680" cy="19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26640" bIns="-26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459320" y="1636200"/>
            <a:ext cx="4316400" cy="428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8585280" y="1305000"/>
            <a:ext cx="55440" cy="12888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209520" y="1428840"/>
            <a:ext cx="4467240" cy="23907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4"/>
          <a:stretch/>
        </p:blipFill>
        <p:spPr>
          <a:xfrm>
            <a:off x="181080" y="3800520"/>
            <a:ext cx="4495680" cy="27828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5"/>
          <a:stretch/>
        </p:blipFill>
        <p:spPr>
          <a:xfrm>
            <a:off x="4676760" y="1257480"/>
            <a:ext cx="3962520" cy="26762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6"/>
          <a:stretch/>
        </p:blipFill>
        <p:spPr>
          <a:xfrm>
            <a:off x="4686480" y="3914640"/>
            <a:ext cx="414324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Refinement Indicator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905120" y="14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360" bIns="-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33200" y="1204920"/>
            <a:ext cx="3990960" cy="29941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1905120" y="14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360" bIns="-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4165560" y="1743120"/>
            <a:ext cx="3264120" cy="24480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803880" y="4325760"/>
            <a:ext cx="1996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 Me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366080" y="4316400"/>
            <a:ext cx="1607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 Me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3040" y="5450040"/>
            <a:ext cx="7374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4" marL="1828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cator : Time-integrated total cur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33320" y="48096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Adaptive Refinement and Convergenc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676440" y="4152960"/>
            <a:ext cx="4954320" cy="27050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304920" y="1352520"/>
            <a:ext cx="4822560" cy="26179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5048280" y="1257480"/>
            <a:ext cx="3895560" cy="24858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5057640" y="4761000"/>
            <a:ext cx="393408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itial Mesh 1000 patches, 1468 unknow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Final Mesh 3335 patches, 4970 unknow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4-24T21:48:39Z</dcterms:created>
  <dc:creator>Richard Shi</dc:creator>
  <dc:description/>
  <dc:language>en-US</dc:language>
  <cp:lastModifiedBy>EE/CSE</cp:lastModifiedBy>
  <cp:lastPrinted>2001-05-19T16:33:31Z</cp:lastPrinted>
  <dcterms:modified xsi:type="dcterms:W3CDTF">2002-12-09T19:04:06Z</dcterms:modified>
  <cp:revision>438</cp:revision>
  <dc:subject>DARPA NeoCAD Program Kickoff Presentation</dc:subject>
  <dc:title>CoSMoS Project Overview</dc:title>
</cp:coreProperties>
</file>