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82E-023C-4B37-BAE1-D752FD05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15D-4894-4DC5-8A0C-E16035A7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B99-E969-45B0-BA91-28F20CE9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66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37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66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37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72E-2A8B-419B-9F73-957EEFB9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40B9-F302-4C52-BA6F-9F646187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6E11-0898-4C5C-936E-F809C4BA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B604-D4C0-433C-9611-FD6929D2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AFFC-40A4-40C4-A43E-7C7F728C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4BE7-68C5-4120-B51C-B4CDAE9B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FC07-7174-47E9-8E10-CF4B7F12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FB4A-45AF-413B-B721-AEF7B276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E66-E07B-441A-9AC6-85D66837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50C6-FD56-45F7-9E21-0A3061D9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4FF2-A779-4389-B734-A8371826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4A21-7022-42BD-B27D-5B057316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7AF0-05B9-47A1-9AD7-9823747E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66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37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8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466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937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4A96-2B08-452D-B761-512128EA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7BC-FBE0-4AD5-A1BF-67A2F846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D8C-D43C-418A-ADAC-41C623B7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C2B-6E33-4587-8CAE-5C097847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D32C-F180-43CC-A858-ED847DBB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1646-9631-4A52-9000-8CDE88E2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196-F518-47DE-8D51-AB859B45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EEE-8CF1-442D-BC48-96BECDBD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f01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Tahoma"/>
              </a:rPr>
              <a:t>&lt;date/time&gt;</a:t>
            </a:r>
            <a:r>
              <a:rPr b="0" lang="en-US" sz="1200" spc="-1" strike="noStrike">
                <a:solidFill>
                  <a:srgbClr val="75d1ff"/>
                </a:solidFill>
                <a:latin typeface="Tahoma"/>
              </a:rPr>
              <a:t>Dec. 10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4004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f01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Tahoma"/>
              </a:rPr>
              <a:t>&lt;footer&gt;</a:t>
            </a:r>
            <a:r>
              <a:rPr b="0" lang="en-US" sz="1200" spc="-1" strike="noStrike">
                <a:solidFill>
                  <a:srgbClr val="75d1ff"/>
                </a:solidFill>
                <a:latin typeface="Tahoma"/>
              </a:rPr>
              <a:t>NeoCAD Quarterly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3962160" y="6324120"/>
            <a:ext cx="5331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5d1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0F72-B24E-4BE9-A49F-17E30D46E026}" type="slidenum">
              <a:rPr b="0" lang="en-US" sz="1200" spc="-1" strike="noStrike">
                <a:solidFill>
                  <a:srgbClr val="75d1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174600" y="198360"/>
            <a:ext cx="1041480" cy="45108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7613640" y="219240"/>
            <a:ext cx="135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EBEB-56E3-490A-A2F4-4B9C87DE66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2133720"/>
            <a:ext cx="7086600" cy="3657600"/>
          </a:xfrm>
          <a:prstGeom prst="rect">
            <a:avLst/>
          </a:prstGeom>
          <a:gradFill rotWithShape="0">
            <a:gsLst>
              <a:gs pos="0">
                <a:srgbClr val="436870"/>
              </a:gs>
              <a:gs pos="50000">
                <a:srgbClr val="93e2f5"/>
              </a:gs>
              <a:gs pos="100000">
                <a:srgbClr val="43687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Mos Solver Develop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2514600"/>
            <a:ext cx="5943600" cy="29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06f8"/>
                </a:solidFill>
                <a:latin typeface="Tahoma"/>
              </a:rPr>
              <a:t>Research Team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Guoyong Shi (L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hao Li, Bo Hu, Bo Wan, Lili Zh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009c"/>
                </a:solidFill>
                <a:latin typeface="Tahoma"/>
              </a:rPr>
              <a:t>Mixed Signal CAD Research 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009c"/>
                </a:solidFill>
                <a:latin typeface="Tahoma"/>
              </a:rPr>
              <a:t>Electrical Engineering Dep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009c"/>
                </a:solidFill>
                <a:latin typeface="Tahoma"/>
              </a:rPr>
              <a:t>University of Washing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969-EDF1-4D77-BF2A-8784B107CA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ve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81080" y="2133720"/>
          <a:ext cx="4343400" cy="371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133720"/>
                    <a:ext cx="4343400" cy="37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ADE-F379-46AD-9663-DB68B9619E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 Circu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90720" y="2514600"/>
          <a:ext cx="7010280" cy="286704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  <a:gridCol w="876240"/>
                <a:gridCol w="876240"/>
                <a:gridCol w="876600"/>
                <a:gridCol w="876240"/>
                <a:gridCol w="876240"/>
                <a:gridCol w="876240"/>
              </a:tblGrid>
              <a:tr h="75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Order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2306f8"/>
                          </a:solidFill>
                          <a:latin typeface="Tahoma"/>
                        </a:rPr>
                        <a:t>nd</a:t>
                      </a:r>
                      <a:r>
                        <a:rPr b="0" lang="en-US" sz="16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Sol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3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7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19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5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12408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6f8"/>
                </a:solidFill>
                <a:latin typeface="Tahoma"/>
              </a:rPr>
              <a:t>Sparse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5562720"/>
            <a:ext cx="6095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dder circuits, matrices are tridiag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 in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4763-3F51-4A57-8DAA-6134FF358E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038480" y="3124080"/>
            <a:ext cx="1600200" cy="2362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 circu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523880" y="3124080"/>
            <a:ext cx="5640480" cy="2362320"/>
            <a:chOff x="1523880" y="3124080"/>
            <a:chExt cx="5640480" cy="2362320"/>
          </a:xfrm>
        </p:grpSpPr>
        <p:grpSp>
          <p:nvGrpSpPr>
            <p:cNvPr id="139" name=""/>
            <p:cNvGrpSpPr/>
            <p:nvPr/>
          </p:nvGrpSpPr>
          <p:grpSpPr>
            <a:xfrm>
              <a:off x="1527120" y="3125880"/>
              <a:ext cx="5634000" cy="2358360"/>
              <a:chOff x="1527120" y="3125880"/>
              <a:chExt cx="5634000" cy="235836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1527120" y="3125880"/>
                <a:ext cx="1004760" cy="471600"/>
                <a:chOff x="1527120" y="3125880"/>
                <a:chExt cx="1004760" cy="471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595520" y="3125880"/>
                  <a:ext cx="86832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atri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527120" y="3125880"/>
                  <a:ext cx="100476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2531880" y="3125880"/>
                <a:ext cx="1543320" cy="471600"/>
                <a:chOff x="2531880" y="3125880"/>
                <a:chExt cx="1543320" cy="4716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2600280" y="3125880"/>
                  <a:ext cx="140652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rder+Factor (se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531880" y="3125880"/>
                  <a:ext cx="154332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075200" y="3125880"/>
                <a:ext cx="1542960" cy="471600"/>
                <a:chOff x="4075200" y="3125880"/>
                <a:chExt cx="1542960" cy="4716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4143240" y="3125880"/>
                  <a:ext cx="140652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archPivot (se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075200" y="3125880"/>
                  <a:ext cx="154296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618160" y="3125880"/>
                <a:ext cx="1542960" cy="471600"/>
                <a:chOff x="5618160" y="3125880"/>
                <a:chExt cx="1542960" cy="4716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686200" y="3125880"/>
                  <a:ext cx="140652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imimation (se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618160" y="3125880"/>
                  <a:ext cx="154296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527120" y="3597480"/>
                <a:ext cx="1004760" cy="377280"/>
                <a:chOff x="1527120" y="3597480"/>
                <a:chExt cx="1004760" cy="3772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595520" y="3597480"/>
                  <a:ext cx="8683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527120" y="3597480"/>
                  <a:ext cx="10047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531880" y="3597480"/>
                <a:ext cx="1543320" cy="377280"/>
                <a:chOff x="2531880" y="3597480"/>
                <a:chExt cx="1543320" cy="3772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600280" y="359748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.6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531880" y="3597480"/>
                  <a:ext cx="154332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075200" y="3597480"/>
                <a:ext cx="1542960" cy="377280"/>
                <a:chOff x="4075200" y="3597480"/>
                <a:chExt cx="1542960" cy="377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143240" y="359748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.3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075200" y="359748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5618160" y="3597480"/>
                <a:ext cx="1542960" cy="377280"/>
                <a:chOff x="5618160" y="3597480"/>
                <a:chExt cx="1542960" cy="3772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686200" y="359748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618160" y="359748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527120" y="3974760"/>
                <a:ext cx="1004760" cy="377280"/>
                <a:chOff x="1527120" y="3974760"/>
                <a:chExt cx="1004760" cy="3772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595520" y="3974760"/>
                  <a:ext cx="8683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527120" y="3974760"/>
                  <a:ext cx="10047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2531880" y="3974760"/>
                <a:ext cx="1543320" cy="377280"/>
                <a:chOff x="2531880" y="3974760"/>
                <a:chExt cx="1543320" cy="3772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600280" y="397476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1.6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531880" y="3974760"/>
                  <a:ext cx="154332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4075200" y="3974760"/>
                <a:ext cx="1542960" cy="377280"/>
                <a:chOff x="4075200" y="3974760"/>
                <a:chExt cx="1542960" cy="3772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143240" y="397476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1.0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075200" y="397476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618160" y="3974760"/>
                <a:ext cx="1542960" cy="377280"/>
                <a:chOff x="5618160" y="3974760"/>
                <a:chExt cx="1542960" cy="3772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686200" y="397476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0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618160" y="397476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1527120" y="4352040"/>
                <a:ext cx="1004760" cy="377280"/>
                <a:chOff x="1527120" y="4352040"/>
                <a:chExt cx="1004760" cy="3772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595520" y="4352040"/>
                  <a:ext cx="8683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527120" y="4352040"/>
                  <a:ext cx="10047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31880" y="4352040"/>
                <a:ext cx="1543320" cy="377280"/>
                <a:chOff x="2531880" y="4352040"/>
                <a:chExt cx="1543320" cy="3772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00280" y="435204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1.3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31880" y="4352040"/>
                  <a:ext cx="154332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075200" y="4352040"/>
                <a:ext cx="1542960" cy="377280"/>
                <a:chOff x="4075200" y="4352040"/>
                <a:chExt cx="1542960" cy="3772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143240" y="435204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0.3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075200" y="435204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5618160" y="4352040"/>
                <a:ext cx="1542960" cy="377280"/>
                <a:chOff x="5618160" y="4352040"/>
                <a:chExt cx="1542960" cy="3772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686200" y="435204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2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618160" y="435204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1527120" y="4729680"/>
                <a:ext cx="1004760" cy="377280"/>
                <a:chOff x="1527120" y="4729680"/>
                <a:chExt cx="1004760" cy="3772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595520" y="4729680"/>
                  <a:ext cx="8683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527120" y="4729680"/>
                  <a:ext cx="10047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531880" y="4729680"/>
                <a:ext cx="1543320" cy="377280"/>
                <a:chOff x="2531880" y="4729680"/>
                <a:chExt cx="1543320" cy="3772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600280" y="472968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8.6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531880" y="4729680"/>
                  <a:ext cx="154332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075200" y="4729680"/>
                <a:ext cx="1542960" cy="377280"/>
                <a:chOff x="4075200" y="4729680"/>
                <a:chExt cx="1542960" cy="3772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143240" y="472968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7.2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075200" y="472968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5618160" y="4729680"/>
                <a:ext cx="1542960" cy="377280"/>
                <a:chOff x="5618160" y="4729680"/>
                <a:chExt cx="1542960" cy="3772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686200" y="472968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2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618160" y="472968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527120" y="5106960"/>
                <a:ext cx="1004760" cy="377280"/>
                <a:chOff x="1527120" y="5106960"/>
                <a:chExt cx="1004760" cy="3772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1595520" y="5106960"/>
                  <a:ext cx="8683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527120" y="5106960"/>
                  <a:ext cx="10047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531880" y="5106960"/>
                <a:ext cx="1543320" cy="377280"/>
                <a:chOff x="2531880" y="5106960"/>
                <a:chExt cx="1543320" cy="3772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2600280" y="510696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12.1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531880" y="5106960"/>
                  <a:ext cx="154332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075200" y="5106960"/>
                <a:ext cx="1542960" cy="377280"/>
                <a:chOff x="4075200" y="5106960"/>
                <a:chExt cx="1542960" cy="3772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143240" y="510696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09.2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075200" y="510696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5618160" y="5106960"/>
                <a:ext cx="1542960" cy="377280"/>
                <a:chOff x="5618160" y="5106960"/>
                <a:chExt cx="1542960" cy="3772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5686200" y="510696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3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618160" y="510696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1523880" y="3124080"/>
              <a:ext cx="5640480" cy="23623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71600" y="21337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plit of Order+Factor (Sparse 1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F01-5962-4699-8645-7E08219218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arse - searching piv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998880" y="3011400"/>
          <a:ext cx="4419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8880" y="3011400"/>
                    <a:ext cx="4419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62120" y="220968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Sparse 1.3 – Not efficient in searching a piv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diagonal matr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–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uadratic growth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57913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rix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30481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026-0C47-4068-94CC-840396D130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erLU - Preord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2286000"/>
            <a:ext cx="6781680" cy="2128320"/>
          </a:xfrm>
          <a:prstGeom prst="rect">
            <a:avLst/>
          </a:prstGeom>
          <a:solidFill>
            <a:srgbClr val="93e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que:  </a:t>
            </a:r>
            <a:r>
              <a:rPr b="1" lang="en-US" sz="2400" spc="-1" strike="noStrike">
                <a:solidFill>
                  <a:srgbClr val="9c009c"/>
                </a:solidFill>
                <a:latin typeface="Tahoma"/>
              </a:rPr>
              <a:t>Column Elimination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better in most cases, but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Could be incorporated in Sparse sol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4724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* Column ordering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is a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key issue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in the speed of direct sol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EB8-38C1-4F48-BADB-B876B8E832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erative Solv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2514600"/>
            <a:ext cx="556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ZTEC (Iterative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PRE (Iterative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4038480"/>
            <a:ext cx="6477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8b64"/>
                </a:solidFill>
                <a:latin typeface="Tahoma"/>
              </a:rPr>
              <a:t>Potential solvers for EM and coupled EM/C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8b64"/>
                </a:solidFill>
                <a:latin typeface="Tahoma"/>
              </a:rPr>
              <a:t>(To be integrated and test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834-98E9-4DC4-A4DF-DC53E83882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E Solver - DASS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2286000"/>
            <a:ext cx="6248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DASS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ORTR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 develop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. Linda R. Petzo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983, widely us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4648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8b64"/>
                </a:solidFill>
                <a:latin typeface="Tahoma"/>
              </a:rPr>
              <a:t>(To be integrated and test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AB2-71B3-4579-8197-C0070EB040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2286000"/>
            <a:ext cx="6629400" cy="3505320"/>
          </a:xfrm>
          <a:prstGeom prst="rect">
            <a:avLst/>
          </a:prstGeom>
          <a:gradFill rotWithShape="0">
            <a:gsLst>
              <a:gs pos="0">
                <a:srgbClr val="00976f"/>
              </a:gs>
              <a:gs pos="50000">
                <a:srgbClr val="00e4a8"/>
              </a:gs>
              <a:gs pos="100000">
                <a:srgbClr val="00976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gration of Solver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895480"/>
            <a:ext cx="4648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Direct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Iterative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DAE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EM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643-0F23-49AB-8448-D64E2D413A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 solvers and CKT solv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971800" y="2684520"/>
                <a:ext cx="1981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M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KT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914400" y="2057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matrix with CKT and EM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4114800"/>
            <a:ext cx="7239240" cy="1381680"/>
          </a:xfrm>
          <a:prstGeom prst="rect">
            <a:avLst/>
          </a:prstGeom>
          <a:solidFill>
            <a:srgbClr val="93e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EM sol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– Iterative, precondition, sparse/d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KT sol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Direct (LU), more 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556272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90920" y="541008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bd20"/>
                </a:solidFill>
                <a:latin typeface="Tahoma"/>
              </a:rPr>
              <a:t>Need an integrated solver to solve the whole system efficiently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83C-67E7-4C3F-8E92-760BE10C4D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228600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2362320"/>
            <a:ext cx="7086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c00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to speedup Sparse 1.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c00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techniques in SuperLU are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c00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E solvers and iterative solvers are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c00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tion with EM solvers is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c00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a prototype design for integ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8DB-AFD9-4686-AB95-D507DF5BDA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2057400"/>
            <a:ext cx="7315200" cy="312408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100000">
                <a:srgbClr val="00b38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inear and Nonlinear Solver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or CoSM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53341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aluation of public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ovative nonlinear/time-domain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209680"/>
            <a:ext cx="70102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ECHNICAL OBJECTIV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Linear Solver:  speedu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olver integration: circuit and 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Optimized nonlinear/time-domain for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Accuracy (wide dynamic ranges: derivati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56EA-47FD-49A6-B4F6-E91AE89888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dule on Linear Sol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7613640" y="219240"/>
            <a:ext cx="135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2057400"/>
            <a:ext cx="708660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Quarter (Jan – Mar, 200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dup Sparse 1.3 (pivoting efficienc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orporate some features of SuperLU in Spa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inish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ersion of direct solve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6 months (-- June 200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ion of Iterative solvers, DAE solvers, and EM sol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ersion of integrated CKT/EM solve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year (-- Dec 200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, debug, enhanced 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A2B-DB65-4D60-A444-F6BB8C746F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560" y="1189080"/>
            <a:ext cx="6848280" cy="18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c0128"/>
                </a:solidFill>
                <a:latin typeface="Tahoma"/>
              </a:rPr>
              <a:t>SILCA</a:t>
            </a:r>
            <a:r>
              <a:rPr b="0" i="1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1" i="1" lang="en-GB" sz="4000" spc="-1" strike="noStrike">
                <a:solidFill>
                  <a:srgbClr val="fc0128"/>
                </a:solidFill>
                <a:latin typeface="Tahoma"/>
              </a:rPr>
              <a:t>S</a:t>
            </a:r>
            <a:r>
              <a:rPr b="1" i="1" lang="en-GB" sz="4000" spc="-1" strike="noStrike">
                <a:solidFill>
                  <a:srgbClr val="333399"/>
                </a:solidFill>
                <a:latin typeface="Tahoma"/>
              </a:rPr>
              <a:t>emi-</a:t>
            </a:r>
            <a:r>
              <a:rPr b="1" i="1" lang="en-GB" sz="4000" spc="-1" strike="noStrike">
                <a:solidFill>
                  <a:srgbClr val="fc0128"/>
                </a:solidFill>
                <a:latin typeface="Tahoma"/>
              </a:rPr>
              <a:t>I</a:t>
            </a:r>
            <a:r>
              <a:rPr b="1" i="1" lang="en-GB" sz="4000" spc="-1" strike="noStrike">
                <a:solidFill>
                  <a:srgbClr val="333399"/>
                </a:solidFill>
                <a:latin typeface="Tahoma"/>
              </a:rPr>
              <a:t>mplicit </a:t>
            </a:r>
            <a:r>
              <a:rPr b="1" i="1" lang="en-GB" sz="4000" spc="-1" strike="noStrike">
                <a:solidFill>
                  <a:srgbClr val="fc0128"/>
                </a:solidFill>
                <a:latin typeface="Tahoma"/>
              </a:rPr>
              <a:t>L</a:t>
            </a:r>
            <a:r>
              <a:rPr b="1" i="1" lang="en-GB" sz="4000" spc="-1" strike="noStrike">
                <a:solidFill>
                  <a:srgbClr val="333399"/>
                </a:solidFill>
                <a:latin typeface="Tahoma"/>
              </a:rPr>
              <a:t>inear </a:t>
            </a:r>
            <a:r>
              <a:rPr b="1" i="1" lang="en-GB" sz="4000" spc="-1" strike="noStrike">
                <a:solidFill>
                  <a:srgbClr val="fc0128"/>
                </a:solidFill>
                <a:latin typeface="Tahoma"/>
              </a:rPr>
              <a:t>C</a:t>
            </a:r>
            <a:r>
              <a:rPr b="1" i="1" lang="en-GB" sz="4000" spc="-1" strike="noStrike">
                <a:solidFill>
                  <a:srgbClr val="333399"/>
                </a:solidFill>
                <a:latin typeface="Tahoma"/>
              </a:rPr>
              <a:t>entric </a:t>
            </a:r>
            <a:r>
              <a:rPr b="1" i="1" lang="en-GB" sz="4000" spc="-1" strike="noStrike">
                <a:solidFill>
                  <a:srgbClr val="fc0128"/>
                </a:solidFill>
                <a:latin typeface="Tahoma"/>
              </a:rPr>
              <a:t>A</a:t>
            </a:r>
            <a:r>
              <a:rPr b="1" i="1" lang="en-GB" sz="4000" spc="-1" strike="noStrike">
                <a:solidFill>
                  <a:srgbClr val="333399"/>
                </a:solidFill>
                <a:latin typeface="Tahoma"/>
              </a:rPr>
              <a:t>nalysi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3732480"/>
            <a:ext cx="779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85760" indent="-185760"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hD Student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Zhao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dvisor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rof. Richard 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ixed Signal CAD Research Lab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Department of Electr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University of Washington, Seattle 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lz2000@ee.washington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57240" y="531720"/>
            <a:ext cx="7162920" cy="662040"/>
            <a:chOff x="957240" y="531720"/>
            <a:chExt cx="7162920" cy="662040"/>
          </a:xfrm>
        </p:grpSpPr>
        <p:sp>
          <p:nvSpPr>
            <p:cNvPr id="247" name=""/>
            <p:cNvSpPr/>
            <p:nvPr/>
          </p:nvSpPr>
          <p:spPr>
            <a:xfrm>
              <a:off x="957240" y="531720"/>
              <a:ext cx="7162920" cy="662040"/>
            </a:xfrm>
            <a:prstGeom prst="roundRect">
              <a:avLst>
                <a:gd name="adj" fmla="val 23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57240" y="652320"/>
              <a:ext cx="7162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3333cc"/>
                  </a:solidFill>
                  <a:latin typeface="Arial"/>
                </a:rPr>
                <a:t>CoSMoS Time-Domain Nonlinear Solv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A23-7A57-4C26-A190-86142F1AF0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50720" y="950760"/>
            <a:ext cx="733572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Time-Domain Simu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560" y="2174400"/>
            <a:ext cx="8119800" cy="38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1220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33cc"/>
                </a:solidFill>
                <a:latin typeface="Tahoma"/>
              </a:rPr>
              <a:t>Time-domain simulation is essential for the final verification of System-On-Chip (SOC) designs. Numerical integration is typically implemented in two w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1220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5200" indent="-2768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5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Variable-time-step methods are applied to achieve a balance between # of actual simulation points and accuracy </a:t>
            </a:r>
            <a:r>
              <a:rPr b="1" lang="en-GB" sz="2000" spc="-1" strike="noStrike">
                <a:solidFill>
                  <a:srgbClr val="fc0128"/>
                </a:solidFill>
                <a:latin typeface="Tahoma"/>
              </a:rPr>
              <a:t>(LU factorization and MNA matrix load are needed for each simulation po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5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835200" indent="-2768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5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Fixed-time-step methods are applied to reduce the LU factorization and MNA matrix load cost </a:t>
            </a:r>
            <a:r>
              <a:rPr b="1" lang="en-GB" sz="2000" spc="-1" strike="noStrike">
                <a:solidFill>
                  <a:srgbClr val="fc0128"/>
                </a:solidFill>
                <a:latin typeface="Tahoma"/>
              </a:rPr>
              <a:t>(A relatively small time step is required to ensure accurac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AAE-51BD-4A6A-8708-1C0F7CF45E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8960" y="765000"/>
            <a:ext cx="7535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Time-Domain Simulation</a:t>
            </a:r>
            <a:br>
              <a:rPr sz="3600"/>
            </a:b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– Our Objectiv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3800" y="2335320"/>
            <a:ext cx="7364160" cy="36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Keep using variable-time-step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Introduce a new semi-implicit integration formula to exploit the benefit of fixed-time-step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pply an iterative linear solver to ensure simulation stability and achieve more relax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742-EF24-495F-B552-13A0E45F55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520" y="717480"/>
            <a:ext cx="696276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Semi-Implicit Trapezoid Formul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33670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4652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0032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0504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685800" y="5105520"/>
                <a:ext cx="4013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3757680" y="3262320"/>
            <a:ext cx="913752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00240" y="4678200"/>
            <a:ext cx="407880" cy="546120"/>
          </a:xfrm>
          <a:custGeom>
            <a:avLst/>
            <a:gdLst/>
            <a:ahLst/>
            <a:rect l="l" t="t" r="r" b="b"/>
            <a:pathLst>
              <a:path w="1139" h="1523">
                <a:moveTo>
                  <a:pt x="283" y="0"/>
                </a:moveTo>
                <a:lnTo>
                  <a:pt x="283" y="1141"/>
                </a:lnTo>
                <a:lnTo>
                  <a:pt x="0" y="1141"/>
                </a:lnTo>
                <a:lnTo>
                  <a:pt x="568" y="1522"/>
                </a:lnTo>
                <a:lnTo>
                  <a:pt x="1138" y="1141"/>
                </a:lnTo>
                <a:lnTo>
                  <a:pt x="854" y="1141"/>
                </a:lnTo>
                <a:lnTo>
                  <a:pt x="854" y="0"/>
                </a:lnTo>
                <a:lnTo>
                  <a:pt x="283" y="0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838080" y="3948120"/>
                <a:ext cx="3009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5029200" y="4190760"/>
            <a:ext cx="384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Trapezoid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29200" y="5165280"/>
            <a:ext cx="39146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New formula for variable-time-step integration 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( </a:t>
            </a:r>
            <a:r>
              <a:rPr b="1" lang="en-GB" sz="2000" spc="-1" strike="noStrike">
                <a:solidFill>
                  <a:srgbClr val="fc0128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c0128"/>
                </a:solidFill>
                <a:latin typeface="Arial"/>
              </a:rPr>
              <a:t>is the variable-time-step factor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562360" cy="23619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666880" y="5562720"/>
            <a:ext cx="2438640" cy="129528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6095520"/>
            <a:ext cx="144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306f8"/>
                </a:solidFill>
                <a:latin typeface="Arial"/>
              </a:rPr>
              <a:t>LU o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CED-6E5E-4C01-907B-8217336257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3040" y="950400"/>
            <a:ext cx="73900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Direct Semi-Implicit Solv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33670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558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6084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4652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032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0504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57680" y="3262320"/>
            <a:ext cx="913752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57200" y="2209680"/>
            <a:ext cx="8318520" cy="1600200"/>
            <a:chOff x="457200" y="2209680"/>
            <a:chExt cx="8318520" cy="1600200"/>
          </a:xfrm>
        </p:grpSpPr>
        <p:sp>
          <p:nvSpPr>
            <p:cNvPr id="276" name=""/>
            <p:cNvSpPr/>
            <p:nvPr/>
          </p:nvSpPr>
          <p:spPr>
            <a:xfrm>
              <a:off x="457200" y="2209680"/>
              <a:ext cx="8318520" cy="1600200"/>
            </a:xfrm>
            <a:prstGeom prst="roundRect">
              <a:avLst>
                <a:gd name="adj" fmla="val 6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7200" y="2209680"/>
              <a:ext cx="8318520" cy="13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To ensure simulation stability, </a:t>
              </a:r>
              <a:r>
                <a:rPr b="1" lang="en-GB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 must be less than 1 in the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To satisfy the LTE requirement, </a:t>
              </a:r>
              <a:r>
                <a:rPr b="1" lang="en-GB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 should be close to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In practice, we found </a:t>
              </a:r>
              <a:r>
                <a:rPr b="1" lang="en-GB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 can only be varied between 0.9 and 1.05, the relaxed SPICE can achieve this to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4749840" cy="2289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3733920" cy="293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0E8-D693-4FDF-8FA8-9B00DA887B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659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Iterative Semi-Implicit Solv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33670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558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6084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4652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0032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0504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57680" y="3262320"/>
            <a:ext cx="913752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" y="3276720"/>
            <a:ext cx="8318520" cy="3014640"/>
            <a:chOff x="457200" y="3276720"/>
            <a:chExt cx="8318520" cy="3014640"/>
          </a:xfrm>
        </p:grpSpPr>
        <p:sp>
          <p:nvSpPr>
            <p:cNvPr id="289" name=""/>
            <p:cNvSpPr/>
            <p:nvPr/>
          </p:nvSpPr>
          <p:spPr>
            <a:xfrm>
              <a:off x="457200" y="3276720"/>
              <a:ext cx="8318520" cy="3014640"/>
            </a:xfrm>
            <a:prstGeom prst="roundRect">
              <a:avLst>
                <a:gd name="adj" fmla="val 5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" y="3276720"/>
              <a:ext cx="8318520" cy="21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102000"/>
                <a:buFont typeface="Wingdings" charset="2"/>
                <a:buChar char="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The </a:t>
              </a:r>
              <a:r>
                <a:rPr b="1" i="1" lang="en-GB" sz="2400" spc="-1" strike="noStrike">
                  <a:solidFill>
                    <a:srgbClr val="fc0128"/>
                  </a:solidFill>
                  <a:latin typeface="Arial"/>
                </a:rPr>
                <a:t>Semi-Implicit</a:t>
              </a: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 solution is used as an initial guess for an iterative solver to find a final </a:t>
              </a:r>
              <a:r>
                <a:rPr b="1" i="1" lang="en-GB" sz="2400" spc="-1" strike="noStrike">
                  <a:solidFill>
                    <a:srgbClr val="fc0128"/>
                  </a:solidFill>
                  <a:latin typeface="Arial"/>
                </a:rPr>
                <a:t>Implicit</a:t>
              </a: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 solution </a:t>
              </a:r>
              <a:r>
                <a:rPr b="1" lang="en-GB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Stability and accuracy are ensured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tabLst>
                  <a:tab algn="l" pos="0"/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102000"/>
                <a:buFont typeface="Wingdings" charset="2"/>
                <a:buChar char="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In practice, we found </a:t>
              </a:r>
              <a:r>
                <a:rPr b="1" lang="en-GB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 can be varied more widely </a:t>
              </a:r>
              <a:r>
                <a:rPr b="1" lang="en-GB" sz="2400" spc="-1" strike="noStrike">
                  <a:solidFill>
                    <a:srgbClr val="fc0128"/>
                  </a:solidFill>
                  <a:latin typeface="Arial"/>
                </a:rPr>
                <a:t>(between 0.667 and 2)</a:t>
              </a: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 more relaxation is achie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00200" y="2133720"/>
                <a:ext cx="58183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(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αh</m:t>
                        </m:r>
                      </m:den>
                    </m:f>
                    <m:r>
                      <m:t xml:space="preserve">−</m:t>
                    </m:r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24F-346B-4460-B502-87EA3EB640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2680" y="717480"/>
            <a:ext cx="716148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Linear Circuit Analysis Examp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33670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558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6084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4652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0032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504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7680" y="3262320"/>
            <a:ext cx="913752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4920" y="2133720"/>
            <a:ext cx="8683560" cy="1852560"/>
            <a:chOff x="304920" y="2133720"/>
            <a:chExt cx="8683560" cy="1852560"/>
          </a:xfrm>
        </p:grpSpPr>
        <p:sp>
          <p:nvSpPr>
            <p:cNvPr id="301" name=""/>
            <p:cNvSpPr/>
            <p:nvPr/>
          </p:nvSpPr>
          <p:spPr>
            <a:xfrm>
              <a:off x="304920" y="2133720"/>
              <a:ext cx="8683560" cy="185256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920" y="2133720"/>
              <a:ext cx="868356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A stiff circuit example </a:t>
              </a:r>
              <a:r>
                <a:rPr b="1" lang="en-GB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 two RCL circuits with 100X time constant differ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Initial time step 0.01 sec, simulation interval 160 sec, 16001 simulation points are needed for fixed-time-step meth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5486400" cy="1676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09480" y="4648320"/>
            <a:ext cx="3679920" cy="19810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029200" y="4800600"/>
            <a:ext cx="350532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322C-3EF5-414B-9892-3CFB5062CB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9320" y="65556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Comparison of CoSMoS Linear Time-Domain Solvers with SP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33670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558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6084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4652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0032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0504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57680" y="3262320"/>
            <a:ext cx="913752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57200" y="5410080"/>
            <a:ext cx="8318520" cy="990720"/>
            <a:chOff x="457200" y="5410080"/>
            <a:chExt cx="8318520" cy="990720"/>
          </a:xfrm>
        </p:grpSpPr>
        <p:sp>
          <p:nvSpPr>
            <p:cNvPr id="315" name=""/>
            <p:cNvSpPr/>
            <p:nvPr/>
          </p:nvSpPr>
          <p:spPr>
            <a:xfrm>
              <a:off x="457200" y="5410080"/>
              <a:ext cx="8318520" cy="99072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7200" y="5410080"/>
              <a:ext cx="83185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102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Although more iterations are introduced for linear circuit solving, its overhead may be decreased when combined with nonlinear circuit solv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04920" y="1981080"/>
            <a:ext cx="8606880" cy="3276360"/>
            <a:chOff x="304920" y="1981080"/>
            <a:chExt cx="8606880" cy="3276360"/>
          </a:xfrm>
        </p:grpSpPr>
        <p:grpSp>
          <p:nvGrpSpPr>
            <p:cNvPr id="318" name=""/>
            <p:cNvGrpSpPr/>
            <p:nvPr/>
          </p:nvGrpSpPr>
          <p:grpSpPr>
            <a:xfrm>
              <a:off x="7010280" y="4640760"/>
              <a:ext cx="1895040" cy="606240"/>
              <a:chOff x="7010280" y="4640760"/>
              <a:chExt cx="1895040" cy="606240"/>
            </a:xfrm>
          </p:grpSpPr>
          <p:sp>
            <p:nvSpPr>
              <p:cNvPr id="319" name=""/>
              <p:cNvSpPr/>
              <p:nvPr/>
            </p:nvSpPr>
            <p:spPr>
              <a:xfrm>
                <a:off x="7010280" y="4640760"/>
                <a:ext cx="1895040" cy="60624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010280" y="4640760"/>
                <a:ext cx="189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0" lang="en-GB" sz="2000" spc="-1" strike="noStrike">
                    <a:solidFill>
                      <a:srgbClr val="ff0000"/>
                    </a:solidFill>
                    <a:latin typeface="Times New Roman"/>
                  </a:rPr>
                  <a:t>35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5216760" y="4640760"/>
              <a:ext cx="1787760" cy="606240"/>
              <a:chOff x="5216760" y="4640760"/>
              <a:chExt cx="1787760" cy="606240"/>
            </a:xfrm>
          </p:grpSpPr>
          <p:sp>
            <p:nvSpPr>
              <p:cNvPr id="322" name=""/>
              <p:cNvSpPr/>
              <p:nvPr/>
            </p:nvSpPr>
            <p:spPr>
              <a:xfrm>
                <a:off x="5216760" y="4640760"/>
                <a:ext cx="1787760" cy="60624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16760" y="4640760"/>
                <a:ext cx="1787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15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006360" y="4640760"/>
              <a:ext cx="2204280" cy="606240"/>
              <a:chOff x="3006360" y="4640760"/>
              <a:chExt cx="2204280" cy="606240"/>
            </a:xfrm>
          </p:grpSpPr>
          <p:sp>
            <p:nvSpPr>
              <p:cNvPr id="325" name=""/>
              <p:cNvSpPr/>
              <p:nvPr/>
            </p:nvSpPr>
            <p:spPr>
              <a:xfrm>
                <a:off x="3006360" y="4640760"/>
                <a:ext cx="2204280" cy="60624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06360" y="4640760"/>
                <a:ext cx="2204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97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04920" y="4640760"/>
              <a:ext cx="2693880" cy="610200"/>
              <a:chOff x="304920" y="4640760"/>
              <a:chExt cx="2693880" cy="610200"/>
            </a:xfrm>
          </p:grpSpPr>
          <p:sp>
            <p:nvSpPr>
              <p:cNvPr id="328" name=""/>
              <p:cNvSpPr/>
              <p:nvPr/>
            </p:nvSpPr>
            <p:spPr>
              <a:xfrm>
                <a:off x="304920" y="4640760"/>
                <a:ext cx="2693880" cy="60300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4920" y="4640760"/>
                <a:ext cx="269388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SMoS Iterative Semi-Implici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010280" y="4023720"/>
              <a:ext cx="1895040" cy="606240"/>
              <a:chOff x="7010280" y="4023720"/>
              <a:chExt cx="1895040" cy="606240"/>
            </a:xfrm>
          </p:grpSpPr>
          <p:sp>
            <p:nvSpPr>
              <p:cNvPr id="331" name=""/>
              <p:cNvSpPr/>
              <p:nvPr/>
            </p:nvSpPr>
            <p:spPr>
              <a:xfrm>
                <a:off x="7010280" y="4023720"/>
                <a:ext cx="1895040" cy="60624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10280" y="4023720"/>
                <a:ext cx="189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26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5216760" y="4023720"/>
              <a:ext cx="1787760" cy="606240"/>
              <a:chOff x="5216760" y="4023720"/>
              <a:chExt cx="1787760" cy="606240"/>
            </a:xfrm>
          </p:grpSpPr>
          <p:sp>
            <p:nvSpPr>
              <p:cNvPr id="334" name=""/>
              <p:cNvSpPr/>
              <p:nvPr/>
            </p:nvSpPr>
            <p:spPr>
              <a:xfrm>
                <a:off x="5216760" y="4023720"/>
                <a:ext cx="1787760" cy="60624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216760" y="4023720"/>
                <a:ext cx="1787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489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006360" y="4023720"/>
              <a:ext cx="2204280" cy="606240"/>
              <a:chOff x="3006360" y="4023720"/>
              <a:chExt cx="2204280" cy="606240"/>
            </a:xfrm>
          </p:grpSpPr>
          <p:sp>
            <p:nvSpPr>
              <p:cNvPr id="337" name=""/>
              <p:cNvSpPr/>
              <p:nvPr/>
            </p:nvSpPr>
            <p:spPr>
              <a:xfrm>
                <a:off x="3006360" y="4023720"/>
                <a:ext cx="2204280" cy="60624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006360" y="4023720"/>
                <a:ext cx="2204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9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04920" y="4023720"/>
              <a:ext cx="2693880" cy="610200"/>
              <a:chOff x="304920" y="4023720"/>
              <a:chExt cx="2693880" cy="610200"/>
            </a:xfrm>
          </p:grpSpPr>
          <p:sp>
            <p:nvSpPr>
              <p:cNvPr id="340" name=""/>
              <p:cNvSpPr/>
              <p:nvPr/>
            </p:nvSpPr>
            <p:spPr>
              <a:xfrm>
                <a:off x="304920" y="4023720"/>
                <a:ext cx="2693880" cy="6058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04920" y="4023720"/>
                <a:ext cx="269388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SMoS Direct Semi-Implici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7010280" y="3463920"/>
              <a:ext cx="1895040" cy="553680"/>
              <a:chOff x="7010280" y="3463920"/>
              <a:chExt cx="1895040" cy="553680"/>
            </a:xfrm>
          </p:grpSpPr>
          <p:sp>
            <p:nvSpPr>
              <p:cNvPr id="343" name=""/>
              <p:cNvSpPr/>
              <p:nvPr/>
            </p:nvSpPr>
            <p:spPr>
              <a:xfrm>
                <a:off x="7010280" y="3463920"/>
                <a:ext cx="1895040" cy="5536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010280" y="3463920"/>
                <a:ext cx="189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67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216760" y="3463920"/>
              <a:ext cx="1787760" cy="553680"/>
              <a:chOff x="5216760" y="3463920"/>
              <a:chExt cx="1787760" cy="553680"/>
            </a:xfrm>
          </p:grpSpPr>
          <p:sp>
            <p:nvSpPr>
              <p:cNvPr id="346" name=""/>
              <p:cNvSpPr/>
              <p:nvPr/>
            </p:nvSpPr>
            <p:spPr>
              <a:xfrm>
                <a:off x="5216760" y="3463920"/>
                <a:ext cx="1787760" cy="5536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16760" y="3463920"/>
                <a:ext cx="1787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525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006360" y="3463920"/>
              <a:ext cx="2204280" cy="553680"/>
              <a:chOff x="3006360" y="3463920"/>
              <a:chExt cx="2204280" cy="553680"/>
            </a:xfrm>
          </p:grpSpPr>
          <p:sp>
            <p:nvSpPr>
              <p:cNvPr id="349" name=""/>
              <p:cNvSpPr/>
              <p:nvPr/>
            </p:nvSpPr>
            <p:spPr>
              <a:xfrm>
                <a:off x="3006360" y="3463920"/>
                <a:ext cx="2204280" cy="5536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06360" y="3463920"/>
                <a:ext cx="2204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96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304920" y="3463920"/>
              <a:ext cx="2693880" cy="553680"/>
              <a:chOff x="304920" y="3463920"/>
              <a:chExt cx="2693880" cy="553680"/>
            </a:xfrm>
          </p:grpSpPr>
          <p:sp>
            <p:nvSpPr>
              <p:cNvPr id="352" name=""/>
              <p:cNvSpPr/>
              <p:nvPr/>
            </p:nvSpPr>
            <p:spPr>
              <a:xfrm>
                <a:off x="304920" y="3463920"/>
                <a:ext cx="2693880" cy="5536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4920" y="3463920"/>
                <a:ext cx="2693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Relaxed SPI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7010280" y="2919600"/>
              <a:ext cx="1895040" cy="535680"/>
              <a:chOff x="7010280" y="2919600"/>
              <a:chExt cx="1895040" cy="535680"/>
            </a:xfrm>
          </p:grpSpPr>
          <p:sp>
            <p:nvSpPr>
              <p:cNvPr id="355" name=""/>
              <p:cNvSpPr/>
              <p:nvPr/>
            </p:nvSpPr>
            <p:spPr>
              <a:xfrm>
                <a:off x="7010280" y="2919600"/>
                <a:ext cx="1895040" cy="535680"/>
              </a:xfrm>
              <a:prstGeom prst="roundRect">
                <a:avLst>
                  <a:gd name="adj" fmla="val 47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10280" y="2919600"/>
                <a:ext cx="189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263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5216760" y="2919600"/>
              <a:ext cx="1787760" cy="535680"/>
              <a:chOff x="5216760" y="2919600"/>
              <a:chExt cx="1787760" cy="535680"/>
            </a:xfrm>
          </p:grpSpPr>
          <p:sp>
            <p:nvSpPr>
              <p:cNvPr id="358" name=""/>
              <p:cNvSpPr/>
              <p:nvPr/>
            </p:nvSpPr>
            <p:spPr>
              <a:xfrm>
                <a:off x="5216760" y="2919600"/>
                <a:ext cx="1787760" cy="535680"/>
              </a:xfrm>
              <a:prstGeom prst="roundRect">
                <a:avLst>
                  <a:gd name="adj" fmla="val 47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216760" y="2919600"/>
                <a:ext cx="1787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526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3006360" y="2919600"/>
              <a:ext cx="2204280" cy="535680"/>
              <a:chOff x="3006360" y="2919600"/>
              <a:chExt cx="2204280" cy="535680"/>
            </a:xfrm>
          </p:grpSpPr>
          <p:sp>
            <p:nvSpPr>
              <p:cNvPr id="361" name=""/>
              <p:cNvSpPr/>
              <p:nvPr/>
            </p:nvSpPr>
            <p:spPr>
              <a:xfrm>
                <a:off x="3006360" y="2919600"/>
                <a:ext cx="2204280" cy="535680"/>
              </a:xfrm>
              <a:prstGeom prst="roundRect">
                <a:avLst>
                  <a:gd name="adj" fmla="val 47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006360" y="2919600"/>
                <a:ext cx="2204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96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04920" y="2919600"/>
              <a:ext cx="2693880" cy="535680"/>
              <a:chOff x="304920" y="2919600"/>
              <a:chExt cx="2693880" cy="535680"/>
            </a:xfrm>
          </p:grpSpPr>
          <p:sp>
            <p:nvSpPr>
              <p:cNvPr id="364" name=""/>
              <p:cNvSpPr/>
              <p:nvPr/>
            </p:nvSpPr>
            <p:spPr>
              <a:xfrm>
                <a:off x="304920" y="2919600"/>
                <a:ext cx="2693880" cy="535680"/>
              </a:xfrm>
              <a:prstGeom prst="roundRect">
                <a:avLst>
                  <a:gd name="adj" fmla="val 47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4920" y="2919600"/>
                <a:ext cx="2693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SPI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7010280" y="1981080"/>
              <a:ext cx="1895040" cy="927720"/>
              <a:chOff x="7010280" y="1981080"/>
              <a:chExt cx="1895040" cy="927720"/>
            </a:xfrm>
          </p:grpSpPr>
          <p:sp>
            <p:nvSpPr>
              <p:cNvPr id="367" name=""/>
              <p:cNvSpPr/>
              <p:nvPr/>
            </p:nvSpPr>
            <p:spPr>
              <a:xfrm>
                <a:off x="7010280" y="1981080"/>
                <a:ext cx="1895040" cy="927720"/>
              </a:xfrm>
              <a:prstGeom prst="roundRect">
                <a:avLst>
                  <a:gd name="adj" fmla="val 2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010280" y="1981080"/>
                <a:ext cx="189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#L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5216760" y="1981080"/>
              <a:ext cx="1787760" cy="927720"/>
              <a:chOff x="5216760" y="1981080"/>
              <a:chExt cx="1787760" cy="927720"/>
            </a:xfrm>
          </p:grpSpPr>
          <p:sp>
            <p:nvSpPr>
              <p:cNvPr id="370" name=""/>
              <p:cNvSpPr/>
              <p:nvPr/>
            </p:nvSpPr>
            <p:spPr>
              <a:xfrm>
                <a:off x="5216760" y="1981080"/>
                <a:ext cx="1787760" cy="927720"/>
              </a:xfrm>
              <a:prstGeom prst="roundRect">
                <a:avLst>
                  <a:gd name="adj" fmla="val 2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16760" y="1981080"/>
                <a:ext cx="1787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#Iter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3006360" y="1981080"/>
              <a:ext cx="2204280" cy="927720"/>
              <a:chOff x="3006360" y="1981080"/>
              <a:chExt cx="2204280" cy="927720"/>
            </a:xfrm>
          </p:grpSpPr>
          <p:sp>
            <p:nvSpPr>
              <p:cNvPr id="373" name=""/>
              <p:cNvSpPr/>
              <p:nvPr/>
            </p:nvSpPr>
            <p:spPr>
              <a:xfrm>
                <a:off x="3006360" y="1981080"/>
                <a:ext cx="2204280" cy="927720"/>
              </a:xfrm>
              <a:prstGeom prst="roundRect">
                <a:avLst>
                  <a:gd name="adj" fmla="val 2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06360" y="1981080"/>
                <a:ext cx="2204280" cy="66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#Simulation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poi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304920" y="1981080"/>
              <a:ext cx="2693880" cy="927720"/>
              <a:chOff x="304920" y="1981080"/>
              <a:chExt cx="2693880" cy="927720"/>
            </a:xfrm>
          </p:grpSpPr>
          <p:sp>
            <p:nvSpPr>
              <p:cNvPr id="376" name=""/>
              <p:cNvSpPr/>
              <p:nvPr/>
            </p:nvSpPr>
            <p:spPr>
              <a:xfrm>
                <a:off x="304920" y="1981080"/>
                <a:ext cx="2693880" cy="927720"/>
              </a:xfrm>
              <a:prstGeom prst="roundRect">
                <a:avLst>
                  <a:gd name="adj" fmla="val 2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4920" y="1981080"/>
                <a:ext cx="2693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Metho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304920" y="1981080"/>
              <a:ext cx="860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4920" y="2919600"/>
              <a:ext cx="860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920" y="3463920"/>
              <a:ext cx="860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920" y="4023720"/>
              <a:ext cx="860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4920" y="4640760"/>
              <a:ext cx="860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4920" y="5257440"/>
              <a:ext cx="860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920" y="1981080"/>
              <a:ext cx="0" cy="32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06360" y="198108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16760" y="198108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010280" y="198108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911800" y="1981080"/>
              <a:ext cx="0" cy="32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1D3-3C64-4C74-A353-266E76072E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52120" y="950760"/>
            <a:ext cx="677412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Nonlinear Simu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5945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33cc"/>
                </a:solidFill>
                <a:latin typeface="Tahoma"/>
              </a:rPr>
              <a:t>In SPICE-like simulators Newton-Raphson (NR) iteration is implemented. But its drawbacks are well-know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5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Nonlinear functions must be continuous and (at least) first-order different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5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LU factorization is needed at each it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5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Nonlinear function derivatives evaluation and related MNA matrix load are required at each iteration (solved by CoSMoS BMAC!!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5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Its quadratic convergence rate is ruined due to practical consid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E586-EF45-4881-B485-8611027C89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olv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279440" y="201456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514600"/>
            <a:ext cx="556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L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Direct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arse 1.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PICE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ZTEC (Iterative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PRE (Iterative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L (DAE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E714-42F6-4CB4-A2A0-50157CDC23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04760" y="666360"/>
            <a:ext cx="64688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Nonlinear Simulation Alternativ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5200" y="1940040"/>
            <a:ext cx="758952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Successive Chord (SC), or piece-wise weakly nonlinear, method to speed up the nonlinear simulation –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LU onc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Piecewise linear (PWL) method is used to find DC operating po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fc0128"/>
              </a:buClr>
              <a:buSzPct val="60000"/>
              <a:buFont typeface="Wingdings" charset="2"/>
              <a:buChar char="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c0128"/>
                </a:solidFill>
                <a:latin typeface="Tahoma"/>
              </a:rPr>
              <a:t>Our goal – DC operation point guess is found with the PWL method. The rest analysis is achieved by the variable SC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724280" cy="266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2B8A-9F3A-4260-AF80-7B3D42AB82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84440" y="728280"/>
            <a:ext cx="7230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Variable Successive Chord Metho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4208400" cy="358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"/>
          <p:cNvGrpSpPr/>
          <p:nvPr/>
        </p:nvGrpSpPr>
        <p:grpSpPr>
          <a:xfrm>
            <a:off x="609480" y="5257800"/>
            <a:ext cx="8074080" cy="1293840"/>
            <a:chOff x="609480" y="5257800"/>
            <a:chExt cx="8074080" cy="1293840"/>
          </a:xfrm>
        </p:grpSpPr>
        <p:sp>
          <p:nvSpPr>
            <p:cNvPr id="397" name=""/>
            <p:cNvSpPr/>
            <p:nvPr/>
          </p:nvSpPr>
          <p:spPr>
            <a:xfrm>
              <a:off x="609480" y="5257800"/>
              <a:ext cx="8074080" cy="1293840"/>
            </a:xfrm>
            <a:prstGeom prst="roundRect">
              <a:avLst>
                <a:gd name="adj" fmla="val 12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9480" y="5257800"/>
              <a:ext cx="8074080" cy="98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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Different chords are used for different reg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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Achieve a balance between convergence speed and LU factorization 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5562720" y="2209680"/>
            <a:ext cx="3276360" cy="24386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3123360"/>
            <a:ext cx="2133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306f8"/>
                </a:solidFill>
                <a:latin typeface="Arial"/>
              </a:rPr>
              <a:t>Rank-1 update to reduce 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2345-A450-4902-9E39-49A666C839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19320" y="717480"/>
            <a:ext cx="711504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Comparison of Four CoSMoS Nonlinear Solvers with SP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33670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7558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6084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4652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0032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60504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757680" y="3262320"/>
            <a:ext cx="913752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066680" y="4952880"/>
            <a:ext cx="7005600" cy="1185840"/>
            <a:chOff x="1066680" y="4952880"/>
            <a:chExt cx="7005600" cy="1185840"/>
          </a:xfrm>
        </p:grpSpPr>
        <p:sp>
          <p:nvSpPr>
            <p:cNvPr id="410" name=""/>
            <p:cNvSpPr/>
            <p:nvPr/>
          </p:nvSpPr>
          <p:spPr>
            <a:xfrm>
              <a:off x="1066680" y="4952880"/>
              <a:ext cx="7005600" cy="118584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66680" y="4952880"/>
              <a:ext cx="7005600" cy="10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spcBef>
                  <a:spcPts val="524"/>
                </a:spcBef>
                <a:tabLst>
                  <a:tab algn="l" pos="0"/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+ Including the iterative semi-implicit linear sol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tabLst>
                  <a:tab algn="l" pos="0"/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* Dependent on practical applications, typically t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tabLst>
                  <a:tab algn="l" pos="0"/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same as #Ite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33520" y="2286000"/>
            <a:ext cx="8305200" cy="2389320"/>
            <a:chOff x="533520" y="2286000"/>
            <a:chExt cx="8305200" cy="2389320"/>
          </a:xfrm>
        </p:grpSpPr>
        <p:grpSp>
          <p:nvGrpSpPr>
            <p:cNvPr id="413" name=""/>
            <p:cNvGrpSpPr/>
            <p:nvPr/>
          </p:nvGrpSpPr>
          <p:grpSpPr>
            <a:xfrm>
              <a:off x="7003800" y="3876840"/>
              <a:ext cx="1826640" cy="414360"/>
              <a:chOff x="7003800" y="3876840"/>
              <a:chExt cx="1826640" cy="414360"/>
            </a:xfrm>
          </p:grpSpPr>
          <p:sp>
            <p:nvSpPr>
              <p:cNvPr id="414" name=""/>
              <p:cNvSpPr/>
              <p:nvPr/>
            </p:nvSpPr>
            <p:spPr>
              <a:xfrm>
                <a:off x="7003800" y="3878280"/>
                <a:ext cx="1826640" cy="412920"/>
              </a:xfrm>
              <a:prstGeom prst="roundRect">
                <a:avLst>
                  <a:gd name="adj" fmla="val 38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03800" y="3876840"/>
                <a:ext cx="182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0000"/>
                    </a:solidFill>
                    <a:latin typeface="Times New Roman"/>
                  </a:rPr>
                  <a:t>59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5271480" y="3876840"/>
              <a:ext cx="1726200" cy="414360"/>
              <a:chOff x="5271480" y="3876840"/>
              <a:chExt cx="1726200" cy="414360"/>
            </a:xfrm>
          </p:grpSpPr>
          <p:sp>
            <p:nvSpPr>
              <p:cNvPr id="417" name=""/>
              <p:cNvSpPr/>
              <p:nvPr/>
            </p:nvSpPr>
            <p:spPr>
              <a:xfrm>
                <a:off x="5271480" y="3878280"/>
                <a:ext cx="1726200" cy="412920"/>
              </a:xfrm>
              <a:prstGeom prst="roundRect">
                <a:avLst>
                  <a:gd name="adj" fmla="val 38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271480" y="3876840"/>
                <a:ext cx="1726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28903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3140640" y="3876840"/>
              <a:ext cx="2124720" cy="414360"/>
              <a:chOff x="3140640" y="3876840"/>
              <a:chExt cx="2124720" cy="414360"/>
            </a:xfrm>
          </p:grpSpPr>
          <p:sp>
            <p:nvSpPr>
              <p:cNvPr id="420" name=""/>
              <p:cNvSpPr/>
              <p:nvPr/>
            </p:nvSpPr>
            <p:spPr>
              <a:xfrm>
                <a:off x="3140640" y="3878280"/>
                <a:ext cx="2124720" cy="412920"/>
              </a:xfrm>
              <a:prstGeom prst="roundRect">
                <a:avLst>
                  <a:gd name="adj" fmla="val 38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40640" y="3876840"/>
                <a:ext cx="2124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3151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533520" y="3876840"/>
              <a:ext cx="2598840" cy="414360"/>
              <a:chOff x="533520" y="3876840"/>
              <a:chExt cx="2598840" cy="414360"/>
            </a:xfrm>
          </p:grpSpPr>
          <p:sp>
            <p:nvSpPr>
              <p:cNvPr id="423" name=""/>
              <p:cNvSpPr/>
              <p:nvPr/>
            </p:nvSpPr>
            <p:spPr>
              <a:xfrm>
                <a:off x="533520" y="3878280"/>
                <a:ext cx="2598840" cy="412920"/>
              </a:xfrm>
              <a:prstGeom prst="roundRect">
                <a:avLst>
                  <a:gd name="adj" fmla="val 38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33520" y="3876840"/>
                <a:ext cx="2598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SMoS SC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7003800" y="4297320"/>
              <a:ext cx="1826640" cy="373320"/>
              <a:chOff x="7003800" y="4297320"/>
              <a:chExt cx="1826640" cy="373320"/>
            </a:xfrm>
          </p:grpSpPr>
          <p:sp>
            <p:nvSpPr>
              <p:cNvPr id="426" name=""/>
              <p:cNvSpPr/>
              <p:nvPr/>
            </p:nvSpPr>
            <p:spPr>
              <a:xfrm>
                <a:off x="7003800" y="4297320"/>
                <a:ext cx="1826640" cy="37332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03800" y="4297320"/>
                <a:ext cx="182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0000"/>
                    </a:solidFill>
                    <a:latin typeface="Times New Roman"/>
                  </a:rPr>
                  <a:t>561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5271480" y="4297320"/>
              <a:ext cx="1726200" cy="373320"/>
              <a:chOff x="5271480" y="4297320"/>
              <a:chExt cx="1726200" cy="373320"/>
            </a:xfrm>
          </p:grpSpPr>
          <p:sp>
            <p:nvSpPr>
              <p:cNvPr id="429" name=""/>
              <p:cNvSpPr/>
              <p:nvPr/>
            </p:nvSpPr>
            <p:spPr>
              <a:xfrm>
                <a:off x="5271480" y="4297320"/>
                <a:ext cx="1726200" cy="37332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271480" y="4297320"/>
                <a:ext cx="1726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27561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3140640" y="4297320"/>
              <a:ext cx="2124720" cy="373320"/>
              <a:chOff x="3140640" y="4297320"/>
              <a:chExt cx="2124720" cy="373320"/>
            </a:xfrm>
          </p:grpSpPr>
          <p:sp>
            <p:nvSpPr>
              <p:cNvPr id="432" name=""/>
              <p:cNvSpPr/>
              <p:nvPr/>
            </p:nvSpPr>
            <p:spPr>
              <a:xfrm>
                <a:off x="3140640" y="4297320"/>
                <a:ext cx="2124720" cy="37332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40640" y="4297320"/>
                <a:ext cx="2124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3218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533520" y="4297320"/>
              <a:ext cx="2598840" cy="373320"/>
              <a:chOff x="533520" y="4297320"/>
              <a:chExt cx="2598840" cy="373320"/>
            </a:xfrm>
          </p:grpSpPr>
          <p:sp>
            <p:nvSpPr>
              <p:cNvPr id="435" name=""/>
              <p:cNvSpPr/>
              <p:nvPr/>
            </p:nvSpPr>
            <p:spPr>
              <a:xfrm>
                <a:off x="533520" y="4297320"/>
                <a:ext cx="2598840" cy="37332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3520" y="4297320"/>
                <a:ext cx="2598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SMoS Variable SC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7003800" y="3473640"/>
              <a:ext cx="1826640" cy="399960"/>
              <a:chOff x="7003800" y="3473640"/>
              <a:chExt cx="1826640" cy="399960"/>
            </a:xfrm>
          </p:grpSpPr>
          <p:sp>
            <p:nvSpPr>
              <p:cNvPr id="438" name=""/>
              <p:cNvSpPr/>
              <p:nvPr/>
            </p:nvSpPr>
            <p:spPr>
              <a:xfrm>
                <a:off x="7003800" y="3473640"/>
                <a:ext cx="1826640" cy="39996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003800" y="3473640"/>
                <a:ext cx="182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4641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5271480" y="3473640"/>
              <a:ext cx="1726200" cy="399960"/>
              <a:chOff x="5271480" y="3473640"/>
              <a:chExt cx="1726200" cy="399960"/>
            </a:xfrm>
          </p:grpSpPr>
          <p:sp>
            <p:nvSpPr>
              <p:cNvPr id="441" name=""/>
              <p:cNvSpPr/>
              <p:nvPr/>
            </p:nvSpPr>
            <p:spPr>
              <a:xfrm>
                <a:off x="5271480" y="3473640"/>
                <a:ext cx="1726200" cy="39996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271480" y="3473640"/>
                <a:ext cx="1726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4582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3140640" y="3473640"/>
              <a:ext cx="2124720" cy="399960"/>
              <a:chOff x="3140640" y="3473640"/>
              <a:chExt cx="2124720" cy="399960"/>
            </a:xfrm>
          </p:grpSpPr>
          <p:sp>
            <p:nvSpPr>
              <p:cNvPr id="444" name=""/>
              <p:cNvSpPr/>
              <p:nvPr/>
            </p:nvSpPr>
            <p:spPr>
              <a:xfrm>
                <a:off x="3140640" y="3473640"/>
                <a:ext cx="2124720" cy="39996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40640" y="3473640"/>
                <a:ext cx="2124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3175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533520" y="3473640"/>
              <a:ext cx="2598840" cy="399960"/>
              <a:chOff x="533520" y="3473640"/>
              <a:chExt cx="2598840" cy="399960"/>
            </a:xfrm>
          </p:grpSpPr>
          <p:sp>
            <p:nvSpPr>
              <p:cNvPr id="447" name=""/>
              <p:cNvSpPr/>
              <p:nvPr/>
            </p:nvSpPr>
            <p:spPr>
              <a:xfrm>
                <a:off x="533520" y="3473640"/>
                <a:ext cx="2598840" cy="39996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33520" y="3473640"/>
                <a:ext cx="2598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SMoS Variable S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7003800" y="3102120"/>
              <a:ext cx="1826640" cy="366840"/>
              <a:chOff x="7003800" y="3102120"/>
              <a:chExt cx="1826640" cy="366840"/>
            </a:xfrm>
          </p:grpSpPr>
          <p:sp>
            <p:nvSpPr>
              <p:cNvPr id="450" name=""/>
              <p:cNvSpPr/>
              <p:nvPr/>
            </p:nvSpPr>
            <p:spPr>
              <a:xfrm>
                <a:off x="7003800" y="3102120"/>
                <a:ext cx="182664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003800" y="3102120"/>
                <a:ext cx="182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4549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5271480" y="3102120"/>
              <a:ext cx="1726200" cy="366840"/>
              <a:chOff x="5271480" y="3102120"/>
              <a:chExt cx="1726200" cy="366840"/>
            </a:xfrm>
          </p:grpSpPr>
          <p:sp>
            <p:nvSpPr>
              <p:cNvPr id="453" name=""/>
              <p:cNvSpPr/>
              <p:nvPr/>
            </p:nvSpPr>
            <p:spPr>
              <a:xfrm>
                <a:off x="5271480" y="3102120"/>
                <a:ext cx="172620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271480" y="3102120"/>
                <a:ext cx="1726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7844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140640" y="3102120"/>
              <a:ext cx="2124720" cy="366840"/>
              <a:chOff x="3140640" y="3102120"/>
              <a:chExt cx="2124720" cy="366840"/>
            </a:xfrm>
          </p:grpSpPr>
          <p:sp>
            <p:nvSpPr>
              <p:cNvPr id="456" name=""/>
              <p:cNvSpPr/>
              <p:nvPr/>
            </p:nvSpPr>
            <p:spPr>
              <a:xfrm>
                <a:off x="3140640" y="3102120"/>
                <a:ext cx="212472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40640" y="3102120"/>
                <a:ext cx="2124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3100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533520" y="3102120"/>
              <a:ext cx="2598840" cy="366840"/>
              <a:chOff x="533520" y="3102120"/>
              <a:chExt cx="2598840" cy="366840"/>
            </a:xfrm>
          </p:grpSpPr>
          <p:sp>
            <p:nvSpPr>
              <p:cNvPr id="459" name=""/>
              <p:cNvSpPr/>
              <p:nvPr/>
            </p:nvSpPr>
            <p:spPr>
              <a:xfrm>
                <a:off x="533520" y="3102120"/>
                <a:ext cx="259884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33520" y="3102120"/>
                <a:ext cx="2598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SMoS S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003800" y="2730600"/>
              <a:ext cx="1826640" cy="366840"/>
              <a:chOff x="7003800" y="2730600"/>
              <a:chExt cx="1826640" cy="366840"/>
            </a:xfrm>
          </p:grpSpPr>
          <p:sp>
            <p:nvSpPr>
              <p:cNvPr id="462" name=""/>
              <p:cNvSpPr/>
              <p:nvPr/>
            </p:nvSpPr>
            <p:spPr>
              <a:xfrm>
                <a:off x="7003800" y="2730600"/>
                <a:ext cx="182664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003800" y="2730600"/>
                <a:ext cx="182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5271480" y="2730600"/>
              <a:ext cx="1726200" cy="366840"/>
              <a:chOff x="5271480" y="2730600"/>
              <a:chExt cx="1726200" cy="366840"/>
            </a:xfrm>
          </p:grpSpPr>
          <p:sp>
            <p:nvSpPr>
              <p:cNvPr id="465" name=""/>
              <p:cNvSpPr/>
              <p:nvPr/>
            </p:nvSpPr>
            <p:spPr>
              <a:xfrm>
                <a:off x="5271480" y="2730600"/>
                <a:ext cx="172620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271480" y="2730600"/>
                <a:ext cx="1726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3556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3140640" y="2730600"/>
              <a:ext cx="2124720" cy="366840"/>
              <a:chOff x="3140640" y="2730600"/>
              <a:chExt cx="2124720" cy="366840"/>
            </a:xfrm>
          </p:grpSpPr>
          <p:sp>
            <p:nvSpPr>
              <p:cNvPr id="468" name=""/>
              <p:cNvSpPr/>
              <p:nvPr/>
            </p:nvSpPr>
            <p:spPr>
              <a:xfrm>
                <a:off x="3140640" y="2730600"/>
                <a:ext cx="212472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40640" y="2730600"/>
                <a:ext cx="2124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3096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533520" y="2730600"/>
              <a:ext cx="2598840" cy="366840"/>
              <a:chOff x="533520" y="2730600"/>
              <a:chExt cx="2598840" cy="366840"/>
            </a:xfrm>
          </p:grpSpPr>
          <p:sp>
            <p:nvSpPr>
              <p:cNvPr id="471" name=""/>
              <p:cNvSpPr/>
              <p:nvPr/>
            </p:nvSpPr>
            <p:spPr>
              <a:xfrm>
                <a:off x="533520" y="2730600"/>
                <a:ext cx="259884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3520" y="2730600"/>
                <a:ext cx="2598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SPI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7003800" y="2286000"/>
              <a:ext cx="1826640" cy="439920"/>
              <a:chOff x="7003800" y="2286000"/>
              <a:chExt cx="1826640" cy="439920"/>
            </a:xfrm>
          </p:grpSpPr>
          <p:sp>
            <p:nvSpPr>
              <p:cNvPr id="474" name=""/>
              <p:cNvSpPr/>
              <p:nvPr/>
            </p:nvSpPr>
            <p:spPr>
              <a:xfrm>
                <a:off x="7003800" y="2286000"/>
                <a:ext cx="1826640" cy="439920"/>
              </a:xfrm>
              <a:prstGeom prst="roundRect">
                <a:avLst>
                  <a:gd name="adj" fmla="val 3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003800" y="2286000"/>
                <a:ext cx="182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#L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5271480" y="2286000"/>
              <a:ext cx="1726200" cy="439920"/>
              <a:chOff x="5271480" y="2286000"/>
              <a:chExt cx="1726200" cy="439920"/>
            </a:xfrm>
          </p:grpSpPr>
          <p:sp>
            <p:nvSpPr>
              <p:cNvPr id="477" name=""/>
              <p:cNvSpPr/>
              <p:nvPr/>
            </p:nvSpPr>
            <p:spPr>
              <a:xfrm>
                <a:off x="5271480" y="2286000"/>
                <a:ext cx="1726200" cy="439920"/>
              </a:xfrm>
              <a:prstGeom prst="roundRect">
                <a:avLst>
                  <a:gd name="adj" fmla="val 3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71480" y="2286000"/>
                <a:ext cx="1726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#Iter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3140640" y="2286000"/>
              <a:ext cx="2124720" cy="439920"/>
              <a:chOff x="3140640" y="2286000"/>
              <a:chExt cx="2124720" cy="439920"/>
            </a:xfrm>
          </p:grpSpPr>
          <p:sp>
            <p:nvSpPr>
              <p:cNvPr id="480" name=""/>
              <p:cNvSpPr/>
              <p:nvPr/>
            </p:nvSpPr>
            <p:spPr>
              <a:xfrm>
                <a:off x="3140640" y="2286000"/>
                <a:ext cx="2124720" cy="439920"/>
              </a:xfrm>
              <a:prstGeom prst="roundRect">
                <a:avLst>
                  <a:gd name="adj" fmla="val 3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40640" y="2286000"/>
                <a:ext cx="2122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#Simulation poin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533520" y="2286000"/>
              <a:ext cx="2598840" cy="439920"/>
              <a:chOff x="533520" y="2286000"/>
              <a:chExt cx="2598840" cy="439920"/>
            </a:xfrm>
          </p:grpSpPr>
          <p:sp>
            <p:nvSpPr>
              <p:cNvPr id="483" name=""/>
              <p:cNvSpPr/>
              <p:nvPr/>
            </p:nvSpPr>
            <p:spPr>
              <a:xfrm>
                <a:off x="533520" y="2286000"/>
                <a:ext cx="2598840" cy="439920"/>
              </a:xfrm>
              <a:prstGeom prst="roundRect">
                <a:avLst>
                  <a:gd name="adj" fmla="val 3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2286000"/>
                <a:ext cx="2598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Metho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533520" y="2286000"/>
              <a:ext cx="830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3520" y="2730600"/>
              <a:ext cx="83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3520" y="3102120"/>
              <a:ext cx="83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3520" y="3473640"/>
              <a:ext cx="83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3520" y="3878280"/>
              <a:ext cx="83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3520" y="4675320"/>
              <a:ext cx="830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3520" y="2286000"/>
              <a:ext cx="0" cy="238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40640" y="2286000"/>
              <a:ext cx="0" cy="238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71480" y="2286000"/>
              <a:ext cx="0" cy="238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03800" y="2286000"/>
              <a:ext cx="0" cy="238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838720" y="2286000"/>
              <a:ext cx="0" cy="238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3520" y="4297320"/>
              <a:ext cx="83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FB1-7F94-4C4D-815F-C047FD4723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440" y="2362320"/>
            <a:ext cx="7978680" cy="28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spcBef>
                <a:spcPts val="561"/>
              </a:spcBef>
              <a:buNone/>
              <a:tabLst>
                <a:tab algn="l" pos="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ILCA –  A prototype of Time-domain Nonlinear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ircuit Simulator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5520" indent="0">
              <a:spcBef>
                <a:spcPts val="561"/>
              </a:spcBef>
              <a:buNone/>
              <a:tabLst>
                <a:tab algn="l" pos="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5520" indent="-320760">
              <a:spcBef>
                <a:spcPts val="462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Variable-time-step numerical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5520" indent="-320760">
              <a:spcBef>
                <a:spcPts val="462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Iterative Semi-Implicit sol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5520" indent="-320760">
              <a:spcBef>
                <a:spcPts val="462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PWL method (to be improved and tes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5520" indent="-320760">
              <a:spcBef>
                <a:spcPts val="462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Variable SC method (to be improved and tes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849240" y="333000"/>
            <a:ext cx="8089920" cy="12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Conclusion on Linear and Nonlinear Time-Domain Solv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1437120" y="5367240"/>
            <a:ext cx="575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** Orders of magnitude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** Work without derivatives if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C17-6F36-4DA5-B615-79C8F0E23D2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4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8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8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68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8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80" y="326232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88240" cy="69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Schedule on NonLinear Solv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990720" y="1743120"/>
            <a:ext cx="7081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ext Quarter (Jan </a:t>
            </a:r>
            <a:r>
              <a:rPr b="1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Mar,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Rank-one update for the variable S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Integration of Table-look-up MOSFE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ext 6 months (</a:t>
            </a:r>
            <a:r>
              <a:rPr b="1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June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Integration of nonlinear capaci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Integration of PWL 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Optimize the solver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(Finish 1</a:t>
            </a:r>
            <a:r>
              <a:rPr b="1" lang="en-GB" sz="2000" spc="-1" strike="noStrike" baseline="30000">
                <a:solidFill>
                  <a:srgbClr val="3333cc"/>
                </a:solidFill>
                <a:latin typeface="Tahoma"/>
              </a:rPr>
              <a:t>st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version of nonlinear sol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ext year (</a:t>
            </a:r>
            <a:r>
              <a:rPr b="1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Dec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ntegration with VHDL-AMS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400-FEB5-43B2-8317-8D07D136DDB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ture of SuperLU</a:t>
            </a:r>
            <a:r>
              <a:rPr b="0" lang="en-US" sz="4400" spc="-1" strike="noStrike" baseline="30000">
                <a:solidFill>
                  <a:srgbClr val="333399"/>
                </a:solidFill>
                <a:latin typeface="Tahoma"/>
              </a:rPr>
              <a:t>*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4864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Developed by Berkeley, Xerox Palo Alto Research Center, NERSC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362320"/>
            <a:ext cx="6248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nod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umn elimination tree for pre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bolic fact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/Complex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D87-3F14-4B32-AF25-5DBE7B98CF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arse 1.3 vs SuperL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2133720"/>
            <a:ext cx="6019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weakness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3352680"/>
            <a:ext cx="6705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Sparse 1.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A circuit-specific direct solver (19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SuperL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A general purpose direct solver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F0B-3F83-4566-9111-B77563C60D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677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arse 1.3 vs SuperL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20574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an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743200"/>
            <a:ext cx="3276720" cy="2778120"/>
          </a:xfrm>
          <a:prstGeom prst="rect">
            <a:avLst/>
          </a:prstGeom>
          <a:solidFill>
            <a:srgbClr val="f0fb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Tahoma"/>
              </a:rPr>
              <a:t>Sparse 1.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 order/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arkowitz) -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u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erical fact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G.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ve (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2743200"/>
            <a:ext cx="3504960" cy="2778120"/>
          </a:xfrm>
          <a:prstGeom prst="rect">
            <a:avLst/>
          </a:prstGeom>
          <a:solidFill>
            <a:srgbClr val="f0fb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Tahoma"/>
              </a:rPr>
              <a:t>Super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order by elim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u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erical fact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upernode based G.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ve (standard+ref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FF0-0697-41A7-9736-73FDB26D14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ing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ars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&amp;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uperL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2133720"/>
            <a:ext cx="59436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ahoma"/>
              </a:rPr>
              <a:t>Matrix d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ource: Many Circuits, FE/FD, Artif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Type:    Dense, sparse, real,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ize:      1k – 1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Tahoma"/>
              </a:rPr>
              <a:t>Internal matrix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parse:    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perLU:  Column compressed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F45B-A8E4-4CE6-A419-C867BED51B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2362320"/>
            <a:ext cx="6705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6c8c06"/>
                </a:solidFill>
                <a:latin typeface="Tahoma"/>
              </a:rPr>
              <a:t>Numerical factorization and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No great differen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n aver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6c8c06"/>
                </a:solidFill>
                <a:latin typeface="Tahoma"/>
              </a:rPr>
              <a:t>Ordering and symbolic fact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table dif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mos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rkowitz-based preordering might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e efficient as implemented in Sp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11430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06f8"/>
                </a:solidFill>
                <a:latin typeface="Tahoma"/>
              </a:rPr>
              <a:t>Sparse vs Super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D30-DB02-4DA6-991F-6629B6CA65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umerical Factor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133720" y="2133720"/>
          <a:ext cx="4495680" cy="377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133720"/>
                    <a:ext cx="449568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17C2-66DB-4775-8659-CD769FD9F0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6:21:53Z</dcterms:created>
  <dc:creator>gshi</dc:creator>
  <dc:description/>
  <dc:language>en-US</dc:language>
  <cp:lastModifiedBy>cjshi</cp:lastModifiedBy>
  <dcterms:modified xsi:type="dcterms:W3CDTF">2002-12-10T06:00:10Z</dcterms:modified>
  <cp:revision>57</cp:revision>
  <dc:subject/>
  <dc:title>Solver Development</dc:title>
</cp:coreProperties>
</file>