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5.png" ContentType="image/png"/>
  <Override PartName="/ppt/media/image10.png" ContentType="image/png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5B3-D2DA-4E46-8F79-490412BC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567-0F04-468E-8D89-CE721D3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8E7-D111-4AA8-9583-D4B6E16F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D88-5FEF-44CA-B118-19BEA805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8D6-F571-4906-91FF-5CEADD7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F3A-D6BF-4F8B-B3F0-3C5EB945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F96-B380-4C8C-BE97-224796DA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87E-94FE-40D0-AE61-938FBBA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C25-949E-41A3-8551-690095D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AD7-34DB-4C64-A070-1DB1FEC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465-1D2F-4733-860B-4C30A41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D93-2231-4E41-984F-F9E409D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7E8-56F7-4AE1-A06D-2E197E2BFC01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476760"/>
            <a:ext cx="19047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05320" y="647676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EAF3-A128-40A0-85FF-AB9B55789709}" type="slidenum">
              <a:rPr b="1" i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914400"/>
            <a:ext cx="9132840" cy="74520"/>
          </a:xfrm>
          <a:prstGeom prst="rect">
            <a:avLst/>
          </a:prstGeom>
          <a:gradFill rotWithShape="0">
            <a:gsLst>
              <a:gs pos="0">
                <a:srgbClr val="760c04"/>
              </a:gs>
              <a:gs pos="50000">
                <a:srgbClr val="e71909"/>
              </a:gs>
              <a:gs pos="100000">
                <a:srgbClr val="760c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1160" y="990720"/>
            <a:ext cx="9132840" cy="381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50000">
                <a:srgbClr val="0000b6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BCD-F690-4C2B-B9B6-72C92CB89752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57720" y="311472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.wmf"/><Relationship Id="rId2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2.png"/><Relationship Id="rId23" Type="http://schemas.openxmlformats.org/officeDocument/2006/relationships/image" Target="../media/image12.png"/><Relationship Id="rId24" Type="http://schemas.openxmlformats.org/officeDocument/2006/relationships/image" Target="../media/image2.png"/><Relationship Id="rId25" Type="http://schemas.openxmlformats.org/officeDocument/2006/relationships/image" Target="../media/image12.png"/><Relationship Id="rId26" Type="http://schemas.openxmlformats.org/officeDocument/2006/relationships/image" Target="../media/image2.png"/><Relationship Id="rId27" Type="http://schemas.openxmlformats.org/officeDocument/2006/relationships/image" Target="../media/image12.png"/><Relationship Id="rId28" Type="http://schemas.openxmlformats.org/officeDocument/2006/relationships/image" Target="../media/image2.png"/><Relationship Id="rId29" Type="http://schemas.openxmlformats.org/officeDocument/2006/relationships/image" Target="../media/image12.png"/><Relationship Id="rId30" Type="http://schemas.openxmlformats.org/officeDocument/2006/relationships/image" Target="../media/image2.png"/><Relationship Id="rId31" Type="http://schemas.openxmlformats.org/officeDocument/2006/relationships/image" Target="../media/image12.png"/><Relationship Id="rId32" Type="http://schemas.openxmlformats.org/officeDocument/2006/relationships/image" Target="../media/image2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610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SITIC-AWARE DESIGN AND OPTIMIZATION FOR CMOS ULTRA-WIDEBAND AMPLIFI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Garamond"/>
              </a:rPr>
              <a:t>Jinho Park and Prof. David Allsto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Electrical Engineering / University of Washingt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Supported by DARPA/NEOC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6313DC-C61A-4961-8DEE-1E2C617732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tructure of Parasitic-Aware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ynthesis and Optim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68280" y="2000160"/>
          <a:ext cx="1959120" cy="13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8280" y="2000160"/>
                    <a:ext cx="195912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268280" y="4284720"/>
          <a:ext cx="1989360" cy="13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8280" y="4284720"/>
                    <a:ext cx="1989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762520" y="2008080"/>
          <a:ext cx="1951200" cy="130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62520" y="2008080"/>
                    <a:ext cx="195120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459240" y="1163520"/>
            <a:ext cx="2111400" cy="768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Optimization Co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particle swarm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459240" y="339084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Circuit Simul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HSpice / Spectr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459240" y="565632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Parasitic Mode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00680" y="4273560"/>
          <a:ext cx="1990800" cy="133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00680" y="4273560"/>
                    <a:ext cx="19908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90640" y="1508040"/>
          <a:ext cx="768600" cy="57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90640" y="150804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708280" y="3236760"/>
          <a:ext cx="74916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8280" y="3236760"/>
                    <a:ext cx="7491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612880" y="3774960"/>
          <a:ext cx="768600" cy="57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12880" y="377496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728800" y="5541840"/>
          <a:ext cx="749520" cy="62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28800" y="5541840"/>
                    <a:ext cx="7495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51560" y="5541840"/>
          <a:ext cx="749160" cy="574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51560" y="554184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532480" y="1432080"/>
          <a:ext cx="749160" cy="62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32480" y="143208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532480" y="3697200"/>
          <a:ext cx="749160" cy="628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32480" y="369720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32480" y="3236760"/>
          <a:ext cx="749160" cy="574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532480" y="323676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656640" y="4273560"/>
            <a:ext cx="2569320" cy="1305000"/>
            <a:chOff x="656640" y="4273560"/>
            <a:chExt cx="2569320" cy="1305000"/>
          </a:xfrm>
        </p:grpSpPr>
        <p:sp>
          <p:nvSpPr>
            <p:cNvPr id="171" name=""/>
            <p:cNvSpPr/>
            <p:nvPr/>
          </p:nvSpPr>
          <p:spPr>
            <a:xfrm>
              <a:off x="1268280" y="4273560"/>
              <a:ext cx="195768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640" y="446580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8120" y="2008080"/>
            <a:ext cx="2609280" cy="1305000"/>
            <a:chOff x="618120" y="2008080"/>
            <a:chExt cx="2609280" cy="1305000"/>
          </a:xfrm>
        </p:grpSpPr>
        <p:sp>
          <p:nvSpPr>
            <p:cNvPr id="174" name=""/>
            <p:cNvSpPr/>
            <p:nvPr/>
          </p:nvSpPr>
          <p:spPr>
            <a:xfrm>
              <a:off x="127008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8120" y="2084400"/>
              <a:ext cx="1131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00680" y="4273560"/>
            <a:ext cx="2786760" cy="1305000"/>
            <a:chOff x="5800680" y="4273560"/>
            <a:chExt cx="2786760" cy="1305000"/>
          </a:xfrm>
        </p:grpSpPr>
        <p:sp>
          <p:nvSpPr>
            <p:cNvPr id="177" name=""/>
            <p:cNvSpPr/>
            <p:nvPr/>
          </p:nvSpPr>
          <p:spPr>
            <a:xfrm>
              <a:off x="5800680" y="427356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442764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62520" y="2008080"/>
            <a:ext cx="2976480" cy="1305000"/>
            <a:chOff x="5762520" y="2008080"/>
            <a:chExt cx="2976480" cy="1305000"/>
          </a:xfrm>
        </p:grpSpPr>
        <p:sp>
          <p:nvSpPr>
            <p:cNvPr id="180" name=""/>
            <p:cNvSpPr/>
            <p:nvPr/>
          </p:nvSpPr>
          <p:spPr>
            <a:xfrm>
              <a:off x="576252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4480" y="2084400"/>
              <a:ext cx="1244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348680" y="65530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inductor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905640" y="4467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881520" y="4389480"/>
            <a:ext cx="1228680" cy="5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56080" y="408132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17C-A198-4482-9137-A2E39C3E1B3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3B006-BD19-4517-9CDA-7F812DBA5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asitic Inductor Mode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7749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What do we need? – S-parameter data for each ind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1) Measurement data – Min, Mid,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for calibration of EM simu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2) EM simulator – calibration and interp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3) SPICE inductor model (freq. and induc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urve fitting (polyf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.g. Rs =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3 = 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*L+b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85960" y="1085760"/>
            <a:ext cx="7361280" cy="2649600"/>
            <a:chOff x="885960" y="1085760"/>
            <a:chExt cx="7361280" cy="2649600"/>
          </a:xfrm>
        </p:grpSpPr>
        <p:graphicFrame>
          <p:nvGraphicFramePr>
            <p:cNvPr id="189" name=""/>
            <p:cNvGraphicFramePr/>
            <p:nvPr/>
          </p:nvGraphicFramePr>
          <p:xfrm>
            <a:off x="885960" y="1106280"/>
            <a:ext cx="3217680" cy="2629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85960" y="1106280"/>
                      <a:ext cx="3217680" cy="26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126040" y="1085760"/>
            <a:ext cx="3121200" cy="262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26040" y="1085760"/>
                      <a:ext cx="3121200" cy="26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4322880" y="216036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2288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347960" y="65530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circuit simula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308-45AF-46B7-A3B6-B104F8D8FF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41018-2949-45C2-A225-03BEAE63DE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spired by a social behavior of a swarm of bees searching for the location of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change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individual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grou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formation to find the optimum (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Cooperation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ork on a population of potential solution candidates called </a:t>
            </a:r>
            <a:r>
              <a:rPr b="0" i="1" lang="ko-KR" sz="2800" spc="-1" strike="noStrike">
                <a:solidFill>
                  <a:srgbClr val="ff3300"/>
                </a:solidFill>
                <a:latin typeface="Tahoma"/>
              </a:rPr>
              <a:t>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ell-balanced between global / local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400" spc="-1" strike="noStrike">
                <a:solidFill>
                  <a:srgbClr val="ff3300"/>
                </a:solidFill>
                <a:latin typeface="Tahoma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Simp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Easy to be implemented as optimization core for parasitic-aware synthesis and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FD6-A99F-4BCC-97E9-36EE102529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5B5CD-EBA4-4459-9139-66B6DE4975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warming Equ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Motion of searching agents (Particles) by keeping track of individual and group experience (Competition and Co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inertia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69E-29AE-44B4-AB20-91AF78C95A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0D7FD-5E67-4971-8DD5-3555CAB2C4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0000" y="1163520"/>
            <a:ext cx="2535120" cy="962280"/>
            <a:chOff x="270000" y="1163520"/>
            <a:chExt cx="2535120" cy="962280"/>
          </a:xfrm>
        </p:grpSpPr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1960560" y="1585800"/>
                  <a:ext cx="844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270000" y="1163520"/>
              <a:ext cx="1766880" cy="9471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Random 1)position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386320" y="2976480"/>
            <a:ext cx="760320" cy="7603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71080" y="2038320"/>
            <a:ext cx="2535480" cy="550800"/>
            <a:chOff x="271080" y="2038320"/>
            <a:chExt cx="2535480" cy="55080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960560" y="2046240"/>
                  <a:ext cx="846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271080" y="203832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2)velocity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A0C-CE67-47E9-877E-3CFFFD4B13D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5479E-2289-466C-B677-E709ECF6D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296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Update of Position &amp; Velocit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61880" y="1085760"/>
            <a:ext cx="1997280" cy="520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Vector su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73320" y="3928680"/>
            <a:ext cx="654120" cy="99684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068600" y="4927680"/>
            <a:ext cx="498600" cy="496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568920" y="2122560"/>
            <a:ext cx="844560" cy="115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189240" y="4159080"/>
            <a:ext cx="1420920" cy="804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453000" y="5271840"/>
            <a:ext cx="998280" cy="190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992560" y="2044800"/>
            <a:ext cx="134460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0" y="1608120"/>
                <a:ext cx="3305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5378400" y="296856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85960" y="6194520"/>
            <a:ext cx="8064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85960" y="5349600"/>
            <a:ext cx="0" cy="842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1640880" y="5964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196200" y="47736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endenc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oward the b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1C5-3E22-4D0C-AB3A-920BF580122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A1EFA-786C-44C2-8E6A-E329D6A88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74 0.01505 L 0.20313 -0.11389 E">
                                      <p:cBhvr>
                                        <p:cTn id="1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16232 -0.0301 E">
                                      <p:cBhvr>
                                        <p:cTn id="1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259E-006 L -0.20017 -0.00764 E">
                                      <p:cBhvr>
                                        <p:cTn id="14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11771 0.0169 E">
                                      <p:cBhvr>
                                        <p:cTn id="14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7.40741E-007 C -0.10729 0.02083 -0.19461 0.0419 -0.19114 0.08403 C -0.1875 0.12593 -0.09288 0.18889 0.00209 0.25208 E">
                                      <p:cBhvr>
                                        <p:cTn id="14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A       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 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910200" y="655308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pply to MA and 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0FF-9875-4C2F-8A77-E1E5C22DCD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983E7-4613-4A94-A57E-8A718A4577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Which technique is bette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Two different parasitic-aware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Will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Tahoma"/>
              </a:rPr>
              <a:t>Particle Swarm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fit parasitic-aware synthe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879800" y="4159080"/>
          <a:ext cx="4038840" cy="264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9800" y="4159080"/>
                    <a:ext cx="40388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7348320" y="65530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esign 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BE3-329C-47A3-93CD-64ED9E7ECF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64FBD-48C0-4BF6-B131-E6ADF24BD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mparison Resul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omparable initial performance for both DA and 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erformance difference increases as the constraints become tighter and the total iterations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A performs very poor in complex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ticle swarm is 1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fast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and more 2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-112680" y="3083040"/>
            <a:ext cx="9372600" cy="3495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7349760" y="6553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MA resul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61880" y="5925960"/>
            <a:ext cx="368784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33ff"/>
                </a:solidFill>
                <a:latin typeface="Arial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7D2-ECDE-421F-AA02-0C4981C66C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1C053-031C-41E9-861E-B2E908A5D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Optimization Results (MA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348680" y="655308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how to optim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140560" y="1623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341040" y="16621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hase shif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ECD-FFEB-4E0E-A212-7DB5CACACA3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C9DAC-B98A-4632-A2EA-883ACC40C8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6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Birth of “Parasitic-Aware” Design and Optimization (Dr. David Allstot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RF ICs by Dr. Ravi Gupta and Dr. Allstot (RFIC symposium / MTT-s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9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CMOS distributed amplifier design using CAD optimization techniques by Ballweber and Dr. Allstot (ISSCC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A 0.5-8.5GHz fully-differential CMOS RF distributed amplifier by Dr. Ahn and Dr. Allstot (SSMSD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synthesis of RF CMOS switching power amplifiers by Kiyong and Dr. Allstot (ISCA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wideband amplifiers by Jinho Park and Dr. Allstot (ASP-DA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optimization of CMOS RF circuits by Jinho Park, Kiyong, and Dr. Allstot (Kluwer Academic Publisher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C7-000E-46E2-9878-5B2D18AB1D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09CE4-FE29-4FA4-BEC8-A2EC6984C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How to optimiz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in is not added up in phase due to addition of parasitic capacitance (no valid phase synchron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istance attenuates the signal propa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ed capacitance / re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design is impossible because of non-linear behavior between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ing using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ain phase synchronization by finding proper values of inductance, capac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350120" y="655308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Final desig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356-6A59-44E3-9E77-B1192F88AD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2C8ED-6EC2-44A5-9FC9-5E25CA2B9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Final Design Results 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81520" y="1633680"/>
          <a:ext cx="5607000" cy="42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1520" y="1633680"/>
                    <a:ext cx="560700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00" y="1671480"/>
          <a:ext cx="3708360" cy="4133880"/>
        </p:xfrm>
        <a:graphic>
          <a:graphicData uri="http://schemas.openxmlformats.org/drawingml/2006/table">
            <a:tbl>
              <a:tblPr/>
              <a:tblGrid>
                <a:gridCol w="1536840"/>
                <a:gridCol w="1085760"/>
                <a:gridCol w="10857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fore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ter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Gai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in flatness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. deviatio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1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2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off frequency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y-gain freq.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614600" y="2162160"/>
            <a:ext cx="2151000" cy="92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1576440" y="4888080"/>
            <a:ext cx="2151000" cy="920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040-8EDE-4C8D-B4FB-0C60C3C1ADD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2BED-3A5C-49FD-B500-8F9B06FE8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CMOS matrix amplifier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achieved very high gain with wide bandwid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~20dB, flat gain over 12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New parasitic-aware synthesis and optimization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with particle swarm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fast /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Parallel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2DF-7B76-4D3B-BE08-3F679DF684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653DD-87A8-4F9F-9FCD-2F656A4B8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64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an we use CMOS for RF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85760"/>
          <a:ext cx="8218440" cy="3495240"/>
        </p:xfrm>
        <a:graphic>
          <a:graphicData uri="http://schemas.openxmlformats.org/drawingml/2006/table">
            <a:tbl>
              <a:tblPr/>
              <a:tblGrid>
                <a:gridCol w="2738520"/>
                <a:gridCol w="2741760"/>
                <a:gridCol w="2738160"/>
              </a:tblGrid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-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GHz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0.13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eakdown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-insul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ly dope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s of pass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~12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00M de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.50 per cm</a:t>
                      </a:r>
                      <a:r>
                        <a:rPr b="1" lang="ko-KR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.25 per cm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9600" y="4773600"/>
            <a:ext cx="8834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i-CMOS performance limited by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act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pass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devic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low cost / high integration = system-on-chi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946920" y="655308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ctive improv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0" y="1585800"/>
            <a:ext cx="192240" cy="690840"/>
            <a:chOff x="4572000" y="1585800"/>
            <a:chExt cx="192240" cy="690840"/>
          </a:xfrm>
        </p:grpSpPr>
        <p:sp>
          <p:nvSpPr>
            <p:cNvPr id="92" name=""/>
            <p:cNvSpPr/>
            <p:nvPr/>
          </p:nvSpPr>
          <p:spPr>
            <a:xfrm>
              <a:off x="4572000" y="158580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04624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33840" y="250668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2968560"/>
            <a:ext cx="192240" cy="23040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5378400" y="342900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51680" y="3851280"/>
            <a:ext cx="192240" cy="652320"/>
            <a:chOff x="7951680" y="3851280"/>
            <a:chExt cx="192240" cy="652320"/>
          </a:xfrm>
        </p:grpSpPr>
        <p:sp>
          <p:nvSpPr>
            <p:cNvPr id="98" name=""/>
            <p:cNvSpPr/>
            <p:nvPr/>
          </p:nvSpPr>
          <p:spPr>
            <a:xfrm>
              <a:off x="7951680" y="385128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1680" y="427356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CC1-238E-4823-9AAE-CCF086C627F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AA9B8-70BA-4725-95A2-B9B6B8F538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1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92320" y="1300320"/>
          <a:ext cx="6476760" cy="46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1300320"/>
                    <a:ext cx="6476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1] B. Kleveland, et al., “Monolithic CMOS distributed amplifier and oscillator”,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.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68F-3932-4F56-9175-A8E877D0373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566AC-15F8-45F0-ABF7-2134E1D0C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2] B.M. Ballweber, R. Gupta, and D.J. Allstot, “A fully integrated 0.5-5.5GHz CMOS distributed amplifier,”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682-81A0-404E-A34A-6AE9192D9A8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81446-0F55-4111-81FA-529A3C156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5065560" y="1184400"/>
          <a:ext cx="3462480" cy="26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5560" y="1184400"/>
                    <a:ext cx="3462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7DE-644C-432A-8CCD-EA4BB3A45DB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1D5D5-F3C5-4FE9-AA77-DF2EA82A47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Advantages of CM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cost / High integration / Sc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oor performance due to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Tahoma"/>
              </a:rPr>
              <a:t>Solved by parasitic-aware design based on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933ff"/>
                </a:solidFill>
                <a:latin typeface="Tahoma"/>
              </a:rPr>
              <a:t>Proble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A using parasitic-aware based o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gain of distributed amplifi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CMOS High Gain wideband</a:t>
            </a:r>
            <a:r>
              <a:rPr b="0" i="1" lang="ko-K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Matrix Ampl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ng optimization time (a day with 9 design variables on HP712/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A New Parasitic-Aware Optimization Technique based on fast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Particle Swa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A3B-3BA6-4423-B8FB-05FA8D9FB6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16BD7-45EF-4F7D-A470-45A3D58AAB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atrix Ampl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 gain (need many s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associated with delay line (Metal resistance + gate / drain resis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um number of sections 4~5 (&lt;10dB S2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ultiplica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stacking more than one delay lines (2-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is K times bigger in dB than DA with smaller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dela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12880" y="3889440"/>
                <a:ext cx="40323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180200" y="6553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A/MA summ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310-32F2-4270-8733-226D458706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B58A8-3053-48A2-9769-CEDE54659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chematic (2X4 Matrix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c: S21 ~20dB BW &gt;12GHz in 0.25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 C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maximum # of sections: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aximize BW and minimize rip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as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inimize capacitive coupling between delay line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mprove reverse iso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ompensate for loss by increasing 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-derived half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ffering between delay lines and termination resistor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76480" y="3711600"/>
          <a:ext cx="4800600" cy="31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6480" y="3711600"/>
                    <a:ext cx="48006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422440" y="4657680"/>
            <a:ext cx="4262400" cy="576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6786000" y="45813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348320" y="655308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phase linear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0E8-F6BE-4658-8C7D-2E37E32EEB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23136-87EC-428E-BA26-52A5D13069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7:28:41Z</dcterms:created>
  <dc:creator>IBM Admin</dc:creator>
  <dc:description/>
  <dc:language>en-US</dc:language>
  <cp:lastModifiedBy>Jinho Park</cp:lastModifiedBy>
  <dcterms:modified xsi:type="dcterms:W3CDTF">2002-12-09T23:09:11Z</dcterms:modified>
  <cp:revision>735</cp:revision>
  <dc:subject/>
  <dc:title>Slide 1</dc:title>
</cp:coreProperties>
</file>