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png" ContentType="image/png"/>
  <Override PartName="/ppt/media/image2.png" ContentType="image/png"/>
  <Override PartName="/ppt/media/image28.wmf" ContentType="image/x-wmf"/>
  <Override PartName="/ppt/media/image5.wmf" ContentType="image/x-wmf"/>
  <Override PartName="/ppt/media/image35.wmf" ContentType="image/x-wmf"/>
  <Override PartName="/ppt/media/image29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46.wmf" ContentType="image/x-wmf"/>
  <Override PartName="/ppt/media/image3.png" ContentType="image/png"/>
  <Override PartName="/ppt/media/image47.wmf" ContentType="image/x-wmf"/>
  <Override PartName="/ppt/media/image51.wmf" ContentType="image/x-wmf"/>
  <Override PartName="/ppt/media/image12.wmf" ContentType="image/x-wmf"/>
  <Override PartName="/ppt/media/image49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B1B1B3-7279-494B-BA60-D11C75354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5B8729-3DFA-4D5D-B968-6EFDF711E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CCD3-2ACE-41FC-B049-41BE0AF50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7560" y="415116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5818-7F9B-431E-B212-C11FA526B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964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E099-D9DF-4F75-950B-FDB4CC4AC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756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1816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840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F61D-16E6-442A-8258-DA403E25E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D3840-9986-49F6-8EA3-1D968D17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2462D-DE1C-4F1E-9978-9472D1F4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97ECB-F81F-4849-98A1-752CC13F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B3743-767F-4B89-877E-0581987D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F26F8-E8D1-4421-9869-2B3BCF58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36B97-4BCD-4B85-A002-235B176B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401AD-DF4B-452C-ACE4-7B7F4114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2521-C952-4469-8DE7-3145ACFBA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36836-BA92-4999-BF80-D648E3D2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F4D53-0D28-4BF5-A2F5-B1806B2F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15116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CEB59-A928-437D-B6EE-BEFF3B9E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6707A-D13A-41B3-BA3E-610A2BCB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496D7-1E80-4435-BE37-411F3099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EF29-911F-41E8-BD78-8BB2B3B3C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7BB9-567E-475A-8486-1515159F1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A209-6964-4F6E-BFA5-8335104FB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6734-FD74-40B3-837A-D57BCF141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E131-C921-4693-9A56-FDF1B2DA6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964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647D-0510-4D2F-99E8-C91CCBD7B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0A9C-7495-4F4D-A12C-BE822A9CB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cc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75080" y="6533640"/>
            <a:ext cx="19810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icia Manthe/</a:t>
            </a:r>
            <a:fld id="{F81A897D-0178-4C60-9FBB-96BD353CE2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6989-40B6-4BB7-91EB-4E16875528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19200"/>
            <a:ext cx="777240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cc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slideLayout" Target="../slideLayouts/slideLayout1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DD-based Symbolic Circuit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9640" y="2663640"/>
            <a:ext cx="496728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.D. Candidate: Alicia Mant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.D. Student: Zhao 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isor: C.-J. Richard Sh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38440" y="4548240"/>
            <a:ext cx="1084320" cy="1084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36840" y="4730760"/>
            <a:ext cx="1145880" cy="642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53000" y="4657680"/>
            <a:ext cx="73512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terminant Decision 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731960"/>
          <a:ext cx="4267080" cy="15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31960"/>
                    <a:ext cx="426708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80880" y="3962520"/>
            <a:ext cx="1143000" cy="83808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571320" y="339084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193760" y="4603680"/>
                <a:ext cx="343548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C</m:t>
                                  </m:r>
                                </m:e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D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73" name=""/>
          <p:cNvGraphicFramePr/>
          <p:nvPr/>
        </p:nvGraphicFramePr>
        <p:xfrm>
          <a:off x="5046840" y="1676520"/>
          <a:ext cx="150624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6840" y="1676520"/>
                    <a:ext cx="1506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398760" y="3962520"/>
            <a:ext cx="1096920" cy="83808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4191120"/>
            <a:ext cx="1828800" cy="380880"/>
          </a:xfrm>
          <a:prstGeom prst="rightArrow">
            <a:avLst>
              <a:gd name="adj1" fmla="val 50000"/>
              <a:gd name="adj2" fmla="val 120038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4191120"/>
            <a:ext cx="2438640" cy="380880"/>
          </a:xfrm>
          <a:prstGeom prst="rightArrow">
            <a:avLst>
              <a:gd name="adj1" fmla="val 50000"/>
              <a:gd name="adj2" fmla="val 160066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3919680"/>
            <a:ext cx="1143000" cy="83808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257800" y="5504040"/>
                <a:ext cx="3657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u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i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E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rot="5400000">
            <a:off x="7124400" y="49482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25760" y="1868400"/>
            <a:ext cx="2927520" cy="3778200"/>
          </a:xfrm>
          <a:custGeom>
            <a:avLst/>
            <a:gdLst/>
            <a:ahLst/>
            <a:rect l="l" t="t" r="r" b="b"/>
            <a:pathLst>
              <a:path w="1844" h="2380">
                <a:moveTo>
                  <a:pt x="675" y="126"/>
                </a:moveTo>
                <a:cubicBezTo>
                  <a:pt x="663" y="63"/>
                  <a:pt x="651" y="0"/>
                  <a:pt x="574" y="64"/>
                </a:cubicBezTo>
                <a:cubicBezTo>
                  <a:pt x="497" y="128"/>
                  <a:pt x="261" y="273"/>
                  <a:pt x="211" y="512"/>
                </a:cubicBezTo>
                <a:cubicBezTo>
                  <a:pt x="161" y="751"/>
                  <a:pt x="0" y="1185"/>
                  <a:pt x="272" y="1496"/>
                </a:cubicBezTo>
                <a:cubicBezTo>
                  <a:pt x="544" y="1807"/>
                  <a:pt x="1194" y="2093"/>
                  <a:pt x="1844" y="23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1565280"/>
            <a:ext cx="3130560" cy="4390920"/>
          </a:xfrm>
          <a:custGeom>
            <a:avLst/>
            <a:gdLst/>
            <a:ahLst/>
            <a:rect l="l" t="t" r="r" b="b"/>
            <a:pathLst>
              <a:path w="1972" h="2766">
                <a:moveTo>
                  <a:pt x="0" y="93"/>
                </a:moveTo>
                <a:cubicBezTo>
                  <a:pt x="10" y="51"/>
                  <a:pt x="20" y="9"/>
                  <a:pt x="117" y="49"/>
                </a:cubicBezTo>
                <a:cubicBezTo>
                  <a:pt x="214" y="89"/>
                  <a:pt x="306" y="0"/>
                  <a:pt x="581" y="334"/>
                </a:cubicBezTo>
                <a:cubicBezTo>
                  <a:pt x="856" y="668"/>
                  <a:pt x="1562" y="1651"/>
                  <a:pt x="1767" y="2056"/>
                </a:cubicBezTo>
                <a:cubicBezTo>
                  <a:pt x="1972" y="2461"/>
                  <a:pt x="1891" y="2613"/>
                  <a:pt x="1811" y="276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1BD8-1957-45EC-998D-37131372B7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216400" y="1762200"/>
            <a:ext cx="3706920" cy="36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64320" y="460224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7760" y="4689360"/>
            <a:ext cx="5076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43640" y="4923000"/>
            <a:ext cx="5220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446724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2440" y="443376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Complex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93840" y="2108160"/>
                <a:ext cx="152388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1" name=""/>
          <p:cNvGraphicFramePr/>
          <p:nvPr/>
        </p:nvGraphicFramePr>
        <p:xfrm>
          <a:off x="3414600" y="2144880"/>
          <a:ext cx="145728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144880"/>
                    <a:ext cx="145728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514520" y="3638520"/>
            <a:ext cx="1143000" cy="83808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695520" y="3462840"/>
            <a:ext cx="698400" cy="871560"/>
          </a:xfrm>
          <a:custGeom>
            <a:avLst/>
            <a:gdLst>
              <a:gd name="textAreaLeft" fmla="*/ 209880 w 698400"/>
              <a:gd name="textAreaRight" fmla="*/ 646200 w 698400"/>
              <a:gd name="textAreaTop" fmla="*/ 590400 h 871560"/>
              <a:gd name="textAreaBottom" fmla="*/ 806400 h 871560"/>
            </a:gdLst>
            <a:ahLst/>
            <a:rect l="textAreaLeft" t="textAreaTop" r="textAreaRight" b="textAreaBottom"/>
            <a:pathLst>
              <a:path w="21600" h="21600">
                <a:moveTo>
                  <a:pt x="0" y="16251"/>
                </a:moveTo>
                <a:lnTo>
                  <a:pt x="14630" y="16251"/>
                </a:lnTo>
                <a:lnTo>
                  <a:pt x="14630" y="6491"/>
                </a:lnTo>
                <a:lnTo>
                  <a:pt x="13009" y="6491"/>
                </a:lnTo>
                <a:lnTo>
                  <a:pt x="17305" y="0"/>
                </a:lnTo>
                <a:lnTo>
                  <a:pt x="21600" y="6491"/>
                </a:lnTo>
                <a:lnTo>
                  <a:pt x="19979" y="6491"/>
                </a:lnTo>
                <a:lnTo>
                  <a:pt x="199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51040" y="3876840"/>
            <a:ext cx="790560" cy="380880"/>
          </a:xfrm>
          <a:prstGeom prst="rightArrow">
            <a:avLst>
              <a:gd name="adj1" fmla="val 50000"/>
              <a:gd name="adj2" fmla="val 51890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64080" y="495144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64080" y="191772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640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87328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64080" y="1917720"/>
            <a:ext cx="2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732880" y="495144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64080" y="495144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4640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64080" y="4951440"/>
            <a:ext cx="2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46408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6408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8880" y="493380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00696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0696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95000" y="493380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164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164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10244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0244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4692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64712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4712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9304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818820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8820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3592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73288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73288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8204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64080" y="49514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718480" y="49514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64080" y="49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702640" y="49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68880" y="481824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05320" y="476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64080" y="48355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718480" y="48355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64080" y="47721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718480" y="47721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64080" y="4719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718480" y="4719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64080" y="46832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718480" y="46832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64080" y="46576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718480" y="46576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64080" y="46292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718480" y="46292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64080" y="4611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8718480" y="4611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64080" y="4584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718480" y="4584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64080" y="45673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718480" y="45673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64080" y="45673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8702640" y="45673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8880" y="443232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05320" y="43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64080" y="44607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718480" y="44607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64080" y="4390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718480" y="43909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64080" y="43466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718480" y="434664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64080" y="43117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18480" y="431172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64080" y="4275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8718480" y="427500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64080" y="4248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718480" y="424800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64080" y="42307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718480" y="423072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64080" y="42130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8718480" y="421308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64080" y="4194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718480" y="419400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4080" y="4194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702640" y="4194000"/>
            <a:ext cx="302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68880" y="405936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05320" y="4010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64080" y="40784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718480" y="407844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64080" y="4008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718480" y="4008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64080" y="39625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8718480" y="39625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64080" y="3927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8718480" y="3927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64080" y="3900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8718480" y="3900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64080" y="3873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8718480" y="3873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64080" y="38480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718480" y="38480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64080" y="38289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718480" y="38289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64080" y="38116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718480" y="38116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64080" y="38116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702640" y="38116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68880" y="367812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05320" y="3627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64080" y="36957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718480" y="36957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64080" y="36338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718480" y="36338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64080" y="35798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718480" y="35798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64080" y="3544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718480" y="35449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64080" y="35193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8718480" y="35193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64080" y="3490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8718480" y="34909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64080" y="34718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8718480" y="34718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64080" y="34480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718480" y="34480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64080" y="34383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718480" y="34383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64080" y="3438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702640" y="3438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68880" y="330372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05320" y="325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64080" y="3321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8718480" y="33210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64080" y="32511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8718480" y="32511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64080" y="32050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8718480" y="32050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64080" y="31719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8718480" y="31719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64080" y="31370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8718480" y="31370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64080" y="31100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718480" y="31100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64080" y="30909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718480" y="30909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64080" y="30751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718480" y="30751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64080" y="30560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8718480" y="30560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64080" y="30560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8702640" y="30560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68880" y="292248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05320" y="2870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64080" y="29401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8718480" y="29401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64080" y="28782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718480" y="28782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64080" y="28242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718480" y="28242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64080" y="27874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718480" y="27874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64080" y="27622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718480" y="27622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64080" y="27352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718480" y="27352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64080" y="27082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8718480" y="27082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64080" y="26924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718480" y="26924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64080" y="2671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718480" y="26719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64080" y="2671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8702640" y="2671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68880" y="253836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05320" y="248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464080" y="25574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718480" y="25574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64080" y="24955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718480" y="24955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464080" y="24512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718480" y="24512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64080" y="2406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718480" y="2406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464080" y="2379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8718480" y="2379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64080" y="2352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718480" y="2352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64080" y="23353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8718480" y="23353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64080" y="23194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8718480" y="23194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64080" y="23004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718480" y="23004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4080" y="23004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8702640" y="23004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68880" y="21636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05320" y="2112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64080" y="21826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718480" y="21826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64080" y="21114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718480" y="2111400"/>
            <a:ext cx="144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64080" y="20667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718480" y="2066760"/>
            <a:ext cx="144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64080" y="20318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8718480" y="2031840"/>
            <a:ext cx="144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64080" y="1996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8718480" y="1996920"/>
            <a:ext cx="144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64080" y="19796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8718480" y="19796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64080" y="19526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8718480" y="19526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64080" y="1935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8718480" y="19350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64080" y="19177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718480" y="19177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464080" y="19177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8702640" y="19177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168880" y="178272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05320" y="173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464080" y="495144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64080" y="191772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4640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87328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64080" y="4951440"/>
            <a:ext cx="2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732880" y="191772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38960" y="495144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70640" y="49165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653080" y="483552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83320" y="4799160"/>
            <a:ext cx="0" cy="7272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59280" y="477216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89520" y="473724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72320" y="468324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02200" y="464832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78520" y="461160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06960" y="457668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91200" y="453240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21440" y="449748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97760" y="445140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26200" y="441792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02520" y="437184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32400" y="433692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15200" y="429084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46880" y="4255920"/>
            <a:ext cx="0" cy="730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21400" y="421308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51640" y="4175280"/>
            <a:ext cx="0" cy="7272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35880" y="413244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65760" y="4095720"/>
            <a:ext cx="0" cy="730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738840" y="405288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70520" y="401652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53320" y="397188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83560" y="39369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959520" y="389268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88320" y="38559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072200" y="381168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02440" y="377820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78760" y="373212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209000" y="369576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284960" y="366084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627360"/>
            <a:ext cx="0" cy="6840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96200" y="357984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26440" y="354492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00960" y="350028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31200" y="346536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15080" y="341964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47120" y="338472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21640" y="334008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751880" y="330516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834320" y="325908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864560" y="32241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39080" y="318276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70760" y="314496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45280" y="310032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77320" y="3063960"/>
            <a:ext cx="0" cy="730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59760" y="302112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88200" y="2982960"/>
            <a:ext cx="0" cy="730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64520" y="294012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294760" y="290520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77200" y="286056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407440" y="282420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483760" y="278748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13640" y="27525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597880" y="270828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626320" y="2671920"/>
            <a:ext cx="0" cy="7272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02640" y="262908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732880" y="25923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47880" y="5137200"/>
            <a:ext cx="185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 dimension --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38960" y="495144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70640" y="49165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538960" y="491652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538960" y="491652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653080" y="471960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83320" y="468324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53080" y="468324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653080" y="468324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59280" y="458460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89520" y="4549680"/>
            <a:ext cx="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9280" y="4549680"/>
            <a:ext cx="6048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759280" y="4549680"/>
            <a:ext cx="6048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872320" y="446076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902200" y="442764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72320" y="4427640"/>
            <a:ext cx="619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872320" y="4427640"/>
            <a:ext cx="619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78520" y="434664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006960" y="43117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978520" y="431172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978160" y="431172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091200" y="423072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21440" y="419400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91200" y="419400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091200" y="419400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97760" y="413244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26200" y="409572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97760" y="4095720"/>
            <a:ext cx="601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197400" y="4095720"/>
            <a:ext cx="601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02520" y="402444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32400" y="39895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02520" y="398952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302520" y="398952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415200" y="392760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446880" y="389268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415200" y="3892680"/>
            <a:ext cx="601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414840" y="3892680"/>
            <a:ext cx="601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21400" y="382896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551640" y="379404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21400" y="379404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6521400" y="379404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635880" y="374184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65760" y="37069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635880" y="370692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635520" y="370692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38840" y="364320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0520" y="3608280"/>
            <a:ext cx="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38840" y="3608280"/>
            <a:ext cx="6192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738840" y="3608280"/>
            <a:ext cx="6192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53320" y="355428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83560" y="3519360"/>
            <a:ext cx="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53320" y="3519360"/>
            <a:ext cx="5868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852960" y="3519360"/>
            <a:ext cx="5868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959520" y="345600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88320" y="341964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59520" y="341964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959160" y="341964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336708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02440" y="333216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72200" y="333216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072200" y="333216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178760" y="327672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209000" y="324180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78760" y="3241800"/>
            <a:ext cx="601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7178400" y="3241800"/>
            <a:ext cx="601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284960" y="319104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315200" y="315432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284960" y="315432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7284960" y="315432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396200" y="310032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426440" y="306396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6200" y="3063960"/>
            <a:ext cx="601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95840" y="3063960"/>
            <a:ext cx="601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00960" y="301140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31200" y="297648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500960" y="2976480"/>
            <a:ext cx="619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500960" y="2976480"/>
            <a:ext cx="619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15080" y="292428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647120" y="288612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615080" y="288612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615080" y="288612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21640" y="284328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751880" y="280836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21640" y="2808360"/>
            <a:ext cx="601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7721280" y="2808360"/>
            <a:ext cx="601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34320" y="275256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864560" y="271620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834320" y="2716200"/>
            <a:ext cx="604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834320" y="2716200"/>
            <a:ext cx="604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39080" y="266400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970760" y="262908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939080" y="262908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939080" y="262908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45280" y="257508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077320" y="254016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045280" y="254016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045280" y="254016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159760" y="249552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188200" y="245916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159760" y="2459160"/>
            <a:ext cx="586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8159400" y="2459160"/>
            <a:ext cx="586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4520" y="240660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94760" y="237168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4520" y="237168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8264520" y="237168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77200" y="231948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407440" y="228276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377200" y="228276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8377200" y="228276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483760" y="223668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513640" y="2201760"/>
            <a:ext cx="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483760" y="2201760"/>
            <a:ext cx="6012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8483400" y="2201760"/>
            <a:ext cx="6012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597880" y="214776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626320" y="211140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597880" y="2111400"/>
            <a:ext cx="604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8597880" y="2111400"/>
            <a:ext cx="604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702640" y="206676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732880" y="203184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702640" y="2031840"/>
            <a:ext cx="619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8702640" y="2031840"/>
            <a:ext cx="619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77000" y="4538520"/>
            <a:ext cx="52200" cy="590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983200" y="4502160"/>
            <a:ext cx="4932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07200" y="441468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419880" y="438948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26080" y="437040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40560" y="4352760"/>
            <a:ext cx="49320" cy="590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743880" y="4343400"/>
            <a:ext cx="5220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0" y="4325760"/>
            <a:ext cx="49320" cy="590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964200" y="4317840"/>
            <a:ext cx="49320" cy="590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077240" y="4297320"/>
            <a:ext cx="5220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183440" y="428940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289640" y="4281480"/>
            <a:ext cx="5112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400880" y="427356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507440" y="4262400"/>
            <a:ext cx="5076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20120" y="425448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726320" y="4245120"/>
            <a:ext cx="50760" cy="601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39000" y="423720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943760" y="4227480"/>
            <a:ext cx="525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50320" y="421956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164440" y="4219560"/>
            <a:ext cx="4932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69200" y="421020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381880" y="4200480"/>
            <a:ext cx="5076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488440" y="419256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602560" y="419256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707320" y="4181400"/>
            <a:ext cx="5256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562720" y="2000160"/>
            <a:ext cx="205740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Product-Term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#Product-Terms) x 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#DDD-Ver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34000" y="218772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665680" y="215100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634000" y="238140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665680" y="234468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634000" y="234468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634000" y="234468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645160" y="254952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34520" y="5264280"/>
            <a:ext cx="61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orders of magnitude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dder Circuits: Linear time complexity 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36760" y="1959120"/>
            <a:ext cx="13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tex Orde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DFC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8424-40A1-40FA-83E4-EE819DF07B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ant Decision Dia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Symbolic Approxi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9EED-83A1-4DEE-8191-374D581C7D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Complex DDD-based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de Cont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-Expanded DDD-based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efficient Sup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Cance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 on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ion of Dominant Te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92FC-3FF9-42B6-8152-3EFB26F1DD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566640" y="3271680"/>
            <a:ext cx="819648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N</a:t>
            </a:r>
            <a:r>
              <a:rPr b="0" i="1" lang="en-US" sz="3000" spc="-1" strike="noStrike" baseline="-25000">
                <a:solidFill>
                  <a:srgbClr val="cc0000"/>
                </a:solidFill>
                <a:latin typeface="Verdana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i="1" lang="en-US" sz="3000" spc="-1" strike="noStrike" baseline="-25000">
                <a:solidFill>
                  <a:srgbClr val="cc0000"/>
                </a:solidFill>
                <a:latin typeface="Verdana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re dominant the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simplified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de Contraction -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214720" y="1849320"/>
                <a:ext cx="42652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624120" y="4067280"/>
                <a:ext cx="15591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de Contra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B9B4-4C0B-453A-8296-6789D8BB7F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mple: Node Contra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547560" y="1898640"/>
          <a:ext cx="800100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898640"/>
                    <a:ext cx="800100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476280" y="5351400"/>
            <a:ext cx="8196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rcuit structure reduction –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contracted and all devices connected to it are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8C1B-6165-45D4-B646-9C1922B4CF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66640" y="3271680"/>
            <a:ext cx="819648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&amp;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re dominant the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simplified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ice Elimin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000160" y="1906560"/>
                <a:ext cx="35766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511280" y="3297240"/>
                <a:ext cx="544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3314880" y="4464000"/>
                <a:ext cx="15588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486160" y="3311640"/>
                <a:ext cx="482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ABE1-53F5-45D6-AE66-B241595643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mple: Device Elimin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593640" y="2168640"/>
          <a:ext cx="8175600" cy="28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2168640"/>
                    <a:ext cx="817560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387360" y="5191200"/>
            <a:ext cx="8196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rcuit structure reduction – Branches betwee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8220-D1F5-4720-8CD8-34CF45CD03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"/>
          <p:cNvSpPr/>
          <p:nvPr/>
        </p:nvSpPr>
        <p:spPr>
          <a:xfrm>
            <a:off x="415800" y="1752480"/>
            <a:ext cx="83473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lex DDD-based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de Cont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S-Expanded DDD-based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efficient Sup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Cance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 on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ion of Dominant Te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29CF-58D1-4336-8EC8-CE24FE9A0F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1009800" y="1698480"/>
          <a:ext cx="724824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698480"/>
                    <a:ext cx="72482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-Expanded D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BA72-92E7-47BB-8587-A3886FC44D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Symbolic Circuit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ula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og Design Fl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ant Decision Diagra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A0D6-A1D8-42A5-9538-05189DCAB3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752480" y="2190600"/>
                <a:ext cx="486252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efficient Sup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66640" y="3616200"/>
            <a:ext cx="819648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ibution of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x</a:t>
            </a:r>
            <a:r>
              <a:rPr b="0" i="1" lang="en-US" sz="3000" spc="-1" strike="noStrike" baseline="-25000">
                <a:solidFill>
                  <a:srgbClr val="cc0000"/>
                </a:solidFill>
                <a:latin typeface="Verdana"/>
              </a:rPr>
              <a:t>i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s</a:t>
            </a:r>
            <a:r>
              <a:rPr b="0" i="1" lang="en-US" sz="3000" spc="-1" strike="noStrike" baseline="30000">
                <a:solidFill>
                  <a:srgbClr val="cc0000"/>
                </a:solidFill>
                <a:latin typeface="Verdana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n numerator and denominator are different and frequency depen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ically, higher-order powers of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an be igno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EDAF-E685-4CDA-A73A-A515702D7E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Canc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06520" y="1762200"/>
            <a:ext cx="8196120" cy="47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ting dominant terms without Cancel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ly degrades output respo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cancellation on different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ed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NA formul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evice match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a*b*c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cancels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–a*d*f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==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==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99F7-1907-49FA-981A-6B97C419AF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1447920" y="2057400"/>
          <a:ext cx="6400800" cy="24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64008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Cancellation: 2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06520" y="4614840"/>
            <a:ext cx="8196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Lem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ach product term contain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here exists a corresponding canceling product term contain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9065-41BE-434D-A49F-96C655BEF2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1752480" y="2190600"/>
                <a:ext cx="486252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ice Elimination on Coeffic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4280" y="3492360"/>
            <a:ext cx="8196480" cy="30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a specific coefficient, it’s commonly dominated by a small number of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 can be done coefficient by co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2800" indent="-37944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otice that it can’t be related to circuit reduction since different devices will be eliminated for different coeffici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521D-6B40-40BF-8CB8-CFD689A880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eneration of Dominant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01680" y="1724040"/>
            <a:ext cx="8196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small-signal characteristics dominated by a small number of product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*b + c*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ominated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*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f magnitude of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, b, c, d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are 1e3, 1e0, 1e0, 1e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action of k most significant product terms can be transformed to the problem of finding k shortest path weighted in D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specifie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EFC0-DBC0-4E67-A7E4-4FDE23BEBA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1" name=""/>
          <p:cNvGraphicFramePr/>
          <p:nvPr/>
        </p:nvGraphicFramePr>
        <p:xfrm>
          <a:off x="2249640" y="1600200"/>
          <a:ext cx="5902200" cy="48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9640" y="1600200"/>
                    <a:ext cx="590220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Breakthrough 1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ction of k significant term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781920" y="21016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’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84676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ime algorithm O(kn) (exponential, previously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151760" y="4848120"/>
            <a:ext cx="314280" cy="102708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EE52-138C-4D77-AE73-0333A40EC7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271440" y="1839960"/>
          <a:ext cx="8629560" cy="4406760"/>
        </p:xfrm>
        <a:graphic>
          <a:graphicData uri="http://schemas.openxmlformats.org/drawingml/2006/table">
            <a:tbl>
              <a:tblPr/>
              <a:tblGrid>
                <a:gridCol w="1371600"/>
                <a:gridCol w="1295280"/>
                <a:gridCol w="1143000"/>
                <a:gridCol w="1371600"/>
                <a:gridCol w="1143000"/>
                <a:gridCol w="1143000"/>
                <a:gridCol w="1162080"/>
              </a:tblGrid>
              <a:tr h="581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Terms in N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of s in N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Terms in 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of s in 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Err in M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Err i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.98e+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.39e+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.69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.20e+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.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 El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0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82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5.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45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26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5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eff El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t of Domin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.8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5.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741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0255-7470-4B09-895D-3EB530265F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-190440" y="254304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483080" y="2386080"/>
            <a:ext cx="4657680" cy="363852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741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4979-40E3-4B65-AB82-D84A6D9D75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800600" cy="45720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724280" cy="46483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741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1EC7-4C27-47A3-933C-42427BFB3D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ant Decision Dia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DDD Opti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4232-247F-425B-9B1D-B1A0B7AF28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ulat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678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merical Simulators: SPICE, Spect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Simulators: SCAPP, ISSA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41440" y="2438280"/>
          <a:ext cx="259056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2438280"/>
                    <a:ext cx="25905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981600" y="2460240"/>
            <a:ext cx="129024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m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8320" y="28954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28954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521400" y="2241720"/>
          <a:ext cx="1681200" cy="18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21400" y="2241720"/>
                    <a:ext cx="16812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006440" y="4822560"/>
            <a:ext cx="122328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mbo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72200" y="5105520"/>
                <a:ext cx="2819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u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i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"/>
          <p:cNvGraphicFramePr/>
          <p:nvPr/>
        </p:nvGraphicFramePr>
        <p:xfrm>
          <a:off x="609480" y="4648320"/>
          <a:ext cx="2590920" cy="142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648320"/>
                    <a:ext cx="25909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1B5E-B061-4024-96A5-50D86385FE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Vertex Order Depende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82520" y="1779480"/>
          <a:ext cx="2583000" cy="36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1779480"/>
                    <a:ext cx="258300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"/>
          <p:cNvGraphicFramePr/>
          <p:nvPr/>
        </p:nvGraphicFramePr>
        <p:xfrm>
          <a:off x="5692680" y="2241720"/>
          <a:ext cx="182880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2680" y="2241720"/>
                    <a:ext cx="182880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606600" y="5429160"/>
            <a:ext cx="321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 D F G H B E I 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151600" y="5370480"/>
            <a:ext cx="321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 D F B G H E I 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 rot="21352200">
            <a:off x="3987360" y="1779120"/>
            <a:ext cx="42055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w do we choose this orde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6156-9F26-428A-B31C-2A88BF2BB9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der of vertices influences size of DD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near to exponential in siz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uces evaluation time &amp; space complex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rtional to size of DD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uces manipulation time &amp; space complex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rtional to size of DD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nthesis: reduces complexity of hard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rtional to hardware co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C625-FC7B-434E-A509-D58AA59163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gorithms for BDD Optimiz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w/lower bou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f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w/lower bou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ndow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met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atter 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4226040" y="1771560"/>
            <a:ext cx="4044960" cy="4011840"/>
            <a:chOff x="4226040" y="1771560"/>
            <a:chExt cx="4044960" cy="4011840"/>
          </a:xfrm>
        </p:grpSpPr>
        <p:sp>
          <p:nvSpPr>
            <p:cNvPr id="700" name=""/>
            <p:cNvSpPr/>
            <p:nvPr/>
          </p:nvSpPr>
          <p:spPr>
            <a:xfrm>
              <a:off x="4226040" y="1771560"/>
              <a:ext cx="1096920" cy="4011840"/>
            </a:xfrm>
            <a:custGeom>
              <a:avLst/>
              <a:gdLst>
                <a:gd name="textAreaLeft" fmla="*/ 0 w 1096920"/>
                <a:gd name="textAreaRight" fmla="*/ 396000 w 1096920"/>
                <a:gd name="textAreaTop" fmla="*/ 104400 h 4011840"/>
                <a:gd name="textAreaBottom" fmla="*/ 3907440 h 401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02160" y="2868480"/>
              <a:ext cx="2868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ynamic Variable Reorder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0159-9E2C-4F12-996F-F0BC583C48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602080" y="1760400"/>
          <a:ext cx="270648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080" y="1760400"/>
                    <a:ext cx="270648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306600" y="2457360"/>
          <a:ext cx="1914840" cy="28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6600" y="2457360"/>
                    <a:ext cx="191484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4341960" y="2481120"/>
          <a:ext cx="1038240" cy="142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1960" y="2481120"/>
                    <a:ext cx="10382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4776840" y="3052800"/>
          <a:ext cx="587160" cy="7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76840" y="3052800"/>
                    <a:ext cx="5871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4784760" y="3027240"/>
          <a:ext cx="633240" cy="81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4760" y="3027240"/>
                    <a:ext cx="6332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VR Ex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351000" y="1741320"/>
                <a:ext cx="16570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4" name=""/>
          <p:cNvSpPr/>
          <p:nvPr/>
        </p:nvSpPr>
        <p:spPr>
          <a:xfrm rot="5399400">
            <a:off x="801360" y="3627360"/>
            <a:ext cx="1158840" cy="895320"/>
          </a:xfrm>
          <a:custGeom>
            <a:avLst/>
            <a:gdLst>
              <a:gd name="textAreaLeft" fmla="*/ 386280 w 1158840"/>
              <a:gd name="textAreaRight" fmla="*/ 992520 w 1158840"/>
              <a:gd name="textAreaTop" fmla="*/ 515520 h 895320"/>
              <a:gd name="textAreaBottom" fmla="*/ 766800 h 895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322880" y="5481720"/>
          <a:ext cx="2314440" cy="769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22880" y="5481720"/>
                    <a:ext cx="231444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6675480" y="1838160"/>
          <a:ext cx="2030400" cy="3465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75480" y="1838160"/>
                    <a:ext cx="2030400" cy="34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"/>
          <p:cNvSpPr/>
          <p:nvPr/>
        </p:nvSpPr>
        <p:spPr>
          <a:xfrm rot="1255200">
            <a:off x="4812840" y="2892240"/>
            <a:ext cx="585720" cy="116496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9652400">
            <a:off x="4401720" y="2354040"/>
            <a:ext cx="920880" cy="121104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19063800">
            <a:off x="4551480" y="2905200"/>
            <a:ext cx="576000" cy="106020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20930400">
            <a:off x="2817360" y="2533680"/>
            <a:ext cx="576360" cy="106056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667480" y="3492360"/>
            <a:ext cx="857160" cy="400320"/>
          </a:xfrm>
          <a:prstGeom prst="rightArrow">
            <a:avLst>
              <a:gd name="adj1" fmla="val 50000"/>
              <a:gd name="adj2" fmla="val 5353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 rot="21352200">
            <a:off x="5393880" y="1294920"/>
            <a:ext cx="42055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Reduced by 3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5D48-0753-4BFB-BBD2-8995392C74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Lower Bo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63080" y="1828440"/>
            <a:ext cx="8828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ining the possible DVR scenario’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mma 1: Each label must be represented at least once in the DDD, theref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#vertices’(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mma 2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Local exchanges between label order i and i+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½#vertices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#vertices’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2#vertices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½#vertices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+1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#vertices’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+1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2#vertices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+1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295920" y="5855400"/>
            <a:ext cx="2657160" cy="685800"/>
          </a:xfrm>
          <a:prstGeom prst="wedgeRectCallout">
            <a:avLst>
              <a:gd name="adj1" fmla="val -67148"/>
              <a:gd name="adj2" fmla="val 1122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#nodes with label x</a:t>
            </a:r>
            <a:r>
              <a:rPr b="0" lang="en-US" sz="2000" spc="-1" strike="noStrike" baseline="-25000">
                <a:solidFill>
                  <a:srgbClr val="ffcc00"/>
                </a:solidFill>
                <a:latin typeface="Times New Roman"/>
              </a:rPr>
              <a:t>i+1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n DDD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before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re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5180760" y="5714280"/>
            <a:ext cx="2590920" cy="685800"/>
          </a:xfrm>
          <a:prstGeom prst="wedgeRectCallout">
            <a:avLst>
              <a:gd name="adj1" fmla="val 61578"/>
              <a:gd name="adj2" fmla="val 10763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#nodes with label x</a:t>
            </a:r>
            <a:r>
              <a:rPr b="0" lang="en-US" sz="2000" spc="-1" strike="noStrike" baseline="-25000">
                <a:solidFill>
                  <a:srgbClr val="ffcc00"/>
                </a:solidFill>
                <a:latin typeface="Times New Roman"/>
              </a:rPr>
              <a:t>i+1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n DDD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after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re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4AFE-94AC-409B-A55D-2B5D512B01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wer Bo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fting down a label (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+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533520" y="2855880"/>
                <a:ext cx="8082000" cy="236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vertices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⌈"/>
                                <m:endChr m:val="⌉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i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rtice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  <m:r>
                              <m:t xml:space="preserve">+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  <m:e>
                                <m:d>
                                  <m:dPr>
                                    <m:begChr m:val="⌈"/>
                                    <m:endChr m:val="⌉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rtice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nary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ertices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EEB9-8CD6-4106-97DD-3A7C488E50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fting w/lower bounds Res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138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 several different types of circui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plifiers, RLC circuits, Fil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% decrease in #nodes is highly dependent on original order chos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330200" y="3565440"/>
          <a:ext cx="6188040" cy="31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3565440"/>
                    <a:ext cx="618804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FB3C-D688-47D5-95F5-E0762229A49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c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3432240" y="231840"/>
          <a:ext cx="5645160" cy="6291360"/>
        </p:xfrm>
        <a:graphic>
          <a:graphicData uri="http://schemas.openxmlformats.org/drawingml/2006/table">
            <a:tbl>
              <a:tblPr/>
              <a:tblGrid>
                <a:gridCol w="984240"/>
                <a:gridCol w="430200"/>
                <a:gridCol w="696960"/>
                <a:gridCol w="574560"/>
                <a:gridCol w="487440"/>
                <a:gridCol w="973080"/>
                <a:gridCol w="973080"/>
                <a:gridCol w="525600"/>
              </a:tblGrid>
              <a:tr h="322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Vert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Swa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Pru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Pru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x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m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89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636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7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636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1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x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636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1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g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72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S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4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301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890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739" name=""/>
          <p:cNvSpPr/>
          <p:nvPr/>
        </p:nvSpPr>
        <p:spPr>
          <a:xfrm>
            <a:off x="152280" y="1739880"/>
            <a:ext cx="319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several different types of circu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fiers, RL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matrices with differing symbol locations, number of symbols, and size of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number of permutations kept in memory some cases were unable to finish, represented b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9B20-105D-4159-B968-C193EDD155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Optimization Conclu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66280" y="1926720"/>
            <a:ext cx="800100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ing the DDD LB method can significantly reduce the number of verti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ing lower bounds during sifting can dramatically decrease computation cost by an average of 50%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ing DDD lower bounds vs. BDD lower bounds can decrease computation time up to 8%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ct DDD minimization reduced DDDs between 10-40% for some already reduced DDD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wer/Upper bounds requires less than 5% computation than withou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45DF-50AC-48C4-9AEC-254488206D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mbolic Circuit Analysis Optim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1670040"/>
          <a:ext cx="358164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0040"/>
                    <a:ext cx="358164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5" name=""/>
          <p:cNvGrpSpPr/>
          <p:nvPr/>
        </p:nvGrpSpPr>
        <p:grpSpPr>
          <a:xfrm>
            <a:off x="3276720" y="1600200"/>
            <a:ext cx="2971800" cy="3124080"/>
            <a:chOff x="3276720" y="1600200"/>
            <a:chExt cx="2971800" cy="3124080"/>
          </a:xfrm>
        </p:grpSpPr>
        <p:graphicFrame>
          <p:nvGraphicFramePr>
            <p:cNvPr id="746" name=""/>
            <p:cNvGraphicFramePr/>
            <p:nvPr/>
          </p:nvGraphicFramePr>
          <p:xfrm>
            <a:off x="4892760" y="1600200"/>
            <a:ext cx="1355760" cy="2262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2760" y="1600200"/>
                      <a:ext cx="1355760" cy="22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8" name=""/>
            <p:cNvSpPr/>
            <p:nvPr/>
          </p:nvSpPr>
          <p:spPr>
            <a:xfrm>
              <a:off x="4114800" y="3886200"/>
              <a:ext cx="1143000" cy="83808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re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411480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228600" y="2819520"/>
            <a:ext cx="4038480" cy="1904760"/>
            <a:chOff x="228600" y="2819520"/>
            <a:chExt cx="4038480" cy="1904760"/>
          </a:xfrm>
        </p:grpSpPr>
        <mc:AlternateContent>
          <mc:Choice xmlns:a14="http://schemas.microsoft.com/office/drawing/2010/main" Requires="a14">
            <p:sp>
              <p:nvSpPr>
                <p:cNvPr id="751" name=""/>
                <p:cNvSpPr txBox="1"/>
                <p:nvPr/>
              </p:nvSpPr>
              <p:spPr>
                <a:xfrm>
                  <a:off x="2057400" y="2819520"/>
                  <a:ext cx="22096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52" name=""/>
            <p:cNvSpPr/>
            <p:nvPr/>
          </p:nvSpPr>
          <p:spPr>
            <a:xfrm>
              <a:off x="228600" y="3886200"/>
              <a:ext cx="1143000" cy="83808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5400000">
              <a:off x="266040" y="3162240"/>
              <a:ext cx="1066680" cy="381240"/>
            </a:xfrm>
            <a:prstGeom prst="rightArrow">
              <a:avLst>
                <a:gd name="adj1" fmla="val 50000"/>
                <a:gd name="adj2" fmla="val 69948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990720" y="2895480"/>
                  <a:ext cx="1066680" cy="94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  <m:e>
                                <m:r>
                                  <m:t xml:space="preserve">E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F</m:t>
                                </m:r>
                              </m:e>
                              <m:e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5" name=""/>
          <p:cNvGrpSpPr/>
          <p:nvPr/>
        </p:nvGrpSpPr>
        <p:grpSpPr>
          <a:xfrm>
            <a:off x="5257800" y="1600200"/>
            <a:ext cx="2757600" cy="3124080"/>
            <a:chOff x="5257800" y="1600200"/>
            <a:chExt cx="2757600" cy="3124080"/>
          </a:xfrm>
        </p:grpSpPr>
        <p:graphicFrame>
          <p:nvGraphicFramePr>
            <p:cNvPr id="756" name=""/>
            <p:cNvGraphicFramePr/>
            <p:nvPr/>
          </p:nvGraphicFramePr>
          <p:xfrm>
            <a:off x="6934320" y="1600200"/>
            <a:ext cx="1081080" cy="228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4320" y="1600200"/>
                      <a:ext cx="10810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8" name=""/>
            <p:cNvSpPr/>
            <p:nvPr/>
          </p:nvSpPr>
          <p:spPr>
            <a:xfrm>
              <a:off x="5943600" y="3886200"/>
              <a:ext cx="1143000" cy="838080"/>
            </a:xfrm>
            <a:prstGeom prst="flowChartTerminator">
              <a:avLst/>
            </a:prstGeom>
            <a:solidFill>
              <a:srgbClr val="0033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b2c1"/>
                  </a:solidFill>
                  <a:latin typeface="Times New Roman"/>
                </a:rPr>
                <a:t>Optimi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b2c1"/>
                  </a:solidFill>
                  <a:latin typeface="Times New Roman"/>
                </a:rPr>
                <a:t>D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257800" y="411480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6673680" y="3886200"/>
            <a:ext cx="2419560" cy="2008080"/>
            <a:chOff x="6673680" y="3886200"/>
            <a:chExt cx="2419560" cy="2008080"/>
          </a:xfrm>
        </p:grpSpPr>
        <p:sp>
          <p:nvSpPr>
            <p:cNvPr id="761" name=""/>
            <p:cNvSpPr/>
            <p:nvPr/>
          </p:nvSpPr>
          <p:spPr>
            <a:xfrm>
              <a:off x="7086600" y="411480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2" name=""/>
                <p:cNvSpPr txBox="1"/>
                <p:nvPr/>
              </p:nvSpPr>
              <p:spPr>
                <a:xfrm>
                  <a:off x="6673680" y="5351400"/>
                  <a:ext cx="241956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G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EF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DG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EF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"/>
            <p:cNvSpPr/>
            <p:nvPr/>
          </p:nvSpPr>
          <p:spPr>
            <a:xfrm>
              <a:off x="7620120" y="3886200"/>
              <a:ext cx="1143000" cy="83808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5400000">
              <a:off x="7924680" y="480060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87280" y="3886200"/>
            <a:ext cx="2989440" cy="2722680"/>
            <a:chOff x="287280" y="3886200"/>
            <a:chExt cx="2989440" cy="2722680"/>
          </a:xfrm>
        </p:grpSpPr>
        <p:sp>
          <p:nvSpPr>
            <p:cNvPr id="766" name=""/>
            <p:cNvSpPr/>
            <p:nvPr/>
          </p:nvSpPr>
          <p:spPr>
            <a:xfrm>
              <a:off x="1371600" y="411480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57400" y="3886200"/>
              <a:ext cx="1219320" cy="838080"/>
            </a:xfrm>
            <a:prstGeom prst="flowChartTerminator">
              <a:avLst/>
            </a:prstGeom>
            <a:solidFill>
              <a:srgbClr val="0033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b2c1"/>
                  </a:solidFill>
                  <a:latin typeface="Times New Roman"/>
                </a:rPr>
                <a:t>Symbo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b2c1"/>
                  </a:solidFill>
                  <a:latin typeface="Times New Roman"/>
                </a:rPr>
                <a:t>Approx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2437920" y="4724280"/>
              <a:ext cx="381240" cy="381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87280" y="5079960"/>
              <a:ext cx="2862360" cy="1528920"/>
              <a:chOff x="287280" y="5079960"/>
              <a:chExt cx="2862360" cy="1528920"/>
            </a:xfrm>
          </p:grpSpPr>
          <p:graphicFrame>
            <p:nvGraphicFramePr>
              <p:cNvPr id="770" name=""/>
              <p:cNvGraphicFramePr/>
              <p:nvPr/>
            </p:nvGraphicFramePr>
            <p:xfrm>
              <a:off x="287280" y="5079960"/>
              <a:ext cx="2862360" cy="1039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7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87280" y="5079960"/>
                        <a:ext cx="2862360" cy="1039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2" name=""/>
              <p:cNvSpPr txBox="1"/>
              <p:nvPr/>
            </p:nvSpPr>
            <p:spPr>
              <a:xfrm rot="5400000">
                <a:off x="562320" y="5409360"/>
                <a:ext cx="4143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"/>
                  </a:rPr>
                  <a:t>X</a:t>
                </a:r>
                <a:endPara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3" name=""/>
                  <p:cNvSpPr txBox="1"/>
                  <p:nvPr/>
                </p:nvSpPr>
                <p:spPr>
                  <a:xfrm>
                    <a:off x="352440" y="6219720"/>
                    <a:ext cx="2438280" cy="38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74" name=""/>
              <p:cNvSpPr txBox="1"/>
              <p:nvPr/>
            </p:nvSpPr>
            <p:spPr>
              <a:xfrm rot="5400000">
                <a:off x="792720" y="6247440"/>
                <a:ext cx="261720" cy="381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 Black"/>
                  </a:rPr>
                  <a:t>X</a:t>
                </a:r>
                <a:endPara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775" name=""/>
          <p:cNvGrpSpPr/>
          <p:nvPr/>
        </p:nvGrpSpPr>
        <p:grpSpPr>
          <a:xfrm>
            <a:off x="3258720" y="4649760"/>
            <a:ext cx="1334520" cy="1682640"/>
            <a:chOff x="3258720" y="4649760"/>
            <a:chExt cx="1334520" cy="1682640"/>
          </a:xfrm>
        </p:grpSpPr>
        <p:sp>
          <p:nvSpPr>
            <p:cNvPr id="776" name=""/>
            <p:cNvSpPr/>
            <p:nvPr/>
          </p:nvSpPr>
          <p:spPr>
            <a:xfrm>
              <a:off x="3258720" y="5506920"/>
              <a:ext cx="133452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3b2c1"/>
                  </a:solidFill>
                  <a:latin typeface="Times New Roman"/>
                </a:rPr>
                <a:t>50-9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3b2c1"/>
                  </a:solidFill>
                  <a:latin typeface="Times New Roman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81400" y="4649760"/>
              <a:ext cx="392040" cy="654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5236200" y="4692600"/>
            <a:ext cx="1401480" cy="1368360"/>
            <a:chOff x="5236200" y="4692600"/>
            <a:chExt cx="1401480" cy="1368360"/>
          </a:xfrm>
        </p:grpSpPr>
        <p:sp>
          <p:nvSpPr>
            <p:cNvPr id="779" name=""/>
            <p:cNvSpPr/>
            <p:nvPr/>
          </p:nvSpPr>
          <p:spPr>
            <a:xfrm>
              <a:off x="5236200" y="5235480"/>
              <a:ext cx="140148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3b2c1"/>
                  </a:solidFill>
                  <a:latin typeface="Times New Roman"/>
                </a:rPr>
                <a:t>10%-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3b2c1"/>
                  </a:solidFill>
                  <a:latin typeface="Times New Roman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753160" y="4692600"/>
              <a:ext cx="179280" cy="47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6480000" y="1812960"/>
            <a:ext cx="1293840" cy="3668760"/>
          </a:xfrm>
          <a:custGeom>
            <a:avLst/>
            <a:gdLst/>
            <a:ahLst/>
            <a:rect l="l" t="t" r="r" b="b"/>
            <a:pathLst>
              <a:path w="1844" h="2380">
                <a:moveTo>
                  <a:pt x="675" y="126"/>
                </a:moveTo>
                <a:cubicBezTo>
                  <a:pt x="663" y="63"/>
                  <a:pt x="651" y="0"/>
                  <a:pt x="574" y="64"/>
                </a:cubicBezTo>
                <a:cubicBezTo>
                  <a:pt x="497" y="128"/>
                  <a:pt x="261" y="273"/>
                  <a:pt x="211" y="512"/>
                </a:cubicBezTo>
                <a:cubicBezTo>
                  <a:pt x="161" y="751"/>
                  <a:pt x="0" y="1185"/>
                  <a:pt x="272" y="1496"/>
                </a:cubicBezTo>
                <a:cubicBezTo>
                  <a:pt x="544" y="1807"/>
                  <a:pt x="1194" y="2093"/>
                  <a:pt x="1844" y="23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459560" y="1468440"/>
            <a:ext cx="1690920" cy="4230720"/>
          </a:xfrm>
          <a:custGeom>
            <a:avLst/>
            <a:gdLst/>
            <a:ahLst/>
            <a:rect l="l" t="t" r="r" b="b"/>
            <a:pathLst>
              <a:path w="1972" h="2766">
                <a:moveTo>
                  <a:pt x="0" y="93"/>
                </a:moveTo>
                <a:cubicBezTo>
                  <a:pt x="10" y="51"/>
                  <a:pt x="20" y="9"/>
                  <a:pt x="117" y="49"/>
                </a:cubicBezTo>
                <a:cubicBezTo>
                  <a:pt x="214" y="89"/>
                  <a:pt x="306" y="0"/>
                  <a:pt x="581" y="334"/>
                </a:cubicBezTo>
                <a:cubicBezTo>
                  <a:pt x="856" y="668"/>
                  <a:pt x="1562" y="1651"/>
                  <a:pt x="1767" y="2056"/>
                </a:cubicBezTo>
                <a:cubicBezTo>
                  <a:pt x="1972" y="2461"/>
                  <a:pt x="1891" y="2613"/>
                  <a:pt x="1811" y="276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8F97-50D8-420F-A954-2B30454770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alog Design Flo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146240" y="2644920"/>
            <a:ext cx="2867040" cy="3788280"/>
            <a:chOff x="1146240" y="2644920"/>
            <a:chExt cx="2867040" cy="3788280"/>
          </a:xfrm>
        </p:grpSpPr>
        <p:graphicFrame>
          <p:nvGraphicFramePr>
            <p:cNvPr id="113" name=""/>
            <p:cNvGraphicFramePr/>
            <p:nvPr/>
          </p:nvGraphicFramePr>
          <p:xfrm>
            <a:off x="1189080" y="2644920"/>
            <a:ext cx="1931760" cy="347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9080" y="2644920"/>
                      <a:ext cx="1931760" cy="34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1146240" y="6095880"/>
              <a:ext cx="28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og Design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" name=""/>
          <p:cNvGraphicFramePr/>
          <p:nvPr/>
        </p:nvGraphicFramePr>
        <p:xfrm>
          <a:off x="1146240" y="1668600"/>
          <a:ext cx="163512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1668600"/>
                    <a:ext cx="16351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"/>
          <p:cNvGrpSpPr/>
          <p:nvPr/>
        </p:nvGrpSpPr>
        <p:grpSpPr>
          <a:xfrm>
            <a:off x="4876920" y="1579680"/>
            <a:ext cx="3230280" cy="4960080"/>
            <a:chOff x="4876920" y="1579680"/>
            <a:chExt cx="3230280" cy="4960080"/>
          </a:xfrm>
        </p:grpSpPr>
        <p:graphicFrame>
          <p:nvGraphicFramePr>
            <p:cNvPr id="119" name=""/>
            <p:cNvGraphicFramePr/>
            <p:nvPr/>
          </p:nvGraphicFramePr>
          <p:xfrm>
            <a:off x="5140440" y="1579680"/>
            <a:ext cx="2966760" cy="444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40440" y="1579680"/>
                      <a:ext cx="2966760" cy="44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4876920" y="6075360"/>
              <a:ext cx="298296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og Design Process with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mbolic Circuit 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 rot="21352200">
            <a:off x="4373640" y="1213920"/>
            <a:ext cx="3871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Symbolic Circuit Analysis Fits I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84200" y="2430360"/>
          <a:ext cx="127980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84200" y="2430360"/>
                    <a:ext cx="12798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279440" y="3346560"/>
          <a:ext cx="1530360" cy="100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79440" y="3346560"/>
                    <a:ext cx="15303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95440" y="4089240"/>
          <a:ext cx="1054080" cy="141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95440" y="4089240"/>
                    <a:ext cx="1054080" cy="14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EE01-275A-4F50-9B56-C736C4396D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ant Decision Dia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Nonlinearity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liminary Resul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3399-52A0-4E66-A989-0ED70644C44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alog Design Criter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formance 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fer function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wer consump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Linea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Limits value of largest useful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Noise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Limits value of smallest useful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3430440"/>
            <a:ext cx="274320" cy="1721160"/>
          </a:xfrm>
          <a:custGeom>
            <a:avLst/>
            <a:gdLst>
              <a:gd name="textAreaLeft" fmla="*/ 0 w 274320"/>
              <a:gd name="textAreaRight" fmla="*/ 99000 w 274320"/>
              <a:gd name="textAreaTop" fmla="*/ 44640 h 1721160"/>
              <a:gd name="textAreaBottom" fmla="*/ 1676520 h 172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534440" y="345276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2FFF-C503-4938-95E3-7E78C10CCE9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4128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ird-Order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modulation Distortion Rat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1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s third-order distortion compon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minants in fully differential circu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344520" y="2806560"/>
                <a:ext cx="38876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2" name=""/>
          <p:cNvSpPr/>
          <p:nvPr/>
        </p:nvSpPr>
        <p:spPr>
          <a:xfrm>
            <a:off x="2152800" y="3562200"/>
            <a:ext cx="1263600" cy="83844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414600" y="3835440"/>
            <a:ext cx="1596960" cy="347760"/>
          </a:xfrm>
          <a:prstGeom prst="rightArrow">
            <a:avLst>
              <a:gd name="adj1" fmla="val 42704"/>
              <a:gd name="adj2" fmla="val 109871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091120" y="3548160"/>
                <a:ext cx="3763800" cy="23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w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wt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860400" y="5370480"/>
                <a:ext cx="11304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878040" y="4583160"/>
                <a:ext cx="2735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 rot="5400000">
            <a:off x="1194120" y="3309120"/>
            <a:ext cx="968400" cy="871560"/>
          </a:xfrm>
          <a:custGeom>
            <a:avLst/>
            <a:gdLst>
              <a:gd name="textAreaLeft" fmla="*/ 322200 w 968400"/>
              <a:gd name="textAreaRight" fmla="*/ 808200 w 968400"/>
              <a:gd name="textAreaTop" fmla="*/ 597240 h 871560"/>
              <a:gd name="textAreaBottom" fmla="*/ 727200 h 871560"/>
            </a:gdLst>
            <a:ahLst/>
            <a:rect l="textAreaLeft" t="textAreaTop" r="textAreaRight" b="textAreaBottom"/>
            <a:pathLst>
              <a:path w="21600" h="21600">
                <a:moveTo>
                  <a:pt x="0" y="18378"/>
                </a:moveTo>
                <a:lnTo>
                  <a:pt x="14801" y="18378"/>
                </a:lnTo>
                <a:lnTo>
                  <a:pt x="14801" y="7190"/>
                </a:lnTo>
                <a:lnTo>
                  <a:pt x="11224" y="7190"/>
                </a:lnTo>
                <a:lnTo>
                  <a:pt x="16412" y="0"/>
                </a:lnTo>
                <a:lnTo>
                  <a:pt x="21600" y="7190"/>
                </a:lnTo>
                <a:lnTo>
                  <a:pt x="18023" y="7190"/>
                </a:lnTo>
                <a:lnTo>
                  <a:pt x="180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92080" y="6488280"/>
            <a:ext cx="51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hns &amp; Martin, Analog Integrated Circuit Design, John Wiley &amp; Sons, New York, 199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078520" y="2932200"/>
                <a:ext cx="3327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  <m:sup>
                        <m:r>
                          <m:t xml:space="preserve">3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5B91-2377-4471-8E46-BD21A6B960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-Order Intercept-point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914640" y="1752480"/>
            <a:ext cx="5011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Higher the Intercept point the more 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order harmonics are suppress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very 1dB A is decreased I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mproves by 2d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233280" y="1784520"/>
          <a:ext cx="3529080" cy="32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784520"/>
                    <a:ext cx="3529080" cy="32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546120" y="5343480"/>
                <a:ext cx="2235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5" name=""/>
          <p:cNvSpPr/>
          <p:nvPr/>
        </p:nvSpPr>
        <p:spPr>
          <a:xfrm>
            <a:off x="2765520" y="27748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62120" y="162072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556080" y="5394240"/>
            <a:ext cx="491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presented by a transfer function and in terms of a D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1A94-F2F7-40C2-91A4-053D59C5FF6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nlinear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66280" y="2114280"/>
            <a:ext cx="80010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ong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gital logic controlling the operations of analog/RF front-e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eads to abrupt behavior chang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havioral models for system-on-chip simulation characterized by PWL mod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ak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 excursions around the quiescent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F108-EBFC-4924-87F5-E5629832C6F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akly Nonlinear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umerical Algorith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monic Bal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ooting Meth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ing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Algorith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lter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an obtain closed-formed explicit expressions to represent harmonic and intermodulation distortion term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4DC6-163C-4A56-9DCC-7AD1CD5E55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olterra Series Approac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66640" y="2955600"/>
            <a:ext cx="8329680" cy="30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linear element has controlling curren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s can be regarded as sum of harmonics and intermodulation produc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x,m,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phasor of component of voltage at node x 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m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n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1595520" y="3459240"/>
                <a:ext cx="5641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3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5" name=""/>
          <p:cNvGrpSpPr/>
          <p:nvPr/>
        </p:nvGrpSpPr>
        <p:grpSpPr>
          <a:xfrm>
            <a:off x="2409840" y="1805040"/>
            <a:ext cx="4175280" cy="1143000"/>
            <a:chOff x="2409840" y="1805040"/>
            <a:chExt cx="4175280" cy="1143000"/>
          </a:xfrm>
        </p:grpSpPr>
        <p:sp>
          <p:nvSpPr>
            <p:cNvPr id="816" name=""/>
            <p:cNvSpPr/>
            <p:nvPr/>
          </p:nvSpPr>
          <p:spPr>
            <a:xfrm>
              <a:off x="3670560" y="1805040"/>
              <a:ext cx="144756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nlin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5403960" y="2109960"/>
              <a:ext cx="533160" cy="533160"/>
              <a:chOff x="5403960" y="2109960"/>
              <a:chExt cx="533160" cy="533160"/>
            </a:xfrm>
          </p:grpSpPr>
          <p:sp>
            <p:nvSpPr>
              <p:cNvPr id="818" name=""/>
              <p:cNvSpPr/>
              <p:nvPr/>
            </p:nvSpPr>
            <p:spPr>
              <a:xfrm>
                <a:off x="5403960" y="2109960"/>
                <a:ext cx="533160" cy="5331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5670720" y="226224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2845080" y="2135160"/>
              <a:ext cx="533160" cy="533520"/>
              <a:chOff x="2845080" y="2135160"/>
              <a:chExt cx="533160" cy="533520"/>
            </a:xfrm>
          </p:grpSpPr>
          <p:sp>
            <p:nvSpPr>
              <p:cNvPr id="821" name=""/>
              <p:cNvSpPr/>
              <p:nvPr/>
            </p:nvSpPr>
            <p:spPr>
              <a:xfrm>
                <a:off x="2845080" y="2135160"/>
                <a:ext cx="533160" cy="5335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311184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V="1">
              <a:off x="3100680" y="191916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00680" y="1913040"/>
              <a:ext cx="55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3100680" y="2674800"/>
              <a:ext cx="552240" cy="216000"/>
              <a:chOff x="3100680" y="2674800"/>
              <a:chExt cx="552240" cy="216000"/>
            </a:xfrm>
          </p:grpSpPr>
          <p:sp>
            <p:nvSpPr>
              <p:cNvPr id="826" name=""/>
              <p:cNvSpPr/>
              <p:nvPr/>
            </p:nvSpPr>
            <p:spPr>
              <a:xfrm>
                <a:off x="3100680" y="267480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00680" y="2890800"/>
                <a:ext cx="55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13080" y="1893960"/>
              <a:ext cx="552600" cy="977400"/>
              <a:chOff x="5113080" y="1893960"/>
              <a:chExt cx="552600" cy="977400"/>
            </a:xfrm>
          </p:grpSpPr>
          <p:sp>
            <p:nvSpPr>
              <p:cNvPr id="829" name=""/>
              <p:cNvSpPr/>
              <p:nvPr/>
            </p:nvSpPr>
            <p:spPr>
              <a:xfrm flipV="1">
                <a:off x="5665680" y="190044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5113080" y="1893960"/>
                <a:ext cx="55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"/>
              <p:cNvGrpSpPr/>
              <p:nvPr/>
            </p:nvGrpSpPr>
            <p:grpSpPr>
              <a:xfrm>
                <a:off x="5113080" y="2656440"/>
                <a:ext cx="552600" cy="214920"/>
                <a:chOff x="5113080" y="2656440"/>
                <a:chExt cx="552600" cy="21492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5665680" y="2656440"/>
                  <a:ext cx="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5113080" y="2871360"/>
                  <a:ext cx="55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4" name=""/>
            <p:cNvSpPr/>
            <p:nvPr/>
          </p:nvSpPr>
          <p:spPr>
            <a:xfrm>
              <a:off x="2409840" y="2139840"/>
              <a:ext cx="65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929560" y="2185920"/>
              <a:ext cx="655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2803680" y="5416560"/>
                <a:ext cx="38242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7" name=""/>
          <p:cNvSpPr/>
          <p:nvPr/>
        </p:nvSpPr>
        <p:spPr>
          <a:xfrm>
            <a:off x="152280" y="6318360"/>
            <a:ext cx="405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Fernandez, A. Rodriguez-Vazquez, J. Huertas, G. Gielen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ymbolic Analysis Techniqu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New Jersey: IEEE Press, 199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B6F1-8745-473A-A148-359A84F00F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nearize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640" y="3722400"/>
            <a:ext cx="83152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 nonlinear current source to linearize nonlinear elements in circu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rmines higher order distortion te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ression based on previous calculation of node volt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311720" y="1785960"/>
            <a:ext cx="4579920" cy="1659600"/>
            <a:chOff x="4311720" y="1785960"/>
            <a:chExt cx="4579920" cy="1659600"/>
          </a:xfrm>
        </p:grpSpPr>
        <p:sp>
          <p:nvSpPr>
            <p:cNvPr id="841" name=""/>
            <p:cNvSpPr/>
            <p:nvPr/>
          </p:nvSpPr>
          <p:spPr>
            <a:xfrm>
              <a:off x="4633920" y="1838520"/>
              <a:ext cx="3942000" cy="157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311720" y="19875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43640" y="2421000"/>
              <a:ext cx="48888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688080" y="2571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695920" y="2419560"/>
              <a:ext cx="48888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0360" y="2556000"/>
              <a:ext cx="0" cy="2286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946840" y="21459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946840" y="287676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688080" y="21459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6688080" y="287676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56200" y="315144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954760" y="215100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254640" y="3148200"/>
              <a:ext cx="88920" cy="8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269040" y="2057400"/>
              <a:ext cx="88920" cy="8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59600" y="3138480"/>
              <a:ext cx="2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12080" y="1785960"/>
              <a:ext cx="26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4760" y="2500560"/>
              <a:ext cx="168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i,1,+/-1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,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j,1,+/-1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754160" y="21384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702320" y="308628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92640" y="3038400"/>
              <a:ext cx="88920" cy="8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40520" y="2095560"/>
              <a:ext cx="88920" cy="8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292720" y="1919520"/>
              <a:ext cx="2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245200" y="2905200"/>
              <a:ext cx="2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11640" y="2428920"/>
              <a:ext cx="871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Verdana"/>
                </a:rPr>
                <a:t>i</a:t>
              </a:r>
              <a:r>
                <a:rPr b="0" lang="en-US" sz="1400" spc="-1" strike="noStrike" baseline="-25000">
                  <a:solidFill>
                    <a:srgbClr val="cc0000"/>
                  </a:solidFill>
                  <a:latin typeface="Verdana"/>
                </a:rPr>
                <a:t>NL2g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322880" y="33260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567640" y="1976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578800" y="33148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0" y="1949400"/>
                <a:ext cx="4656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onlinearities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sub>
                            </m:sSub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±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±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B551-ED4B-43F5-946B-E63AF45D681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Strongl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ecewise Linear Circuit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66280" y="2233080"/>
            <a:ext cx="8001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strongly nonlinear behavi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witching operating reg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dden changes of device phys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any piecewise linear fun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-V characterist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B42A-3D1D-477E-B829-E248AEF6779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1" name=""/>
          <p:cNvGraphicFramePr/>
          <p:nvPr/>
        </p:nvGraphicFramePr>
        <p:xfrm>
          <a:off x="5694480" y="1857240"/>
          <a:ext cx="1933560" cy="21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4480" y="1857240"/>
                    <a:ext cx="193356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WL Concep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New”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tho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u 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uj = 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d to mod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WL behavi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"/>
          <p:cNvSpPr/>
          <p:nvPr/>
        </p:nvSpPr>
        <p:spPr>
          <a:xfrm rot="14631600">
            <a:off x="5010120" y="3819240"/>
            <a:ext cx="920880" cy="380880"/>
          </a:xfrm>
          <a:prstGeom prst="rightArrow">
            <a:avLst>
              <a:gd name="adj1" fmla="val 50000"/>
              <a:gd name="adj2" fmla="val 6044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856120" y="401004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ity opposite of an ideal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338720" y="2090880"/>
          <a:ext cx="13683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8720" y="2090880"/>
                    <a:ext cx="1368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E66D-068B-4097-99D5-23F91B378ED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mbolically Characteriz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MR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e-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Fig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ortion/Harmon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cept points (IP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3876-D822-4EA6-9C4E-D67478D41B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deling PWL fun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"/>
          <p:cNvSpPr/>
          <p:nvPr/>
        </p:nvSpPr>
        <p:spPr>
          <a:xfrm>
            <a:off x="4546440" y="5943600"/>
            <a:ext cx="321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enaerts &amp; Bokhoven, Piecewise Linear Modeling and Analysis, Kluwer Academic Publishers, 199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291960" y="3675240"/>
                <a:ext cx="2786040" cy="28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u</m:t>
                        </m:r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u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for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2" name=""/>
          <p:cNvGrpSpPr/>
          <p:nvPr/>
        </p:nvGrpSpPr>
        <p:grpSpPr>
          <a:xfrm>
            <a:off x="4361040" y="1917720"/>
            <a:ext cx="3357360" cy="3227400"/>
            <a:chOff x="4361040" y="1917720"/>
            <a:chExt cx="3357360" cy="3227400"/>
          </a:xfrm>
        </p:grpSpPr>
        <p:graphicFrame>
          <p:nvGraphicFramePr>
            <p:cNvPr id="883" name=""/>
            <p:cNvGraphicFramePr/>
            <p:nvPr/>
          </p:nvGraphicFramePr>
          <p:xfrm>
            <a:off x="4361040" y="1917720"/>
            <a:ext cx="3357360" cy="322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61040" y="1917720"/>
                      <a:ext cx="3357360" cy="32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85" name=""/>
                <p:cNvSpPr txBox="1"/>
                <p:nvPr/>
              </p:nvSpPr>
              <p:spPr>
                <a:xfrm>
                  <a:off x="5251320" y="2855880"/>
                  <a:ext cx="40320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5340240" y="4281480"/>
                  <a:ext cx="39852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7" name=""/>
          <p:cNvGrpSpPr/>
          <p:nvPr/>
        </p:nvGrpSpPr>
        <p:grpSpPr>
          <a:xfrm>
            <a:off x="5961240" y="2519280"/>
            <a:ext cx="661680" cy="2603520"/>
            <a:chOff x="5961240" y="2519280"/>
            <a:chExt cx="661680" cy="2603520"/>
          </a:xfrm>
        </p:grpSpPr>
        <mc:AlternateContent>
          <mc:Choice xmlns:a14="http://schemas.microsoft.com/office/drawing/2010/main" Requires="a14">
            <p:sp>
              <p:nvSpPr>
                <p:cNvPr id="888" name=""/>
                <p:cNvSpPr txBox="1"/>
                <p:nvPr/>
              </p:nvSpPr>
              <p:spPr>
                <a:xfrm>
                  <a:off x="6288120" y="2830320"/>
                  <a:ext cx="299880" cy="6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6345360" y="4478040"/>
                  <a:ext cx="27756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890" name=""/>
            <p:cNvGraphicFramePr/>
            <p:nvPr/>
          </p:nvGraphicFramePr>
          <p:xfrm>
            <a:off x="5961240" y="2519280"/>
            <a:ext cx="45216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61240" y="2519280"/>
                      <a:ext cx="45216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2" name=""/>
          <p:cNvGrpSpPr/>
          <p:nvPr/>
        </p:nvGrpSpPr>
        <p:grpSpPr>
          <a:xfrm>
            <a:off x="6772320" y="2535120"/>
            <a:ext cx="682560" cy="2603520"/>
            <a:chOff x="6772320" y="2535120"/>
            <a:chExt cx="682560" cy="2603520"/>
          </a:xfrm>
        </p:grpSpPr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7042320" y="2830320"/>
                  <a:ext cx="3394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7155000" y="4468680"/>
                  <a:ext cx="29988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895" name=""/>
            <p:cNvGraphicFramePr/>
            <p:nvPr/>
          </p:nvGraphicFramePr>
          <p:xfrm>
            <a:off x="6772320" y="2535120"/>
            <a:ext cx="452520" cy="2603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72320" y="2535120"/>
                      <a:ext cx="45252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7" name=""/>
          <p:cNvGrpSpPr/>
          <p:nvPr/>
        </p:nvGrpSpPr>
        <p:grpSpPr>
          <a:xfrm>
            <a:off x="7454880" y="2527200"/>
            <a:ext cx="698400" cy="2603520"/>
            <a:chOff x="7454880" y="2527200"/>
            <a:chExt cx="698400" cy="2603520"/>
          </a:xfrm>
        </p:grpSpPr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7723080" y="2827080"/>
                  <a:ext cx="3193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7854840" y="4483080"/>
                  <a:ext cx="29844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00" name=""/>
            <p:cNvGraphicFramePr/>
            <p:nvPr/>
          </p:nvGraphicFramePr>
          <p:xfrm>
            <a:off x="7454880" y="2527200"/>
            <a:ext cx="452520" cy="2603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54880" y="2527200"/>
                      <a:ext cx="45252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02" name=""/>
          <p:cNvGrpSpPr/>
          <p:nvPr/>
        </p:nvGrpSpPr>
        <p:grpSpPr>
          <a:xfrm>
            <a:off x="939960" y="2457360"/>
            <a:ext cx="955440" cy="827280"/>
            <a:chOff x="939960" y="2457360"/>
            <a:chExt cx="955440" cy="827280"/>
          </a:xfrm>
        </p:grpSpPr>
        <mc:AlternateContent>
          <mc:Choice xmlns:a14="http://schemas.microsoft.com/office/drawing/2010/main" Requires="a14">
            <p:sp>
              <p:nvSpPr>
                <p:cNvPr id="903" name=""/>
                <p:cNvSpPr txBox="1"/>
                <p:nvPr/>
              </p:nvSpPr>
              <p:spPr>
                <a:xfrm>
                  <a:off x="1182600" y="2476440"/>
                  <a:ext cx="31608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4" name=""/>
                <p:cNvSpPr txBox="1"/>
                <p:nvPr/>
              </p:nvSpPr>
              <p:spPr>
                <a:xfrm>
                  <a:off x="939960" y="2970360"/>
                  <a:ext cx="258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05" name=""/>
            <p:cNvSpPr/>
            <p:nvPr/>
          </p:nvSpPr>
          <p:spPr>
            <a:xfrm flipV="1">
              <a:off x="1031760" y="2457360"/>
              <a:ext cx="863640" cy="15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1039680" y="2603160"/>
              <a:ext cx="7920" cy="338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1758960" y="2195640"/>
            <a:ext cx="565200" cy="1071360"/>
            <a:chOff x="1758960" y="2195640"/>
            <a:chExt cx="565200" cy="1071360"/>
          </a:xfrm>
        </p:grpSpPr>
        <mc:AlternateContent>
          <mc:Choice xmlns:a14="http://schemas.microsoft.com/office/drawing/2010/main" Requires="a14">
            <p:sp>
              <p:nvSpPr>
                <p:cNvPr id="908" name=""/>
                <p:cNvSpPr txBox="1"/>
                <p:nvPr/>
              </p:nvSpPr>
              <p:spPr>
                <a:xfrm>
                  <a:off x="1949400" y="2195640"/>
                  <a:ext cx="33660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9" name=""/>
                <p:cNvSpPr txBox="1"/>
                <p:nvPr/>
              </p:nvSpPr>
              <p:spPr>
                <a:xfrm>
                  <a:off x="1758960" y="2954160"/>
                  <a:ext cx="2761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0" name=""/>
            <p:cNvSpPr/>
            <p:nvPr/>
          </p:nvSpPr>
          <p:spPr>
            <a:xfrm>
              <a:off x="1893960" y="2457360"/>
              <a:ext cx="430200" cy="209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1889280" y="2481120"/>
              <a:ext cx="7920" cy="463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209680" y="2092320"/>
            <a:ext cx="576360" cy="1208160"/>
            <a:chOff x="2209680" y="2092320"/>
            <a:chExt cx="576360" cy="1208160"/>
          </a:xfrm>
        </p:grpSpPr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2397240" y="2092320"/>
                  <a:ext cx="3204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2209680" y="2968560"/>
                  <a:ext cx="2764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5" name=""/>
            <p:cNvSpPr/>
            <p:nvPr/>
          </p:nvSpPr>
          <p:spPr>
            <a:xfrm flipV="1">
              <a:off x="2322360" y="2317680"/>
              <a:ext cx="463680" cy="349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2313000" y="2676600"/>
              <a:ext cx="7920" cy="303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28520" y="1644480"/>
            <a:ext cx="2924280" cy="1680840"/>
            <a:chOff x="128520" y="1644480"/>
            <a:chExt cx="2924280" cy="1680840"/>
          </a:xfrm>
        </p:grpSpPr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2857680" y="2871720"/>
                  <a:ext cx="19512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9" name=""/>
            <p:cNvSpPr/>
            <p:nvPr/>
          </p:nvSpPr>
          <p:spPr>
            <a:xfrm flipV="1">
              <a:off x="1544760" y="1839600"/>
              <a:ext cx="0" cy="148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76200" y="2971800"/>
              <a:ext cx="24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1" name=""/>
                <p:cNvSpPr txBox="1"/>
                <p:nvPr/>
              </p:nvSpPr>
              <p:spPr>
                <a:xfrm>
                  <a:off x="1566720" y="1787400"/>
                  <a:ext cx="23832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2" name=""/>
                <p:cNvSpPr txBox="1"/>
                <p:nvPr/>
              </p:nvSpPr>
              <p:spPr>
                <a:xfrm>
                  <a:off x="1325520" y="1644480"/>
                  <a:ext cx="19692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3" name=""/>
            <p:cNvSpPr/>
            <p:nvPr/>
          </p:nvSpPr>
          <p:spPr>
            <a:xfrm flipV="1">
              <a:off x="1036800" y="2082960"/>
              <a:ext cx="509400" cy="522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4" name=""/>
                <p:cNvSpPr txBox="1"/>
                <p:nvPr/>
              </p:nvSpPr>
              <p:spPr>
                <a:xfrm>
                  <a:off x="128520" y="2890800"/>
                  <a:ext cx="32076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25" name=""/>
            <p:cNvSpPr/>
            <p:nvPr/>
          </p:nvSpPr>
          <p:spPr>
            <a:xfrm flipV="1">
              <a:off x="365040" y="2614320"/>
              <a:ext cx="668520" cy="703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65CC-AC03-4F71-91C9-49B33481E64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NA Stamping Ru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ct macro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2766960" y="4170240"/>
          <a:ext cx="3252960" cy="11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6960" y="4170240"/>
                    <a:ext cx="325296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2" name=""/>
          <p:cNvGraphicFramePr/>
          <p:nvPr/>
        </p:nvGraphicFramePr>
        <p:xfrm>
          <a:off x="1773360" y="1849320"/>
          <a:ext cx="4844880" cy="251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3360" y="1849320"/>
                    <a:ext cx="484488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EA2B-C3B4-4838-A751-0C60ACC14EA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NA Formu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66280" y="3765240"/>
            <a:ext cx="80010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bout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7" name=""/>
              <p:cNvSpPr txBox="1"/>
              <p:nvPr/>
            </p:nvSpPr>
            <p:spPr>
              <a:xfrm>
                <a:off x="2395440" y="1839960"/>
                <a:ext cx="339084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  <m:e>
                                  <m:r>
                                    <m:t xml:space="preserve">A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o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8" name=""/>
          <p:cNvSpPr txBox="1"/>
          <p:nvPr/>
        </p:nvSpPr>
        <p:spPr>
          <a:xfrm>
            <a:off x="239760" y="4549680"/>
            <a:ext cx="86137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ixed Linear Complementarity Problem!?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D87C-4E92-40A7-9550-A1A2329EAEB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licit Solu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near Complementarity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6597720" cy="36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ortho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 &gt; 0 then j = -q/d, u =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0 then j = 0, u = q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q/d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u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374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er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-Dimen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4319640" y="1969920"/>
          <a:ext cx="163980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9640" y="1969920"/>
                    <a:ext cx="163980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724120" y="4349880"/>
                <a:ext cx="157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/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 flipV="1">
            <a:off x="6781680" y="2728440"/>
            <a:ext cx="719280" cy="1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072200" y="2698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321680" y="3656160"/>
            <a:ext cx="198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940440" y="334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-u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996240" y="2577960"/>
            <a:ext cx="380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0" name=""/>
          <p:cNvGraphicFramePr/>
          <p:nvPr/>
        </p:nvGraphicFramePr>
        <p:xfrm>
          <a:off x="4381560" y="2921040"/>
          <a:ext cx="1620720" cy="13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560" y="2921040"/>
                    <a:ext cx="162072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"/>
          <p:cNvSpPr/>
          <p:nvPr/>
        </p:nvSpPr>
        <p:spPr>
          <a:xfrm>
            <a:off x="6027840" y="2560680"/>
            <a:ext cx="447480" cy="285840"/>
          </a:xfrm>
          <a:prstGeom prst="rightArrow">
            <a:avLst>
              <a:gd name="adj1" fmla="val 50000"/>
              <a:gd name="adj2" fmla="val 3913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041880" y="3517920"/>
            <a:ext cx="447840" cy="285840"/>
          </a:xfrm>
          <a:prstGeom prst="rightArrow">
            <a:avLst>
              <a:gd name="adj1" fmla="val 50000"/>
              <a:gd name="adj2" fmla="val 39169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1120680" y="5392800"/>
                <a:ext cx="28018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4606920" y="5099040"/>
                <a:ext cx="432756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m>
                          <m:mr>
                            <m:e/>
                            <m:e/>
                          </m:mr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m>
                          <m:mr>
                            <m:e/>
                            <m:e/>
                          </m:mr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4022640" y="5613480"/>
            <a:ext cx="447840" cy="285840"/>
          </a:xfrm>
          <a:prstGeom prst="rightArrow">
            <a:avLst>
              <a:gd name="adj1" fmla="val 50000"/>
              <a:gd name="adj2" fmla="val 39169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897520" y="1673280"/>
                <a:ext cx="8478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j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6777000" y="3668760"/>
            <a:ext cx="198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9EE5-BAFF-4F07-A22B-73757F08A5E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26680" y="304920"/>
            <a:ext cx="8115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omplementarity Decision Diagra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164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ed an efficient diagram to represent the explicit solution to LC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-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-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343240" y="4235400"/>
                <a:ext cx="20556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5" name="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4232160" y="2585880"/>
          <a:ext cx="795600" cy="13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2160" y="2585880"/>
                    <a:ext cx="79560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"/>
          <p:cNvGraphicFramePr/>
          <p:nvPr/>
        </p:nvGraphicFramePr>
        <p:xfrm>
          <a:off x="5075280" y="3749760"/>
          <a:ext cx="2151000" cy="27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5280" y="3749760"/>
                    <a:ext cx="215100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266920" y="2703600"/>
                <a:ext cx="946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5578560" y="2003040"/>
            <a:ext cx="3494160" cy="2354400"/>
          </a:xfrm>
          <a:prstGeom prst="star5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@(n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7932-389C-4064-A398-2E01EBA0849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250" autoRev="1" fill="hold"/>
                                        <p:tgtEl>
                                          <p:spTgt spid="9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PWL Analysis 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ongly Nonlinear Circui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1263600" y="3025800"/>
          <a:ext cx="1096920" cy="11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3025800"/>
                    <a:ext cx="10969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5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0" y="1622520"/>
          <a:ext cx="2073240" cy="13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22520"/>
                    <a:ext cx="207324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0" y="34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342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646440" y="4152960"/>
            <a:ext cx="4000680" cy="2528640"/>
            <a:chOff x="3646440" y="4152960"/>
            <a:chExt cx="4000680" cy="2528640"/>
          </a:xfrm>
        </p:grpSpPr>
        <p:graphicFrame>
          <p:nvGraphicFramePr>
            <p:cNvPr id="981" name=""/>
            <p:cNvGraphicFramePr/>
            <p:nvPr/>
          </p:nvGraphicFramePr>
          <p:xfrm>
            <a:off x="5869080" y="4779000"/>
            <a:ext cx="1778040" cy="176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9080" y="4779000"/>
                      <a:ext cx="1778040" cy="176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3646440" y="5447160"/>
                  <a:ext cx="1828800" cy="12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∗</m:t>
                              </m:r>
                              <m:d>
                                <m:dPr>
                                  <m:begChr m:val="⌊"/>
                                  <m:endChr m:val="⌋"/>
                                </m:dPr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∗</m:t>
                              </m:r>
                              <m:d>
                                <m:dPr>
                                  <m:begChr m:val="⌊"/>
                                  <m:endChr m:val="⌋"/>
                                </m:dPr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4" name=""/>
                <p:cNvSpPr txBox="1"/>
                <p:nvPr/>
              </p:nvSpPr>
              <p:spPr>
                <a:xfrm>
                  <a:off x="3932280" y="4831200"/>
                  <a:ext cx="1339920" cy="49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d>
                        <m:dPr>
                          <m:begChr m:val="⌊"/>
                          <m:endChr m:val="⌋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5" name=""/>
            <p:cNvSpPr/>
            <p:nvPr/>
          </p:nvSpPr>
          <p:spPr>
            <a:xfrm>
              <a:off x="5253120" y="4152960"/>
              <a:ext cx="1143000" cy="105984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52800" y="4494240"/>
              <a:ext cx="1276560" cy="367560"/>
            </a:xfrm>
            <a:prstGeom prst="rightArrow">
              <a:avLst>
                <a:gd name="adj1" fmla="val 50000"/>
                <a:gd name="adj2" fmla="val 86827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00800" y="4508280"/>
              <a:ext cx="1195560" cy="367200"/>
            </a:xfrm>
            <a:prstGeom prst="rightArrow">
              <a:avLst>
                <a:gd name="adj1" fmla="val 50000"/>
                <a:gd name="adj2" fmla="val 81397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488960" y="3025800"/>
            <a:ext cx="3293640" cy="2302920"/>
            <a:chOff x="1488960" y="3025800"/>
            <a:chExt cx="3293640" cy="2302920"/>
          </a:xfrm>
        </p:grpSpPr>
        <mc:AlternateContent>
          <mc:Choice xmlns:a14="http://schemas.microsoft.com/office/drawing/2010/main" Requires="a14">
            <p:sp>
              <p:nvSpPr>
                <p:cNvPr id="989" name=""/>
                <p:cNvSpPr txBox="1"/>
                <p:nvPr/>
              </p:nvSpPr>
              <p:spPr>
                <a:xfrm>
                  <a:off x="2289960" y="3025800"/>
                  <a:ext cx="249264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90" name=""/>
            <p:cNvSpPr/>
            <p:nvPr/>
          </p:nvSpPr>
          <p:spPr>
            <a:xfrm>
              <a:off x="1503000" y="4392360"/>
              <a:ext cx="1275120" cy="321480"/>
            </a:xfrm>
            <a:prstGeom prst="rightArrow">
              <a:avLst>
                <a:gd name="adj1" fmla="val 50000"/>
                <a:gd name="adj2" fmla="val 9916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12680" y="4113720"/>
              <a:ext cx="1126440" cy="92700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C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3107520" y="3681000"/>
              <a:ext cx="502200" cy="375120"/>
            </a:xfrm>
            <a:prstGeom prst="rightArrow">
              <a:avLst>
                <a:gd name="adj1" fmla="val 50000"/>
                <a:gd name="adj2" fmla="val 3346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3" name=""/>
                <p:cNvSpPr txBox="1"/>
                <p:nvPr/>
              </p:nvSpPr>
              <p:spPr>
                <a:xfrm>
                  <a:off x="1488960" y="4762080"/>
                  <a:ext cx="129852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o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4" name=""/>
          <p:cNvGrpSpPr/>
          <p:nvPr/>
        </p:nvGrpSpPr>
        <p:grpSpPr>
          <a:xfrm>
            <a:off x="3529080" y="1557360"/>
            <a:ext cx="5548320" cy="3705120"/>
            <a:chOff x="3529080" y="1557360"/>
            <a:chExt cx="5548320" cy="3705120"/>
          </a:xfrm>
        </p:grpSpPr>
        <mc:AlternateContent>
          <mc:Choice xmlns:a14="http://schemas.microsoft.com/office/drawing/2010/main" Requires="a14">
            <p:sp>
              <p:nvSpPr>
                <p:cNvPr id="995" name=""/>
                <p:cNvSpPr txBox="1"/>
                <p:nvPr/>
              </p:nvSpPr>
              <p:spPr>
                <a:xfrm>
                  <a:off x="3529080" y="1916280"/>
                  <a:ext cx="29574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96" name=""/>
            <p:cNvSpPr/>
            <p:nvPr/>
          </p:nvSpPr>
          <p:spPr>
            <a:xfrm>
              <a:off x="6330960" y="2262240"/>
              <a:ext cx="31428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637400" y="4164120"/>
              <a:ext cx="1440000" cy="109836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8" name="" descr=""/>
            <p:cNvPicPr/>
            <p:nvPr/>
          </p:nvPicPr>
          <p:blipFill>
            <a:blip r:embed="rId7"/>
            <a:stretch/>
          </p:blipFill>
          <p:spPr>
            <a:xfrm>
              <a:off x="6632640" y="1557360"/>
              <a:ext cx="2181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"/>
            <p:cNvSpPr/>
            <p:nvPr/>
          </p:nvSpPr>
          <p:spPr>
            <a:xfrm rot="16200000">
              <a:off x="8103960" y="3777840"/>
              <a:ext cx="387360" cy="381240"/>
            </a:xfrm>
            <a:prstGeom prst="rightArrow">
              <a:avLst>
                <a:gd name="adj1" fmla="val 50000"/>
                <a:gd name="adj2" fmla="val 25401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219240" y="3006720"/>
            <a:ext cx="2716200" cy="3525840"/>
            <a:chOff x="219240" y="3006720"/>
            <a:chExt cx="2716200" cy="3525840"/>
          </a:xfrm>
        </p:grpSpPr>
        <p:sp>
          <p:nvSpPr>
            <p:cNvPr id="1002" name=""/>
            <p:cNvSpPr/>
            <p:nvPr/>
          </p:nvSpPr>
          <p:spPr>
            <a:xfrm>
              <a:off x="336600" y="4005360"/>
              <a:ext cx="1143000" cy="109836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N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5400000">
              <a:off x="430560" y="3300840"/>
              <a:ext cx="969840" cy="381240"/>
            </a:xfrm>
            <a:prstGeom prst="rightArrow">
              <a:avLst>
                <a:gd name="adj1" fmla="val 50000"/>
                <a:gd name="adj2" fmla="val 63598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5400000">
              <a:off x="603360" y="5210280"/>
              <a:ext cx="552240" cy="380880"/>
            </a:xfrm>
            <a:prstGeom prst="rightArrow">
              <a:avLst>
                <a:gd name="adj1" fmla="val 50000"/>
                <a:gd name="adj2" fmla="val 36248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5" name=""/>
                <p:cNvSpPr txBox="1"/>
                <p:nvPr/>
              </p:nvSpPr>
              <p:spPr>
                <a:xfrm>
                  <a:off x="219240" y="5742000"/>
                  <a:ext cx="271620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M</m:t>
                                </m:r>
                              </m:e>
                              <m:e>
                                <m:r>
                                  <m:t xml:space="preserve">A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o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3E58-656A-41E7-8CF8-7DAF8EBF5AC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741 Behavioral Mo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4211640" y="2163600"/>
            <a:ext cx="4815000" cy="394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9" name=""/>
          <p:cNvGraphicFramePr/>
          <p:nvPr/>
        </p:nvGraphicFramePr>
        <p:xfrm>
          <a:off x="120600" y="2727360"/>
          <a:ext cx="4067280" cy="211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00" y="2727360"/>
                    <a:ext cx="406728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E9DA-E679-4761-91E7-E46CA2215C6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WL Conclu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ed circuits with hard nonlinearities using PWL fun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DD-based procedure for converting MLCP to LC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icient graph-based form of LC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ed on several different circu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741, mixer, etc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D677-C79E-4FC7-A6CF-FF5D224E23F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iew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timization Techn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9B1A-BA01-4938-9F82-E2565B18A15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liminary Schedu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566640" y="1752480"/>
          <a:ext cx="8001000" cy="4592880"/>
        </p:xfrm>
        <a:graphic>
          <a:graphicData uri="http://schemas.openxmlformats.org/drawingml/2006/table">
            <a:tbl>
              <a:tblPr/>
              <a:tblGrid>
                <a:gridCol w="5176800"/>
                <a:gridCol w="282420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edu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acterize solution to LCP in freq. dom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ter – Spring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rox. corners of PWL for volterra partial deriv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ter – Spring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y implement PWL/Volterra interf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ing – Summer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on a various analog desig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ing – Summer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-based approx. of symbolic expre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er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ed symbolic/numeric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er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icient symbolic pole/zero generation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er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8FE6-C27D-439D-B9DF-AF5E4C18F31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 Design Ins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 Space Expl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sitivity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al Model Gen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ult Det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ortion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7B16-F9C4-44CD-8C20-AE225B5CB2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Determinant Decision Diagra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amer’s R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DD Vertex Expan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DD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236F-766B-4DCF-81FB-772FFECEE9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amer’s Rul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595840" y="3413160"/>
          <a:ext cx="3206880" cy="252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5840" y="3413160"/>
                    <a:ext cx="320688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50840" y="3372840"/>
            <a:ext cx="5708520" cy="2345400"/>
          </a:xfrm>
          <a:prstGeom prst="irregularSeal2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Exponential Growth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094360" y="2195640"/>
                <a:ext cx="35114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79320" y="1747800"/>
                <a:ext cx="330840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,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,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396200" y="1679400"/>
                <a:ext cx="947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5510160" y="1681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eq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D0A1-5483-427C-BAE1-73DAB898C5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Vertex Expan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821120" y="1676520"/>
                <a:ext cx="1219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135320" y="5025960"/>
                <a:ext cx="914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735520" y="4800600"/>
                <a:ext cx="12956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897440" y="3200400"/>
            <a:ext cx="893880" cy="8380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334120" y="2895120"/>
            <a:ext cx="0" cy="304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00600" y="4038480"/>
            <a:ext cx="533520" cy="685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4038480"/>
            <a:ext cx="533160" cy="6858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7360" y="29383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ed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97440" y="342900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581280"/>
            <a:ext cx="304920" cy="1526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0415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hi &amp; Tan, TCAD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20720" y="4662360"/>
                <a:ext cx="152424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925640" y="472428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7040" y="487692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9760" y="5114880"/>
            <a:ext cx="790920" cy="380880"/>
          </a:xfrm>
          <a:prstGeom prst="rightArrow">
            <a:avLst>
              <a:gd name="adj1" fmla="val 50000"/>
              <a:gd name="adj2" fmla="val 51914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096560" y="3153960"/>
            <a:ext cx="785880" cy="32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112760" y="3552480"/>
            <a:ext cx="757440" cy="468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91160" y="4017960"/>
            <a:ext cx="47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99080" y="4033800"/>
            <a:ext cx="4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76640" y="4762440"/>
            <a:ext cx="14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6120" y="5692680"/>
            <a:ext cx="14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E5FE-0876-4418-9345-59D280B7A6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20:39:40Z</dcterms:created>
  <dc:creator>Alicia Manthe</dc:creator>
  <dc:description/>
  <dc:language>en-US</dc:language>
  <cp:lastModifiedBy>Alicia Manthe</cp:lastModifiedBy>
  <dcterms:modified xsi:type="dcterms:W3CDTF">2002-12-12T15:25:00Z</dcterms:modified>
  <cp:revision>292</cp:revision>
  <dc:subject/>
  <dc:title>Symbolic Circuit Analysis of Strongly Nonlinear Circui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04929143</vt:r8>
  </property>
  <property fmtid="{D5CDD505-2E9C-101B-9397-08002B2CF9AE}" pid="3" name="_AuthorEmail">
    <vt:lpwstr>amanthe@u.washington.edu</vt:lpwstr>
  </property>
  <property fmtid="{D5CDD505-2E9C-101B-9397-08002B2CF9AE}" pid="4" name="_AuthorEmailDisplayName">
    <vt:lpwstr>Alicia Manthe</vt:lpwstr>
  </property>
  <property fmtid="{D5CDD505-2E9C-101B-9397-08002B2CF9AE}" pid="5" name="_EmailSubject">
    <vt:lpwstr>darpa presentation prepared for send out</vt:lpwstr>
  </property>
</Properties>
</file>