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21.jpeg" ContentType="image/jpeg"/>
  <Override PartName="/ppt/media/image16.jpeg" ContentType="image/jpeg"/>
  <Override PartName="/ppt/media/image10.wmf" ContentType="image/x-wmf"/>
  <Override PartName="/ppt/media/image2.png" ContentType="image/png"/>
  <Override PartName="/ppt/media/image19.wmf" ContentType="image/x-wmf"/>
  <Override PartName="/ppt/media/image18.jpeg" ContentType="image/jpeg"/>
  <Override PartName="/ppt/media/image17.wmf" ContentType="image/x-wmf"/>
  <Override PartName="/ppt/media/image14.wmf" ContentType="image/x-wmf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lick to move the slid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D77C-ECD6-42D4-8065-FE312002D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olean expressions seen in the matrix prevent singularity’s from occurring. If B is off, the node 2 is forcibly set to 0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ddition of the boolean variables allows this single matrix equation to describe the circuit behavior completely under any input sensit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71400" y="57132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71400" y="57132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4600" y="19836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0920" y="6667560"/>
            <a:ext cx="239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Sambuddha Bhattacharya, Dec 10</a:t>
            </a:r>
            <a:r>
              <a:rPr b="0" lang="en-US" sz="900" spc="-1" strike="noStrike" baseline="30000">
                <a:solidFill>
                  <a:srgbClr val="0033cc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, 20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0754-31A9-4C2F-A1C5-D176CD288387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788240" y="2048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4600" y="19836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20" y="6667560"/>
            <a:ext cx="239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Sambuddha Bhattacharya, Dec 10</a:t>
            </a:r>
            <a:r>
              <a:rPr b="0" lang="en-US" sz="900" spc="-1" strike="noStrike" baseline="30000">
                <a:solidFill>
                  <a:srgbClr val="0033cc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, 20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FA65-81E6-47B8-A708-DBA44CE7E373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88240" y="2048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14680" y="5486400"/>
            <a:ext cx="766800" cy="78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0600" y="169920"/>
            <a:ext cx="87534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oSMoS: </a:t>
            </a:r>
            <a:br>
              <a:rPr sz="2400"/>
            </a:b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oupled Simulation and Modeling of Systems-on-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133eb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133eb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3eb9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133eb9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133eb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bb%7D@u.washington.edu" TargetMode="External"/><Relationship Id="rId2" Type="http://schemas.openxmlformats.org/officeDocument/2006/relationships/hyperlink" Target="mailto:Sbb%7D@u.washington.edu" TargetMode="External"/><Relationship Id="rId3" Type="http://schemas.openxmlformats.org/officeDocument/2006/relationships/hyperlink" Target="mailto:Sbb%7D@u.washington.edu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oncurrent Logic and Interconnect Delay Estimation using MTDDD for behavioral model generation*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ambuddha Bhattacharya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-J. Richard Shi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partment of Electrical Engineering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University of Washington, Seattle  WA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{sbb,cjshi}.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ee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.washington.edu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*Supported by NSF-ITR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Interconnect Tree Driven by an AOI321 Gat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4343400"/>
            <a:ext cx="38088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7180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load_variation_iscas" descr=""/>
          <p:cNvPicPr/>
          <p:nvPr/>
        </p:nvPicPr>
        <p:blipFill>
          <a:blip r:embed="rId1"/>
          <a:srcRect l="4796" t="2131" r="9592" b="2131"/>
          <a:stretch/>
        </p:blipFill>
        <p:spPr>
          <a:xfrm>
            <a:off x="4114800" y="1523880"/>
            <a:ext cx="4621320" cy="4146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H="1">
            <a:off x="2286000" y="4648320"/>
            <a:ext cx="990720" cy="53316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518148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 va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80880" y="2286000"/>
          <a:ext cx="3587760" cy="30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0"/>
                    <a:ext cx="358776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33520" y="5638680"/>
            <a:ext cx="297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321 block followed by large interconnec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Interconnect Tree Driven by an AOI321 Gat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3505320"/>
            <a:ext cx="3049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6712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s_variation_iscas" descr=""/>
          <p:cNvPicPr/>
          <p:nvPr/>
        </p:nvPicPr>
        <p:blipFill>
          <a:blip r:embed="rId1"/>
          <a:srcRect l="4796" t="2131" r="9592" b="2131"/>
          <a:stretch/>
        </p:blipFill>
        <p:spPr>
          <a:xfrm>
            <a:off x="4267080" y="1523880"/>
            <a:ext cx="4435560" cy="4348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1295280" y="3962520"/>
            <a:ext cx="609840" cy="9144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4876920"/>
            <a:ext cx="198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istance va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6095880"/>
            <a:ext cx="304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920" y="2286000"/>
          <a:ext cx="3809880" cy="30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0"/>
                    <a:ext cx="38098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09480" y="5638680"/>
            <a:ext cx="297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321 block followed by large interconnec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00200"/>
            <a:ext cx="29718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: Multiple-in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-OR-Inver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As an Analysis Tool : Comparison of Delay Metrics 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718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unbalancedInd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587840" cy="3962160"/>
          </a:xfrm>
          <a:prstGeom prst="rect">
            <a:avLst/>
          </a:prstGeom>
          <a:ln w="0">
            <a:noFill/>
          </a:ln>
        </p:spPr>
      </p:pic>
      <p:pic>
        <p:nvPicPr>
          <p:cNvPr id="201" name="comparebalanced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495680" cy="3962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5105520"/>
            <a:ext cx="396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pagation delay in balanced tree with variation in one load capacit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5105520"/>
            <a:ext cx="3429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pagation delay in unbalanced tree with variation in indu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6095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NO metric is good for every parameter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17880" y="5670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Schedul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Jan. to Feb. 2003: 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Integrate models with Logic Abstractor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Extend models to geometry and design parameters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Test on Boeing’s Digital Pressure Belt (report at Feb. PI meeting)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Key Objectives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53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Develop efficient models for delay and noise estimation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Develop efficient Methodology for Verification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Breakthrough Approach: </a:t>
            </a:r>
            <a:r>
              <a:rPr b="0" i="1" lang="en-US" sz="1800" spc="-1" strike="noStrike">
                <a:solidFill>
                  <a:srgbClr val="133eb9"/>
                </a:solidFill>
                <a:latin typeface="Arial"/>
              </a:rPr>
              <a:t>Symbolic Analysis Mixing Boolean and Algebra for Concurrent Gate and Interconnect Delay Estimation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Motivation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83055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Efficient Verification of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Millions of transistors and R,L,C parasit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Spice simulations too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Can live with estimation with less than 10%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Insight on interconnect networks and gate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Delay is a fun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Input logic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transistor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input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input even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parasitic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output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Reducing performance gap between custom and semi-cus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History of Interconnect Modeling and Reduction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6924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Interconnect modeling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Numerical reduction of interconnect models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Elmore model estimates signal delay of RC model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First moment of the impulse response of a network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AWE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Considers higher moments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Moments derived from state equations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Transfer functions are comprised of moments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PVL, PRIMA, etc. 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9880" y="1447920"/>
          <a:ext cx="2286000" cy="14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228600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352680" y="1828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133eb9"/>
          </a:solidFill>
          <a:ln w="12600">
            <a:solidFill>
              <a:srgbClr val="133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7200" y="1828800"/>
            <a:ext cx="2590920" cy="685800"/>
            <a:chOff x="457200" y="1828800"/>
            <a:chExt cx="2590920" cy="685800"/>
          </a:xfrm>
        </p:grpSpPr>
        <p:grpSp>
          <p:nvGrpSpPr>
            <p:cNvPr id="113" name=""/>
            <p:cNvGrpSpPr/>
            <p:nvPr/>
          </p:nvGrpSpPr>
          <p:grpSpPr>
            <a:xfrm>
              <a:off x="457200" y="1828800"/>
              <a:ext cx="2590920" cy="685800"/>
              <a:chOff x="457200" y="1828800"/>
              <a:chExt cx="2590920" cy="68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1066680" y="1828800"/>
                <a:ext cx="1981440" cy="228600"/>
              </a:xfrm>
              <a:prstGeom prst="cube">
                <a:avLst>
                  <a:gd name="adj" fmla="val 3680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7200" y="2286000"/>
                <a:ext cx="1981080" cy="228600"/>
              </a:xfrm>
              <a:prstGeom prst="cube">
                <a:avLst>
                  <a:gd name="adj" fmla="val 3680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90720" y="1905120"/>
                <a:ext cx="685800" cy="380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240"/>
                    </a:moveTo>
                    <a:lnTo>
                      <a:pt x="336" y="0"/>
                    </a:lnTo>
                    <a:lnTo>
                      <a:pt x="432" y="0"/>
                    </a:lnTo>
                    <a:lnTo>
                      <a:pt x="96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143000" y="1905120"/>
              <a:ext cx="533520" cy="380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240"/>
                  </a:moveTo>
                  <a:lnTo>
                    <a:pt x="336" y="0"/>
                  </a:lnTo>
                  <a:lnTo>
                    <a:pt x="336" y="96"/>
                  </a:lnTo>
                  <a:lnTo>
                    <a:pt x="144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666880" y="5562720"/>
                <a:ext cx="4008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9" name=""/>
          <p:cNvGraphicFramePr/>
          <p:nvPr/>
        </p:nvGraphicFramePr>
        <p:xfrm>
          <a:off x="5889600" y="1290600"/>
          <a:ext cx="3102120" cy="160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9600" y="1290600"/>
                    <a:ext cx="3102120" cy="16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095880" y="19051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133eb9"/>
          </a:solidFill>
          <a:ln w="12600">
            <a:solidFill>
              <a:srgbClr val="133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1523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Traditio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Methods of Logic Delay Estimation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Calculation of Single Equivalent Resistance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Estimating Load seen by the logic block based on moment matching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Numerical  methods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181480" y="1295280"/>
          <a:ext cx="3429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295280"/>
                    <a:ext cx="3429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57200" y="518148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550"/>
              </a:spcBef>
              <a:buClr>
                <a:srgbClr val="581b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1b7d"/>
                </a:solidFill>
                <a:latin typeface="Arial"/>
              </a:rPr>
              <a:t>Position-based resistance model adds accu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81b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1b7d"/>
                </a:solidFill>
                <a:latin typeface="Arial"/>
              </a:rPr>
              <a:t>Logic and Interconnect together forms a switched R(L)C  circu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81b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81b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1b7d"/>
                </a:solidFill>
                <a:latin typeface="Arial"/>
              </a:rPr>
              <a:t>Single delay expression of the whole network under any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1523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Traditional Method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7242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Difference from the traditio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Symbolic Delay Estimation for Logic blocks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6924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eb9"/>
                </a:solidFill>
                <a:latin typeface="Arial"/>
              </a:rPr>
              <a:t>SAMBA</a:t>
            </a:r>
            <a:r>
              <a:rPr b="0" lang="en-US" sz="2400" spc="-1" strike="noStrike">
                <a:solidFill>
                  <a:srgbClr val="133eb9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133eb9"/>
                </a:solidFill>
                <a:latin typeface="Arial"/>
              </a:rPr>
              <a:t>Symbolic Analysis Mixing Boolean and Algebra for Concurrent Gate and Interconnect Delay Estimation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Incorporates signal delays symbolically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Combines Boolean sensitizing functions and state equations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Considers all possible Boolean sensitizing conditions in a logic block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971800"/>
          <a:ext cx="7462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46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438280" y="3048120"/>
          <a:ext cx="1447920" cy="69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048120"/>
                    <a:ext cx="14479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828800" y="3352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4952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324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8600" y="3886200"/>
          <a:ext cx="419112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886200"/>
                    <a:ext cx="41911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0" y="3233880"/>
          <a:ext cx="4343400" cy="232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233880"/>
                    <a:ext cx="434340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84556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33eb9"/>
                </a:solidFill>
                <a:latin typeface="Arial"/>
              </a:rPr>
              <a:t>Semi-Symbolic Moment Calculation, Delay and Noise Analysis with Multi-Terminal Determinant Decision Diagrams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Semi-symbolically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Key components kept as symbols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Less important components represented numerically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Calculates circuit moments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Delay and noise in interconnect networks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133e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3eb9"/>
                </a:solidFill>
                <a:latin typeface="Arial"/>
              </a:rPr>
              <a:t>Damping factor</a:t>
            </a: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133e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3eb9"/>
                </a:solidFill>
                <a:latin typeface="Arial"/>
              </a:rPr>
              <a:t>Natural frequency</a:t>
            </a: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133e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3eb9"/>
                </a:solidFill>
                <a:latin typeface="Arial"/>
              </a:rPr>
              <a:t>Normalized overshoot</a:t>
            </a: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133e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3eb9"/>
                </a:solidFill>
                <a:latin typeface="Arial"/>
              </a:rPr>
              <a:t>Propagation delay</a:t>
            </a: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952880" y="1523880"/>
          <a:ext cx="39355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523880"/>
                    <a:ext cx="39355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Semi-Symbolic Delay Estimation for Interconnects 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057400" y="3429000"/>
                <a:ext cx="901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057400" y="4114800"/>
                <a:ext cx="914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ϖ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81080" y="4724280"/>
                <a:ext cx="91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πς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752480" y="5410080"/>
                <a:ext cx="16002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ς</m:t>
                                    </m:r>
                                  </m:num>
                                  <m:den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5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ς</m:t>
                        </m:r>
                      </m:num>
                      <m:den>
                        <m:sSub>
                          <m:e>
                            <m:r>
                              <m:t xml:space="preserve">ϖ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4952880" y="5334120"/>
          <a:ext cx="373716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5334120"/>
                    <a:ext cx="37371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095880" y="2514600"/>
            <a:ext cx="53352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2743200"/>
            <a:ext cx="38088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1722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Many Such Delay Metrics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80880" y="2590920"/>
          <a:ext cx="373392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373392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Interconnect Tree Driven by an AOI321 Gat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5181480"/>
            <a:ext cx="3276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 variation of NAND Gate due to variations in 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066680" y="3047760"/>
            <a:ext cx="457200" cy="6858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18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wp_variation_iscas" descr=""/>
          <p:cNvPicPr/>
          <p:nvPr/>
        </p:nvPicPr>
        <p:blipFill>
          <a:blip r:embed="rId3"/>
          <a:srcRect l="4796" t="2131" r="9592" b="2131"/>
          <a:stretch/>
        </p:blipFill>
        <p:spPr>
          <a:xfrm>
            <a:off x="4332240" y="1523880"/>
            <a:ext cx="4251240" cy="4419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43000" y="2743200"/>
            <a:ext cx="106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p va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486400"/>
            <a:ext cx="297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321 block followed by large interconnec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80880" y="2467080"/>
          <a:ext cx="373392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67080"/>
                    <a:ext cx="373392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Interconnect Tree Driven by an AOI321 Gat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191120"/>
            <a:ext cx="304920" cy="4572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718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wn_variation_iscas" descr=""/>
          <p:cNvPicPr/>
          <p:nvPr/>
        </p:nvPicPr>
        <p:blipFill>
          <a:blip r:embed="rId3"/>
          <a:srcRect l="4796" t="2131" r="9592" b="2131"/>
          <a:stretch/>
        </p:blipFill>
        <p:spPr>
          <a:xfrm>
            <a:off x="4267080" y="1523880"/>
            <a:ext cx="4392720" cy="4114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90720" y="4572000"/>
            <a:ext cx="106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n va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5486400"/>
            <a:ext cx="297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321 block followed by large interconnec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16:43:37Z</dcterms:created>
  <dc:creator>Alicia Manthe</dc:creator>
  <dc:description/>
  <dc:language>en-US</dc:language>
  <cp:lastModifiedBy>nikitin</cp:lastModifiedBy>
  <dcterms:modified xsi:type="dcterms:W3CDTF">2002-12-09T17:28:06Z</dcterms:modified>
  <cp:revision>16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668901</vt:r8>
  </property>
  <property fmtid="{D5CDD505-2E9C-101B-9397-08002B2CF9AE}" pid="3" name="_AuthorEmail">
    <vt:lpwstr>amanthe@u.washington.edu</vt:lpwstr>
  </property>
  <property fmtid="{D5CDD505-2E9C-101B-9397-08002B2CF9AE}" pid="4" name="_AuthorEmailDisplayName">
    <vt:lpwstr>Alicia Manthe</vt:lpwstr>
  </property>
  <property fmtid="{D5CDD505-2E9C-101B-9397-08002B2CF9AE}" pid="5" name="_EmailSubject">
    <vt:lpwstr>important files</vt:lpwstr>
  </property>
</Properties>
</file>