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FC3-F8C9-4BD5-BC04-E1D4C382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6DC-943A-4959-B08E-6B8810DB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08D-5F8C-47B8-A787-A9A317A0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375-0AAA-42E2-9E31-615CDBC7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424-05B4-45E3-A7A8-42C29726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9F5-03E1-440C-B92B-7E159301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EC5-0F5E-4508-B23B-84D59E67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688-8683-4C93-B51B-F433370D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9B9-BFE1-4173-836D-A6F19EE3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A4A-5A03-4DD0-95B6-677924C0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6F2-7886-480F-A5FD-567373BC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061-3809-4140-AA67-9A9D7C05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17CC-3872-44C6-8E44-892761392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174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4600" y="401760"/>
            <a:ext cx="1042920" cy="45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560" y="111456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29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EA21-3411-4B74-8B62-4CD1AEC64356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99760" y="58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8880" y="114480"/>
            <a:ext cx="76708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ast Iterative Solver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upled EM-Circuit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00" y="1146240"/>
            <a:ext cx="8785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: Dipanjan G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: Vikram Jandhy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R based, Fast Iterative Solver for Circuit-EM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s and accelerates large scal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le to infinite multi-dielectric Green’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applied to expedite Finite Dielectr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ness: Amenable to Fast Direct Solver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612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est Structures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746080" cy="1949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720" y="3289320"/>
            <a:ext cx="29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piral I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2779560" cy="184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21200" y="57150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l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683160" y="4140360"/>
            <a:ext cx="2047680" cy="1604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32200" y="56926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2598840" cy="1617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677640" y="56545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m1s2w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935680" y="1365120"/>
            <a:ext cx="2979720" cy="2043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676200" y="334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-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657600" y="1676520"/>
            <a:ext cx="2300400" cy="1628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86960" y="317808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piral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erformance Chart (60,000 edges)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89000" y="1295280"/>
          <a:ext cx="8691480" cy="4222800"/>
        </p:xfrm>
        <a:graphic>
          <a:graphicData uri="http://schemas.openxmlformats.org/drawingml/2006/table">
            <a:tbl>
              <a:tblPr/>
              <a:tblGrid>
                <a:gridCol w="1144440"/>
                <a:gridCol w="1071720"/>
                <a:gridCol w="1041480"/>
                <a:gridCol w="1089000"/>
                <a:gridCol w="1087200"/>
                <a:gridCol w="1146240"/>
                <a:gridCol w="1147680"/>
                <a:gridCol w="9637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        set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         set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-c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/L-fr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ve time(H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Spi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der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 /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le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6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6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 /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 Spir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3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7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6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/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a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7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8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28600" y="563076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715000"/>
            <a:ext cx="8610480" cy="10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 solver :                       54GB memory  ||  32hrs to setup   ||   1200days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ow Iterative Solver :    54GB memory  ||  32hrs to setup   ||   126hrs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1000" y="510840"/>
            <a:ext cx="8744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esent Status and Continuing Work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9920" y="1114560"/>
            <a:ext cx="773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960" y="119376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it and solve large problem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ork with arbitrary Green’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Pre-conditioner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 of interior medium Green’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to MFIE and PMCH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Direct Solver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EM-Circuit Matrix Solver Schem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63200"/>
            <a:ext cx="8751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pled System Matrix: Different scalings lead to ill-cond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1337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2590920"/>
            <a:ext cx="8238960" cy="1066320"/>
            <a:chOff x="457200" y="2590920"/>
            <a:chExt cx="8238960" cy="1066320"/>
          </a:xfrm>
        </p:grpSpPr>
        <p:graphicFrame>
          <p:nvGraphicFramePr>
            <p:cNvPr id="54" name=""/>
            <p:cNvGraphicFramePr/>
            <p:nvPr/>
          </p:nvGraphicFramePr>
          <p:xfrm>
            <a:off x="5562720" y="2765520"/>
            <a:ext cx="3133440" cy="48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2720" y="2765520"/>
                      <a:ext cx="313344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6" name=""/>
            <p:cNvGrpSpPr/>
            <p:nvPr/>
          </p:nvGrpSpPr>
          <p:grpSpPr>
            <a:xfrm>
              <a:off x="457200" y="2590920"/>
              <a:ext cx="4863960" cy="1066320"/>
              <a:chOff x="457200" y="2590920"/>
              <a:chExt cx="4863960" cy="10663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457200" y="2590920"/>
                <a:ext cx="1143000" cy="1066320"/>
                <a:chOff x="457200" y="2590920"/>
                <a:chExt cx="1143000" cy="10663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57200" y="2594880"/>
                  <a:ext cx="889200" cy="7966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200" y="3391560"/>
                  <a:ext cx="889200" cy="2656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346400" y="3391560"/>
                  <a:ext cx="253800" cy="2656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344600" y="2590920"/>
                  <a:ext cx="255240" cy="800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2" name=""/>
              <p:cNvGraphicFramePr/>
              <p:nvPr/>
            </p:nvGraphicFramePr>
            <p:xfrm>
              <a:off x="2428920" y="2590920"/>
              <a:ext cx="2143080" cy="968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28920" y="2590920"/>
                        <a:ext cx="2143080" cy="9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4" name=""/>
              <p:cNvSpPr/>
              <p:nvPr/>
            </p:nvSpPr>
            <p:spPr>
              <a:xfrm>
                <a:off x="1689120" y="30481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35360" y="30733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04920" y="4038480"/>
            <a:ext cx="8381880" cy="1092240"/>
            <a:chOff x="304920" y="4038480"/>
            <a:chExt cx="8381880" cy="1092240"/>
          </a:xfrm>
        </p:grpSpPr>
        <p:sp>
          <p:nvSpPr>
            <p:cNvPr id="67" name=""/>
            <p:cNvSpPr/>
            <p:nvPr/>
          </p:nvSpPr>
          <p:spPr>
            <a:xfrm>
              <a:off x="304920" y="4114800"/>
              <a:ext cx="8381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uit part pre-solved by Sparse Solver to obta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aining problem solved by Fast QR Iterative meth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6781680" y="4038480"/>
            <a:ext cx="3924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038480"/>
                      <a:ext cx="3924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R Iterative Solver Schem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1523880"/>
            <a:ext cx="8034480" cy="2349720"/>
            <a:chOff x="457200" y="1523880"/>
            <a:chExt cx="8034480" cy="2349720"/>
          </a:xfrm>
        </p:grpSpPr>
        <p:sp>
          <p:nvSpPr>
            <p:cNvPr id="72" name=""/>
            <p:cNvSpPr/>
            <p:nvPr/>
          </p:nvSpPr>
          <p:spPr>
            <a:xfrm>
              <a:off x="6781680" y="304812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=1...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50532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 &lt; (m,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1733400"/>
              <a:ext cx="965160" cy="8654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30720" y="1776240"/>
              <a:ext cx="965160" cy="865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30360" y="2097000"/>
              <a:ext cx="17398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" name=""/>
            <p:cNvGraphicFramePr/>
            <p:nvPr/>
          </p:nvGraphicFramePr>
          <p:xfrm>
            <a:off x="1959120" y="1614600"/>
            <a:ext cx="863280" cy="47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59120" y="1614600"/>
                      <a:ext cx="86328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555480" y="2811600"/>
              <a:ext cx="1117800" cy="102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77760" y="3138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9200" y="2811600"/>
              <a:ext cx="457200" cy="102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90760" y="2817720"/>
              <a:ext cx="965160" cy="49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723960" y="3048120"/>
            <a:ext cx="790560" cy="4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3960" y="3048120"/>
                      <a:ext cx="79056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" name=""/>
            <p:cNvGraphicFramePr/>
            <p:nvPr/>
          </p:nvGraphicFramePr>
          <p:xfrm>
            <a:off x="3438360" y="2833560"/>
            <a:ext cx="682920" cy="408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38360" y="2833560"/>
                      <a:ext cx="68292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2284560" y="2998800"/>
            <a:ext cx="745920" cy="4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4560" y="2998800"/>
                      <a:ext cx="7459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9" name=""/>
            <p:cNvGrpSpPr/>
            <p:nvPr/>
          </p:nvGrpSpPr>
          <p:grpSpPr>
            <a:xfrm>
              <a:off x="558720" y="2039400"/>
              <a:ext cx="761760" cy="284040"/>
              <a:chOff x="558720" y="2039400"/>
              <a:chExt cx="761760" cy="284040"/>
            </a:xfrm>
          </p:grpSpPr>
          <p:sp>
            <p:nvSpPr>
              <p:cNvPr id="90" name=""/>
              <p:cNvSpPr/>
              <p:nvPr/>
            </p:nvSpPr>
            <p:spPr>
              <a:xfrm flipV="1">
                <a:off x="558720" y="204444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58720" y="220680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117440" y="220680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807120" y="221472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838080" y="203904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1117440" y="204444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425760" y="2043000"/>
              <a:ext cx="761760" cy="282240"/>
              <a:chOff x="3425760" y="2043000"/>
              <a:chExt cx="761760" cy="28224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3425760" y="204840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425760" y="221004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984480" y="221004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674160" y="221796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705120" y="204300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984480" y="204840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3" name=""/>
            <p:cNvGraphicFramePr/>
            <p:nvPr/>
          </p:nvGraphicFramePr>
          <p:xfrm>
            <a:off x="6095880" y="1523880"/>
            <a:ext cx="2395800" cy="62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5880" y="1523880"/>
                      <a:ext cx="2395800" cy="625680"/>
                    </a:xfrm>
                    <a:prstGeom prst="rect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553080" y="2362320"/>
            <a:ext cx="1300320" cy="461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53080" y="2362320"/>
                      <a:ext cx="1300320" cy="461880"/>
                    </a:xfrm>
                    <a:prstGeom prst="rect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7" name=""/>
          <p:cNvSpPr/>
          <p:nvPr/>
        </p:nvSpPr>
        <p:spPr>
          <a:xfrm>
            <a:off x="457200" y="1219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5000" y="126828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1560" y="1295280"/>
            <a:ext cx="14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ob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840" y="4281480"/>
            <a:ext cx="681768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Gram-Schmidt approach for QR de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tructure uses tight bound, k-d trees unlike Fast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and P structures compress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matrix compressed patch by p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matrix compressed 3*patch by 3*p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works independent of Green’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170000"/>
            <a:ext cx="7305840" cy="5479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ypical Matrix Structur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656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ime and Memory Complexity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648320" cy="380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920" y="5230800"/>
            <a:ext cx="875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verhead of storing the pre-conditioner and the 3 times patch X 3 times p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matrix is more than overcome by the compression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the set up and solve time of the FAST QR SOLVER is O(Nlo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267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ear-Field Preconditioner Exampl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130400"/>
            <a:ext cx="3886200" cy="2325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12880" y="337824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by 5 Bus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1130400"/>
            <a:ext cx="3705480" cy="2450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39400" y="33685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st level bo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8280" y="3718080"/>
            <a:ext cx="3919680" cy="264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48240" y="621036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ghbors of a smallest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6200" y="4800600"/>
            <a:ext cx="304560" cy="3063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76840" y="2044800"/>
            <a:ext cx="152640" cy="152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809880"/>
            <a:ext cx="236196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8120" y="4265640"/>
            <a:ext cx="15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ted EF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rix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ghbor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92640" y="594360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rows belonging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st box under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e-conditioner Characteristics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043160" cy="370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76920" y="1311120"/>
            <a:ext cx="3873240" cy="3667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24200" y="5229360"/>
            <a:ext cx="57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gen Value Distribution is made better by pre-condi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1320" y="148752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 number = 1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15440" y="152568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 number =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136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econditioner Performanc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2424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3600" y="5688000"/>
            <a:ext cx="731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ITERATIONS FOR PRECONDITIONE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PRECONDIONED MA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3200" y="1465200"/>
            <a:ext cx="4415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alidation Exampl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59200" cy="3808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733560" cy="2489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925880" y="1155600"/>
            <a:ext cx="3581640" cy="284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280" y="5445000"/>
            <a:ext cx="49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DUCTANCE VALUE CONVER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INCREASING NUMBER OF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9:21:35Z</dcterms:created>
  <dc:creator>Vikram Jandhyala</dc:creator>
  <dc:description/>
  <dc:language>en-US</dc:language>
  <cp:lastModifiedBy>EE</cp:lastModifiedBy>
  <dcterms:modified xsi:type="dcterms:W3CDTF">2002-12-09T08:16:35Z</dcterms:modified>
  <cp:revision>15</cp:revision>
  <dc:subject/>
  <dc:title>PowerPoint Presentation</dc:title>
</cp:coreProperties>
</file>