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5791320"/>
            <a:ext cx="77724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5867280"/>
            <a:ext cx="745920" cy="7621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144756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4419720" y="5867280"/>
          <a:ext cx="8204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5867280"/>
                    <a:ext cx="820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ectromagnetic Modeling of Integrated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it Systems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vel Nikitin, Richard C.-J. 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ember 10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HDL-AMS(E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HDL-AMS can be extended to include capability for EM modeling, new extended language can be called VHDL-AMS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r-independent syst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-circuit communicatio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modeling of EM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ion of model exchange between desig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M Modeling Vi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1676520"/>
          <a:ext cx="710856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10856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nified language description of mixed EM-circuit systems is an attractiv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f EM modeling requirements from the language perspective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EM-circuit interaction and study of hierarchy in EM systems are open research top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lestones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pril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in description of EM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Jun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-circuit interaction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ptembe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ing with existing EM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Decembe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seful Referen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Ruehli, A. Cangellaris, “Progress in the methodologies for the electrical modeling of interconnects and electronic packages”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edings of the IE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ol. 89, no. 5, Ma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. Achar, M. Nakhla, “Simulation of high-speed interconnects”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edings of the IE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ol. 89, no. 5, Ma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 Kao, C. Lo, M. Basel, R. Singh, “Parasitic Extraction: Current State of the Art and Future Trends”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edings of the IE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ol. 89, no. 5, Ma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omanowicz, “Methodology for the modeling and simulation of microsystems”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luwer Academic Publis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effects in 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EM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-EM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, functionality, and speed of integrated circuits increase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effects start affecting system performance when wavelength becomes comparable to system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EM simulation of the coupled system is necessary in many cases – for SoC, SiP, 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EM solving tools are available, each with specific capabilities and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use of them for IC design is non-trivial, especially if designer is not an EM exp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circuit problems, there is no industry standard for describing and treating EM problem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structure behavior depends on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lectromagnetic Effec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EM structures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 components, transmission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ics and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onn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groun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on and interference (E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M Solving Metho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360" y="2742840"/>
            <a:ext cx="4647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equ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nite difference (FD, FDTD, TL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nite element method (F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 equa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Method of moments (M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Boundary element method (B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600200"/>
          <a:ext cx="41907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41907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ethod Comparis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2057400"/>
          <a:ext cx="8496360" cy="2949480"/>
        </p:xfrm>
        <a:graphic>
          <a:graphicData uri="http://schemas.openxmlformats.org/drawingml/2006/table">
            <a:tbl>
              <a:tblPr/>
              <a:tblGrid>
                <a:gridCol w="1698840"/>
                <a:gridCol w="1654200"/>
                <a:gridCol w="1447560"/>
                <a:gridCol w="2057400"/>
                <a:gridCol w="163836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ing matr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tion 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ffer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elds in  volu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p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 (FDTD), frequency (F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x geometry and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Integ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urrents on conducting p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D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fining Circuit-EM Intera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representation of EM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 structures are modeled separately from circuits as equivalent circuits or S-parameter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ield-circuit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stepping EM solution (FDTD) and circuit solution are interlaced in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for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and EM equations are coupled together in a single MNA matrix (PEEC), the interaction is defined via voltages and currents at common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nified Languag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nified hierarchic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pable of describing a complex mixed system at various abstractio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communication interface between parts of the system that have different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Example: VHDL-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ixed digital and analog circui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one to include MEMS devices, thermal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3:24:16Z</dcterms:created>
  <dc:creator>nikitin</dc:creator>
  <dc:description/>
  <dc:language>en-US</dc:language>
  <cp:lastModifiedBy>nikitin</cp:lastModifiedBy>
  <dcterms:modified xsi:type="dcterms:W3CDTF">2002-12-10T18:31:06Z</dcterms:modified>
  <cp:revision>87</cp:revision>
  <dc:subject/>
  <dc:title>EM modeling requirements</dc:title>
</cp:coreProperties>
</file>