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3C4-2EBE-44C9-BFDC-EF2828A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3E4-D87B-4A27-9B0B-84B4AEF0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E35-9E62-4171-BC02-1CCA103D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5CC-EA4C-4280-A87B-0B02F928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AFE-78AF-414B-B9A9-8893790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FEA-26DC-4F55-BB52-624E99A1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1B4-D93D-4D33-BD70-9060CCDF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420-C06D-4BE1-96DB-00E2A749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F53-E258-4204-A5E2-C1512A5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9ED-E2EA-4A77-9B1E-197071F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2CD-29E9-4D4B-B28F-3BD160E7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DAA-A326-45FB-8F68-471C405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2560" cy="14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25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9FC-2C81-450F-8AC1-34845DA4B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606240" cy="66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145880" cy="642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505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71748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3920" y="6188040"/>
            <a:ext cx="325260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2971800"/>
            <a:ext cx="35053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84240" bIns="842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om Fridd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ssociate Technical Fellow,  Microelectron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Electronic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attle, 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hone: (253) 773-9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752480"/>
            <a:ext cx="411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resented to D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920"/>
            <a:ext cx="6934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eing CoSMoS Too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sm" descr="NeoCad Logo"/>
          <p:cNvPicPr/>
          <p:nvPr/>
        </p:nvPicPr>
        <p:blipFill>
          <a:blip r:embed="rId5"/>
          <a:stretch/>
        </p:blipFill>
        <p:spPr>
          <a:xfrm>
            <a:off x="1600200" y="1600200"/>
            <a:ext cx="1446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ROST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tract high-level netlist from layout databas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mulation of gate-level behavioral model much faster than transistor-level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lexible, process-independent input fi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yout verification by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43400" y="3048120"/>
          <a:ext cx="4495680" cy="35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8120"/>
                    <a:ext cx="4495680" cy="35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876920" y="19810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Verification, DMS Part Reverse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57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Hierarchy Extrac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alog library retarget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eserves expert knowledge from existing layout by feature recognition, e.g. symmetry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cales and compacts layout to new technology ru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ows reuse of handcrafted analog layouts in new proces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486400" y="1752480"/>
          <a:ext cx="345456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752480"/>
                    <a:ext cx="345456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00600" y="60199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Library port between compati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562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chnology Fi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z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803200" y="3924000"/>
            <a:ext cx="990720" cy="1219320"/>
          </a:xfrm>
          <a:custGeom>
            <a:avLst/>
            <a:gdLst>
              <a:gd name="textAreaLeft" fmla="*/ 330120 w 990720"/>
              <a:gd name="textAreaRight" fmla="*/ 848520 w 990720"/>
              <a:gd name="textAreaTop" fmla="*/ 702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41008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ully-Routed Re-Sized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960" y="449568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4120" y="50292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57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Property Reuse Analog IC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uto-generate simulator model code from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ows expression of device behavior in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ves much time generating all files necessary for simulator integr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irtually eliminates debug time as code is generated correctl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6" name="bmac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8288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62720" y="13716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Foundry process setup, modeling accel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13372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666880"/>
            <a:ext cx="457200" cy="533520"/>
          </a:xfrm>
          <a:prstGeom prst="downArrow">
            <a:avLst>
              <a:gd name="adj1" fmla="val 57639"/>
              <a:gd name="adj2" fmla="val 48967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438960" y="2095560"/>
            <a:ext cx="457200" cy="533520"/>
          </a:xfrm>
          <a:prstGeom prst="downArrow">
            <a:avLst>
              <a:gd name="adj1" fmla="val 53472"/>
              <a:gd name="adj2" fmla="val 53489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HDL-AM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60958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IC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havioral Modeling Analyzer 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Resul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8288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267080"/>
            <a:ext cx="8229600" cy="20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vity Improvem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All tools are capable of reducing engineering flow time for their function.  IPRAIL can greatly reduce library port time between compatible processes – may require adjustments for new parasi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Some user documentation and initial setup effort remains.  File structure changes needed for integration into production environ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No difficult skill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FROSTY could augment existing design verification, IPRAIL eliminates manual layout work in porting libra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36232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9548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4290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rro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8288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5 – 1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2952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RO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36232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8954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Commen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tools performed their function – Actual hands-on work needed for a final evalu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-release versions evaluated represent an initial capability with growth potential, e.g. number of circuits recognized by Fros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me tools would benefit from integration with a design database system like Milkyway or DFII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maining Task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vide continuing design center support to develop additional CoSMoS functionality as it becomes availabl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stallation of CoSMoS tool set at Boe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4Q03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nds-on benchmark CoSMoS tools against existing and other automated design tools to quantify design time and error reduc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ols Evaluate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maining work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83055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is in a unique position to evaluate EDA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ctively using a state-of-the-art military ASIC developmen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lated program involvement – e.g. ACME, DTRA-RHM, VD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foundry-captive:  Foundry-flexible design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EDA vendor-ca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apability ranges from front-end to back-end and test, RF, Analog, Digital, and mixed-sign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chnology background:  Sub-micron, SiGe, SOI, Bipolar, CMO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Role on Co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tribute test cases, user feedback, and design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valuate too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vide EDA deployment test 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7" name="big%20chart%20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447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of Orora Tools to Avoid a Desig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oeSTM Problem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8b 40 MHz Pipelined ADC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design did not function on first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fficult to diagnos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peatability issu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quired experienc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sign, test, or process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use:  Routing via mismat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7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Arana/Arsyn had Been Used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test diagnosis stage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horter analysis/test time – parasitic effect analy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Quicker to find a solu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design review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mis-matching problem was spotted by the very experienced designers, however, thought to be OK (only 1 or 2 ohms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ools could have avoided a second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 in the design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nsitivity analysis helps designers spot critical design point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syn helps obtain more robust design – larger design space explored, what if analysis, automated sear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pact of  Arana/Arsy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test use by Boeing SS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design time in hal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expertise needed for succe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expensive debugging and additional pa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00600"/>
            <a:ext cx="792504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87692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a/Arsyn has become a key part of the Boeing mixed-signal desig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3886200"/>
            <a:ext cx="7620120" cy="0"/>
          </a:xfrm>
          <a:prstGeom prst="line">
            <a:avLst/>
          </a:prstGeom>
          <a:ln w="7632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stablish Evalua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752480"/>
            <a:ext cx="0" cy="304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64832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057400"/>
            <a:ext cx="32767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pare Design Developm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0481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3048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st CoSMoS at Boe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0292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6386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60199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nal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STY, IPRAIL, BM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6576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Rounded MT Bold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:  Boeing Task Overview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911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ining CoSMoS Functionality &amp; Final Ver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ed three tools from the CoSMoS tools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MAC, Frosty, and IPRAIL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Criteria: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gineering time saving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itability for production engineering design flow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ase of use and skill requirem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team:  5 Digital/Analog/RF/EDA Boeing engine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include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W presentation and tool demonstr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stallation from scratch on a clean system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20:08:07Z</dcterms:created>
  <dc:creator>Amort, Anthony L</dc:creator>
  <dc:description/>
  <dc:language>en-US</dc:language>
  <cp:lastModifiedBy>Friddell, Thomas H</cp:lastModifiedBy>
  <dcterms:modified xsi:type="dcterms:W3CDTF">2003-06-19T00:10:27Z</dcterms:modified>
  <cp:revision>15</cp:revision>
  <dc:subject/>
  <dc:title>Tom, put a title on this</dc:title>
</cp:coreProperties>
</file>