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88DA-599B-4F42-B971-3673356F8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94960" y="38617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FE64-726F-4DC7-A579-4B7A851DD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33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B6F3-17C2-465E-A0D5-DAC3F2E42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464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5432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9496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464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5432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9B26-7410-4885-8D82-E4DB087C9D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6D39-060B-4F7B-A81F-4419728106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9F12-4425-4851-9B8F-DF237162A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425F-6CD1-44EB-836D-740B1FC10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C29D-3190-428D-9B50-3E4606474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0440" y="75960"/>
            <a:ext cx="86486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8B78-5410-4076-A167-9B9F4C25F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40DE-34E2-4C1C-ACF3-97F2A9590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33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CC21-9374-45D9-AA01-43FFE4580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8D5E-9B3B-440D-837F-AFDBD7D7F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2036-BE42-4E1A-A3BE-8A14F6C2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95280"/>
            <a:ext cx="906768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Coupled Simulation and Modeling of Systems-on-Chips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lectromagnetic Modeling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77880" cy="79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30960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60880" y="5049720"/>
            <a:ext cx="367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16960" y="4800600"/>
            <a:ext cx="60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PA NeoCAD Quarterl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e 19-20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 White,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D499-6D61-4DC8-8AD6-710FE6906E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5392-631C-40F5-9AE9-6EE4D20DF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TDFEM Overview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ar multigrid sol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statics, temperatur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lds fastest sol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m elements for Micromesh compat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automatic Radiation Boundary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specific current/voltage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fa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l-cu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grid solver for implicit T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x speed-up over C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ing internal R&amp;D, still under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lanar wavegu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indu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Challenge interconnect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(tod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7ADD-1726-436A-BFD7-1FACDAF778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5" name="slant_view_metal000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6132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864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VCO test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3080" y="17524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71440" y="2057400"/>
            <a:ext cx="152388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8840" y="57913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19520" y="4038120"/>
            <a:ext cx="304560" cy="175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4D5A-3C83-4621-8263-4924254BF2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2" name="pboth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30760" y="16606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166068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voltage (x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98108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19720" y="2362320"/>
            <a:ext cx="761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54720" y="43434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=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4960" y="5791320"/>
            <a:ext cx="733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al model can be computed from this data, put into VHDL-AMS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CBCA-B713-4671-8368-B62B89F88F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man-days to make me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hours to simu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 1 million el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 6 million unknow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computer parallel (via MPI) compu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solve 100x larger problems on HP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an-day to visu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fa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l-cu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lver not yet integrated into the production code…expect 10-100x speed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0DA7-3BC3-4AA4-A4C5-99DB94E31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F8DD-9484-458A-AF30-CB29389D5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What’s Next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 fa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l-cur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lver into TDFEM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capability…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ster than FDTD-ADI and applicable for arbitrary mes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vioral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MOS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e Paper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t transfer in 3D circuits. Collaboration with Minnesota (Sapatnek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y coupled EM-Device Physics. Collaboration with Stanford (Dut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7E16-8D15-48DC-B9AD-E696E7E3E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Algebraic Multigrid Illustrated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32480" y="1263600"/>
            <a:ext cx="8404200" cy="5519520"/>
            <a:chOff x="132480" y="1263600"/>
            <a:chExt cx="8404200" cy="5519520"/>
          </a:xfrm>
        </p:grpSpPr>
        <p:sp>
          <p:nvSpPr>
            <p:cNvPr id="207" name=""/>
            <p:cNvSpPr/>
            <p:nvPr/>
          </p:nvSpPr>
          <p:spPr>
            <a:xfrm>
              <a:off x="2516040" y="3247920"/>
              <a:ext cx="955800" cy="1228680"/>
            </a:xfrm>
            <a:prstGeom prst="line">
              <a:avLst/>
            </a:prstGeom>
            <a:ln w="57240">
              <a:solidFill>
                <a:srgbClr val="f95a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154480" y="3247560"/>
              <a:ext cx="959040" cy="1228680"/>
            </a:xfrm>
            <a:prstGeom prst="line">
              <a:avLst/>
            </a:prstGeom>
            <a:ln w="57240">
              <a:solidFill>
                <a:srgbClr val="f95a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8520" y="360684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08480" y="360684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po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2480" y="3332160"/>
              <a:ext cx="259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via relax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iminates high-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patial) erro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9120" y="6140520"/>
              <a:ext cx="23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ve for low-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patial)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0960" y="3332160"/>
              <a:ext cx="177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ect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-gri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1160" y="1263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 gr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8280" y="1263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 gr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13760" y="414648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arse-gr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68760" y="1706400"/>
              <a:ext cx="3192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Restriction and interpo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operators are </a:t>
              </a:r>
              <a:r>
                <a:rPr b="0" i="1" lang="en-US" sz="2000" spc="-1" strike="noStrike">
                  <a:solidFill>
                    <a:srgbClr val="f95ab7"/>
                  </a:solidFill>
                  <a:latin typeface="Times New Roman"/>
                </a:rPr>
                <a:t>relative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95ab7"/>
                  </a:solidFill>
                  <a:latin typeface="Times New Roman"/>
                </a:rPr>
                <a:t>complicated</a:t>
              </a: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 for unstructur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gr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14160" y="5029200"/>
              <a:ext cx="22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This V-cycle 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applied recursiv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0560" y="1622520"/>
              <a:ext cx="2423520" cy="1575720"/>
              <a:chOff x="250560" y="1622520"/>
              <a:chExt cx="2423520" cy="157572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250920" y="1622520"/>
                <a:ext cx="56808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9000" y="1622520"/>
                <a:ext cx="34200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250560" y="2091240"/>
                <a:ext cx="91044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9000" y="1622520"/>
                <a:ext cx="139572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161360" y="1781640"/>
                <a:ext cx="1053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15080" y="1782000"/>
                <a:ext cx="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61360" y="2211120"/>
                <a:ext cx="10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15080" y="1782000"/>
                <a:ext cx="4590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2215080" y="2091240"/>
                <a:ext cx="45900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920" y="2091240"/>
                <a:ext cx="339120" cy="57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89680" y="2211120"/>
                <a:ext cx="5713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61360" y="2211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896120" y="2210760"/>
                <a:ext cx="31860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0040" y="26701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0040" y="2670120"/>
                <a:ext cx="22896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819000" y="2669760"/>
                <a:ext cx="34200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61360" y="267012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61360" y="2211120"/>
                <a:ext cx="7347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819000" y="2669760"/>
                <a:ext cx="107712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15080" y="2211120"/>
                <a:ext cx="459000" cy="6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96120" y="2670120"/>
                <a:ext cx="77760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674080" y="2090880"/>
                <a:ext cx="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19000" y="2889360"/>
                <a:ext cx="185508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113160" y="1622520"/>
              <a:ext cx="2423520" cy="1575720"/>
              <a:chOff x="6113160" y="1622520"/>
              <a:chExt cx="2423520" cy="157572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6113520" y="1622520"/>
                <a:ext cx="56808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81600" y="1622520"/>
                <a:ext cx="34200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6113160" y="2091240"/>
                <a:ext cx="91044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81600" y="1622520"/>
                <a:ext cx="139572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023960" y="1781640"/>
                <a:ext cx="1053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77680" y="1782000"/>
                <a:ext cx="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23960" y="2211120"/>
                <a:ext cx="10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680" y="1782000"/>
                <a:ext cx="4590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8077680" y="2091240"/>
                <a:ext cx="45900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13520" y="2091240"/>
                <a:ext cx="339120" cy="57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452280" y="2211120"/>
                <a:ext cx="5713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23960" y="2211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758720" y="2210760"/>
                <a:ext cx="31860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2640" y="26701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52640" y="2670120"/>
                <a:ext cx="22896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681600" y="2669760"/>
                <a:ext cx="34200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23960" y="267012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23960" y="2211120"/>
                <a:ext cx="7347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681600" y="2669760"/>
                <a:ext cx="107712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77680" y="2211120"/>
                <a:ext cx="459000" cy="6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58720" y="2670120"/>
                <a:ext cx="77760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8536680" y="2090880"/>
                <a:ext cx="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681600" y="2889360"/>
                <a:ext cx="185508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936880" y="4419720"/>
              <a:ext cx="2660760" cy="1828800"/>
              <a:chOff x="2936880" y="4419720"/>
              <a:chExt cx="2660760" cy="1828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3007800" y="4513320"/>
                <a:ext cx="2423880" cy="1575720"/>
                <a:chOff x="3007800" y="4513320"/>
                <a:chExt cx="2423880" cy="1575720"/>
              </a:xfrm>
            </p:grpSpPr>
            <p:sp>
              <p:nvSpPr>
                <p:cNvPr id="269" name=""/>
                <p:cNvSpPr/>
                <p:nvPr/>
              </p:nvSpPr>
              <p:spPr>
                <a:xfrm flipH="1">
                  <a:off x="3007800" y="4513320"/>
                  <a:ext cx="568440" cy="46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576600" y="4513320"/>
                  <a:ext cx="342000" cy="58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3007800" y="4982040"/>
                  <a:ext cx="910440" cy="1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576600" y="4513320"/>
                  <a:ext cx="1396080" cy="15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3918600" y="4672440"/>
                  <a:ext cx="1053720" cy="42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72680" y="4672800"/>
                  <a:ext cx="0" cy="42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18600" y="5101920"/>
                  <a:ext cx="10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72680" y="4672800"/>
                  <a:ext cx="459000" cy="30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4972680" y="4982040"/>
                  <a:ext cx="459000" cy="1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08160" y="4982040"/>
                  <a:ext cx="339120" cy="57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3346920" y="5101920"/>
                  <a:ext cx="57132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18600" y="5101920"/>
                  <a:ext cx="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653720" y="5101560"/>
                  <a:ext cx="31860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347280" y="55609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347280" y="5560920"/>
                  <a:ext cx="22896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576600" y="5560560"/>
                  <a:ext cx="34200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18600" y="5560920"/>
                  <a:ext cx="73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918600" y="5101920"/>
                  <a:ext cx="73476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3576600" y="5560560"/>
                  <a:ext cx="107712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972680" y="5101920"/>
                  <a:ext cx="459000" cy="67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53720" y="5560920"/>
                  <a:ext cx="77796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31680" y="4981680"/>
                  <a:ext cx="0" cy="79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3576600" y="5780160"/>
                  <a:ext cx="1855080" cy="30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524400" y="4840200"/>
                <a:ext cx="52200" cy="8906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84440" y="4840200"/>
                <a:ext cx="1614600" cy="716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576600" y="4910040"/>
                <a:ext cx="1522440" cy="8064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36880" y="4419720"/>
                <a:ext cx="1177920" cy="873000"/>
              </a:xfrm>
              <a:custGeom>
                <a:avLst/>
                <a:gdLst/>
                <a:ahLst/>
                <a:rect l="l" t="t" r="r" b="b"/>
                <a:pathLst>
                  <a:path w="742" h="550">
                    <a:moveTo>
                      <a:pt x="437" y="0"/>
                    </a:moveTo>
                    <a:lnTo>
                      <a:pt x="245" y="79"/>
                    </a:lnTo>
                    <a:lnTo>
                      <a:pt x="96" y="157"/>
                    </a:lnTo>
                    <a:lnTo>
                      <a:pt x="61" y="271"/>
                    </a:lnTo>
                    <a:lnTo>
                      <a:pt x="0" y="367"/>
                    </a:lnTo>
                    <a:lnTo>
                      <a:pt x="79" y="524"/>
                    </a:lnTo>
                    <a:lnTo>
                      <a:pt x="262" y="550"/>
                    </a:lnTo>
                    <a:lnTo>
                      <a:pt x="498" y="550"/>
                    </a:lnTo>
                    <a:lnTo>
                      <a:pt x="672" y="541"/>
                    </a:lnTo>
                    <a:lnTo>
                      <a:pt x="733" y="454"/>
                    </a:lnTo>
                    <a:lnTo>
                      <a:pt x="742" y="297"/>
                    </a:lnTo>
                    <a:lnTo>
                      <a:pt x="698" y="157"/>
                    </a:lnTo>
                    <a:lnTo>
                      <a:pt x="629" y="88"/>
                    </a:lnTo>
                    <a:lnTo>
                      <a:pt x="585" y="44"/>
                    </a:lnTo>
                    <a:lnTo>
                      <a:pt x="437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44960" y="5430960"/>
                <a:ext cx="969840" cy="817560"/>
              </a:xfrm>
              <a:custGeom>
                <a:avLst/>
                <a:gdLst/>
                <a:ahLst/>
                <a:rect l="l" t="t" r="r" b="b"/>
                <a:pathLst>
                  <a:path w="611" h="515">
                    <a:moveTo>
                      <a:pt x="349" y="0"/>
                    </a:moveTo>
                    <a:lnTo>
                      <a:pt x="288" y="0"/>
                    </a:lnTo>
                    <a:lnTo>
                      <a:pt x="192" y="0"/>
                    </a:lnTo>
                    <a:lnTo>
                      <a:pt x="52" y="9"/>
                    </a:lnTo>
                    <a:lnTo>
                      <a:pt x="18" y="114"/>
                    </a:lnTo>
                    <a:lnTo>
                      <a:pt x="0" y="245"/>
                    </a:lnTo>
                    <a:lnTo>
                      <a:pt x="52" y="384"/>
                    </a:lnTo>
                    <a:lnTo>
                      <a:pt x="96" y="480"/>
                    </a:lnTo>
                    <a:lnTo>
                      <a:pt x="192" y="498"/>
                    </a:lnTo>
                    <a:lnTo>
                      <a:pt x="367" y="515"/>
                    </a:lnTo>
                    <a:lnTo>
                      <a:pt x="489" y="515"/>
                    </a:lnTo>
                    <a:lnTo>
                      <a:pt x="576" y="445"/>
                    </a:lnTo>
                    <a:lnTo>
                      <a:pt x="602" y="349"/>
                    </a:lnTo>
                    <a:lnTo>
                      <a:pt x="611" y="227"/>
                    </a:lnTo>
                    <a:lnTo>
                      <a:pt x="611" y="131"/>
                    </a:lnTo>
                    <a:lnTo>
                      <a:pt x="576" y="53"/>
                    </a:lnTo>
                    <a:lnTo>
                      <a:pt x="445" y="9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27440" y="4516560"/>
                <a:ext cx="970200" cy="817560"/>
              </a:xfrm>
              <a:custGeom>
                <a:avLst/>
                <a:gdLst/>
                <a:ahLst/>
                <a:rect l="l" t="t" r="r" b="b"/>
                <a:pathLst>
                  <a:path w="611" h="515">
                    <a:moveTo>
                      <a:pt x="349" y="0"/>
                    </a:moveTo>
                    <a:lnTo>
                      <a:pt x="288" y="0"/>
                    </a:lnTo>
                    <a:lnTo>
                      <a:pt x="192" y="0"/>
                    </a:lnTo>
                    <a:lnTo>
                      <a:pt x="52" y="9"/>
                    </a:lnTo>
                    <a:lnTo>
                      <a:pt x="18" y="114"/>
                    </a:lnTo>
                    <a:lnTo>
                      <a:pt x="0" y="245"/>
                    </a:lnTo>
                    <a:lnTo>
                      <a:pt x="52" y="384"/>
                    </a:lnTo>
                    <a:lnTo>
                      <a:pt x="96" y="480"/>
                    </a:lnTo>
                    <a:lnTo>
                      <a:pt x="192" y="498"/>
                    </a:lnTo>
                    <a:lnTo>
                      <a:pt x="367" y="515"/>
                    </a:lnTo>
                    <a:lnTo>
                      <a:pt x="489" y="515"/>
                    </a:lnTo>
                    <a:lnTo>
                      <a:pt x="576" y="445"/>
                    </a:lnTo>
                    <a:lnTo>
                      <a:pt x="602" y="349"/>
                    </a:lnTo>
                    <a:lnTo>
                      <a:pt x="611" y="227"/>
                    </a:lnTo>
                    <a:lnTo>
                      <a:pt x="611" y="131"/>
                    </a:lnTo>
                    <a:lnTo>
                      <a:pt x="576" y="53"/>
                    </a:lnTo>
                    <a:lnTo>
                      <a:pt x="445" y="9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080" y="475128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16480" y="5635440"/>
                <a:ext cx="17280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86360" y="481968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11320" y="4876920"/>
              <a:ext cx="27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Coarse mesh constru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by nodal agglomer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based upon “stro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connection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0E2E-B087-4252-9126-85905DB148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Preliminary  Multigrid Results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53040" y="2133720"/>
            <a:ext cx="62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 of Conjugate Gradient  and Multigrid for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mesh resolutions and three different time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568520" y="2844720"/>
            <a:ext cx="6259320" cy="2986560"/>
            <a:chOff x="1568520" y="2844720"/>
            <a:chExt cx="6259320" cy="2986560"/>
          </a:xfrm>
        </p:grpSpPr>
        <p:grpSp>
          <p:nvGrpSpPr>
            <p:cNvPr id="305" name=""/>
            <p:cNvGrpSpPr/>
            <p:nvPr/>
          </p:nvGrpSpPr>
          <p:grpSpPr>
            <a:xfrm>
              <a:off x="1568520" y="2844720"/>
              <a:ext cx="6259320" cy="2986560"/>
              <a:chOff x="1568520" y="2844720"/>
              <a:chExt cx="6259320" cy="298656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9960" y="2844720"/>
                <a:ext cx="5987880" cy="27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3178080" y="5432400"/>
                <a:ext cx="248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sh resolution f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913320" y="3929760"/>
                <a:ext cx="170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g(iteration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257720" y="316836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70 times faster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04080" y="2958840"/>
              <a:ext cx="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E3EA-2078-43BE-8413-DA0B139AAC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Including Semiconductor Physics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457200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nterior of EM object is governed by ohmic loss,  passivity, then the interior can be modeled by PMCHW or F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interior cannot be modeled by ohmic loss, then the interior can be modeled by as a semicond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ime domain EM - Device Physics  - MNA  hybrid would considerably advance the modeling of 3D mixed signal (i.e., advanced understanding of substrate coupl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NL EMSolve, UW time domain MoM, semiconductor 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307040" y="1828800"/>
            <a:ext cx="4227480" cy="2364480"/>
            <a:chOff x="4307040" y="1828800"/>
            <a:chExt cx="4227480" cy="2364480"/>
          </a:xfrm>
        </p:grpSpPr>
        <p:sp>
          <p:nvSpPr>
            <p:cNvPr id="314" name=""/>
            <p:cNvSpPr/>
            <p:nvPr/>
          </p:nvSpPr>
          <p:spPr>
            <a:xfrm>
              <a:off x="4307040" y="2743200"/>
              <a:ext cx="2131920" cy="1295280"/>
            </a:xfrm>
            <a:prstGeom prst="cube">
              <a:avLst>
                <a:gd name="adj" fmla="val 81615"/>
              </a:avLst>
            </a:prstGeom>
            <a:solidFill>
              <a:srgbClr val="99ff9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89720" y="1905120"/>
              <a:ext cx="114120" cy="1141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6680" y="20430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Arial"/>
                </a:rPr>
                <a:t>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5" idx="6"/>
              <a:endCxn id="318" idx="0"/>
            </p:cNvCxnSpPr>
            <p:nvPr/>
          </p:nvCxnSpPr>
          <p:spPr>
            <a:xfrm>
              <a:off x="5703840" y="1962000"/>
              <a:ext cx="186480" cy="439200"/>
            </a:xfrm>
            <a:prstGeom prst="bentConnector2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5" idx="2"/>
              <a:endCxn id="320" idx="0"/>
            </p:cNvCxnSpPr>
            <p:nvPr/>
          </p:nvCxnSpPr>
          <p:spPr>
            <a:xfrm flipV="1" rot="10800000">
              <a:off x="5469840" y="1961640"/>
              <a:ext cx="119880" cy="439200"/>
            </a:xfrm>
            <a:prstGeom prst="bentConnector2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4307040" y="2514600"/>
              <a:ext cx="2131920" cy="1295280"/>
            </a:xfrm>
            <a:prstGeom prst="cube">
              <a:avLst>
                <a:gd name="adj" fmla="val 81615"/>
              </a:avLst>
            </a:prstGeom>
            <a:solidFill>
              <a:srgbClr val="00ff00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82520" y="37339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0200" y="1828800"/>
              <a:ext cx="1712880" cy="1066680"/>
            </a:xfrm>
            <a:prstGeom prst="rect">
              <a:avLst/>
            </a:prstGeom>
            <a:noFill/>
            <a:ln cap="rnd" w="38160">
              <a:solidFill>
                <a:srgbClr val="99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7040" y="2514600"/>
              <a:ext cx="2131920" cy="1523880"/>
            </a:xfrm>
            <a:prstGeom prst="cube">
              <a:avLst>
                <a:gd name="adj" fmla="val 69583"/>
              </a:avLst>
            </a:prstGeom>
            <a:noFill/>
            <a:ln w="3816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1880" y="2400480"/>
              <a:ext cx="57132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92840" y="2400480"/>
              <a:ext cx="57132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9080" y="2400480"/>
              <a:ext cx="56988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400800" y="2629080"/>
              <a:ext cx="2133720" cy="1523880"/>
              <a:chOff x="6400800" y="2629080"/>
              <a:chExt cx="2133720" cy="1523880"/>
            </a:xfrm>
          </p:grpSpPr>
          <p:sp>
            <p:nvSpPr>
              <p:cNvPr id="327" name=""/>
              <p:cNvSpPr/>
              <p:nvPr/>
            </p:nvSpPr>
            <p:spPr>
              <a:xfrm>
                <a:off x="6400800" y="2629080"/>
                <a:ext cx="2133720" cy="1523880"/>
              </a:xfrm>
              <a:prstGeom prst="cube">
                <a:avLst>
                  <a:gd name="adj" fmla="val 69583"/>
                </a:avLst>
              </a:prstGeom>
              <a:noFill/>
              <a:ln w="381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00800" y="3924360"/>
                <a:ext cx="10666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7467480" y="2857320"/>
                <a:ext cx="1067040" cy="106668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38960" y="392436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il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438960" y="3733920"/>
                  <a:ext cx="23184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o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6858000" y="3276720"/>
                  <a:ext cx="35244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σ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cxnSp>
          <p:nvCxnSpPr>
            <p:cNvPr id="333" name=""/>
            <p:cNvCxnSpPr>
              <a:stCxn id="323" idx="3"/>
            </p:cNvCxnSpPr>
            <p:nvPr/>
          </p:nvCxnSpPr>
          <p:spPr>
            <a:xfrm>
              <a:off x="6562800" y="2362320"/>
              <a:ext cx="472320" cy="91512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 flipH="1">
              <a:off x="6670440" y="3443040"/>
              <a:ext cx="364320" cy="38484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/>
            <p:nvPr/>
          </p:nvCxnSpPr>
          <p:spPr>
            <a:xfrm flipH="1">
              <a:off x="6640560" y="3827160"/>
              <a:ext cx="30600" cy="19764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6747480" y="365112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47480" y="38862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" name=""/>
            <p:cNvCxnSpPr>
              <a:endCxn id="336" idx="1"/>
            </p:cNvCxnSpPr>
            <p:nvPr/>
          </p:nvCxnSpPr>
          <p:spPr>
            <a:xfrm flipV="1">
              <a:off x="6670440" y="3803400"/>
              <a:ext cx="75240" cy="2448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9" name=""/>
            <p:cNvCxnSpPr>
              <a:endCxn id="337" idx="1"/>
            </p:cNvCxnSpPr>
            <p:nvPr/>
          </p:nvCxnSpPr>
          <p:spPr>
            <a:xfrm>
              <a:off x="6640200" y="4024080"/>
              <a:ext cx="105480" cy="1476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6" idx="3"/>
            </p:cNvCxnSpPr>
            <p:nvPr/>
          </p:nvCxnSpPr>
          <p:spPr>
            <a:xfrm flipH="1" flipV="1">
              <a:off x="7209720" y="3359880"/>
              <a:ext cx="273960" cy="44388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>
              <a:endCxn id="323" idx="3"/>
            </p:cNvCxnSpPr>
            <p:nvPr/>
          </p:nvCxnSpPr>
          <p:spPr>
            <a:xfrm flipH="1" flipV="1">
              <a:off x="6562080" y="2361600"/>
              <a:ext cx="648360" cy="99900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342" name=""/>
          <p:cNvGrpSpPr/>
          <p:nvPr/>
        </p:nvGrpSpPr>
        <p:grpSpPr>
          <a:xfrm>
            <a:off x="227160" y="1371600"/>
            <a:ext cx="3951000" cy="3092400"/>
            <a:chOff x="227160" y="1371600"/>
            <a:chExt cx="3951000" cy="3092400"/>
          </a:xfrm>
        </p:grpSpPr>
        <p:sp>
          <p:nvSpPr>
            <p:cNvPr id="343" name=""/>
            <p:cNvSpPr/>
            <p:nvPr/>
          </p:nvSpPr>
          <p:spPr>
            <a:xfrm>
              <a:off x="227160" y="1371600"/>
              <a:ext cx="39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quivalent EM Interio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228600" y="1706400"/>
            <a:ext cx="2824200" cy="5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06400"/>
                      <a:ext cx="28242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"/>
            <p:cNvGraphicFramePr/>
            <p:nvPr/>
          </p:nvGraphicFramePr>
          <p:xfrm>
            <a:off x="228600" y="2254320"/>
            <a:ext cx="2057400" cy="22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2254320"/>
                      <a:ext cx="205740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8" name=""/>
          <p:cNvGraphicFramePr/>
          <p:nvPr/>
        </p:nvGraphicFramePr>
        <p:xfrm>
          <a:off x="1963800" y="2459160"/>
          <a:ext cx="261288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3800" y="2459160"/>
                    <a:ext cx="26128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277320" y="135576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M + Drift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F522-2100-4DC2-B2FE-FD73BBFBF0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M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Sol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4BA4-9309-41A9-A146-3A0FDBC7D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2360" y="379440"/>
              <a:ext cx="676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SMoS – Coupled Simulation and Model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f Systems-on-C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7760" y="150012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eometry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54640" y="1709640"/>
              <a:ext cx="78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teri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76040" y="16146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68800" y="2422440"/>
              <a:ext cx="1800" cy="237960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2840" y="478296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8800" y="2717640"/>
              <a:ext cx="1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43520" y="2422440"/>
              <a:ext cx="1936440" cy="552600"/>
            </a:xfrm>
            <a:custGeom>
              <a:avLst/>
              <a:gdLst/>
              <a:ahLst/>
              <a:rect l="l" t="t" r="r" b="b"/>
              <a:pathLst>
                <a:path w="1220" h="348">
                  <a:moveTo>
                    <a:pt x="0" y="348"/>
                  </a:moveTo>
                  <a:lnTo>
                    <a:pt x="0" y="0"/>
                  </a:lnTo>
                  <a:lnTo>
                    <a:pt x="1220" y="0"/>
                  </a:lnTo>
                  <a:lnTo>
                    <a:pt x="1220" y="348"/>
                  </a:lnTo>
                </a:path>
              </a:pathLst>
            </a:custGeom>
            <a:noFill/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720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400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10080" y="3908520"/>
              <a:ext cx="569880" cy="91260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359" y="0"/>
                  </a:moveTo>
                  <a:lnTo>
                    <a:pt x="359" y="359"/>
                  </a:lnTo>
                  <a:lnTo>
                    <a:pt x="0" y="359"/>
                  </a:lnTo>
                  <a:lnTo>
                    <a:pt x="0" y="575"/>
                  </a:lnTo>
                </a:path>
              </a:pathLst>
            </a:custGeom>
            <a:noFill/>
            <a:ln w="47520">
              <a:solidFill>
                <a:srgbClr val="9b60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4792680"/>
              <a:ext cx="16164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9b6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1880" y="2309760"/>
              <a:ext cx="1800" cy="6652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2592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38280" y="2422440"/>
              <a:ext cx="2505240" cy="114480"/>
            </a:xfrm>
            <a:custGeom>
              <a:avLst/>
              <a:gdLst/>
              <a:ahLst/>
              <a:rect l="l" t="t" r="r" b="b"/>
              <a:pathLst>
                <a:path w="1578" h="72">
                  <a:moveTo>
                    <a:pt x="1578" y="0"/>
                  </a:moveTo>
                  <a:lnTo>
                    <a:pt x="0" y="0"/>
                  </a:lnTo>
                  <a:lnTo>
                    <a:pt x="0" y="72"/>
                  </a:lnTo>
                </a:path>
              </a:pathLst>
            </a:custGeom>
            <a:noFill/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1960" y="2508120"/>
              <a:ext cx="160560" cy="257400"/>
            </a:xfrm>
            <a:custGeom>
              <a:avLst/>
              <a:gdLst/>
              <a:ahLst/>
              <a:rect l="l" t="t" r="r" b="b"/>
              <a:pathLst>
                <a:path w="101" h="162">
                  <a:moveTo>
                    <a:pt x="101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95560" y="2309760"/>
              <a:ext cx="4443120" cy="227160"/>
            </a:xfrm>
            <a:custGeom>
              <a:avLst/>
              <a:gdLst/>
              <a:ahLst/>
              <a:rect l="l" t="t" r="r" b="b"/>
              <a:pathLst>
                <a:path w="2799" h="143">
                  <a:moveTo>
                    <a:pt x="2799" y="0"/>
                  </a:moveTo>
                  <a:lnTo>
                    <a:pt x="0" y="0"/>
                  </a:lnTo>
                  <a:lnTo>
                    <a:pt x="0" y="143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9240" y="2508120"/>
              <a:ext cx="162000" cy="25740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5440" y="1967040"/>
              <a:ext cx="1440" cy="3427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68800" y="1967040"/>
              <a:ext cx="1800" cy="45540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2309760"/>
              <a:ext cx="1800" cy="6652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62720" y="295596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2640" y="2765520"/>
              <a:ext cx="797040" cy="628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9680" y="2765520"/>
              <a:ext cx="797040" cy="628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3240" y="1509840"/>
              <a:ext cx="1311120" cy="457200"/>
            </a:xfrm>
            <a:custGeom>
              <a:avLst/>
              <a:gdLst/>
              <a:ahLst/>
              <a:rect l="l" t="t" r="r" b="b"/>
              <a:pathLst>
                <a:path w="826" h="288">
                  <a:moveTo>
                    <a:pt x="754" y="288"/>
                  </a:moveTo>
                  <a:lnTo>
                    <a:pt x="790" y="276"/>
                  </a:lnTo>
                  <a:lnTo>
                    <a:pt x="820" y="252"/>
                  </a:lnTo>
                  <a:lnTo>
                    <a:pt x="826" y="216"/>
                  </a:lnTo>
                  <a:lnTo>
                    <a:pt x="826" y="72"/>
                  </a:lnTo>
                  <a:lnTo>
                    <a:pt x="820" y="36"/>
                  </a:lnTo>
                  <a:lnTo>
                    <a:pt x="790" y="6"/>
                  </a:lnTo>
                  <a:lnTo>
                    <a:pt x="754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54" y="28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18600" y="1614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81080" y="1509840"/>
              <a:ext cx="1368360" cy="457200"/>
            </a:xfrm>
            <a:custGeom>
              <a:avLst/>
              <a:gdLst/>
              <a:ahLst/>
              <a:rect l="l" t="t" r="r" b="b"/>
              <a:pathLst>
                <a:path w="862" h="288">
                  <a:moveTo>
                    <a:pt x="790" y="288"/>
                  </a:moveTo>
                  <a:lnTo>
                    <a:pt x="826" y="276"/>
                  </a:lnTo>
                  <a:lnTo>
                    <a:pt x="856" y="252"/>
                  </a:lnTo>
                  <a:lnTo>
                    <a:pt x="862" y="216"/>
                  </a:lnTo>
                  <a:lnTo>
                    <a:pt x="862" y="72"/>
                  </a:lnTo>
                  <a:lnTo>
                    <a:pt x="856" y="36"/>
                  </a:lnTo>
                  <a:lnTo>
                    <a:pt x="826" y="6"/>
                  </a:lnTo>
                  <a:lnTo>
                    <a:pt x="790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90" y="28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98680" y="161460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9680" y="4935600"/>
              <a:ext cx="901800" cy="1027080"/>
            </a:xfrm>
            <a:custGeom>
              <a:avLst/>
              <a:gdLst/>
              <a:ahLst/>
              <a:rect l="l" t="t" r="r" b="b"/>
              <a:pathLst>
                <a:path w="568" h="647">
                  <a:moveTo>
                    <a:pt x="0" y="0"/>
                  </a:moveTo>
                  <a:lnTo>
                    <a:pt x="0" y="647"/>
                  </a:lnTo>
                  <a:lnTo>
                    <a:pt x="568" y="647"/>
                  </a:lnTo>
                </a:path>
              </a:pathLst>
            </a:custGeom>
            <a:noFill/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2400" y="587700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0"/>
                  </a:moveTo>
                  <a:lnTo>
                    <a:pt x="156" y="54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3280" y="3203640"/>
              <a:ext cx="1593720" cy="1084320"/>
            </a:xfrm>
            <a:prstGeom prst="rect">
              <a:avLst/>
            </a:prstGeom>
            <a:solidFill>
              <a:srgbClr val="9b60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7760" y="3406680"/>
              <a:ext cx="912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o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2640" y="2765520"/>
              <a:ext cx="1594080" cy="62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87120" y="285120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/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5280" y="307008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6480" y="5221440"/>
              <a:ext cx="1082520" cy="171360"/>
            </a:xfrm>
            <a:custGeom>
              <a:avLst/>
              <a:gdLst/>
              <a:ahLst/>
              <a:rect l="l" t="t" r="r" b="b"/>
              <a:pathLst>
                <a:path w="682" h="108">
                  <a:moveTo>
                    <a:pt x="682" y="0"/>
                  </a:moveTo>
                  <a:lnTo>
                    <a:pt x="0" y="0"/>
                  </a:lnTo>
                  <a:lnTo>
                    <a:pt x="0" y="108"/>
                  </a:lnTo>
                </a:path>
              </a:pathLst>
            </a:custGeom>
            <a:noFill/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70160" y="5364000"/>
              <a:ext cx="162000" cy="25740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76640" y="5235480"/>
              <a:ext cx="159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atic resiz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1967040"/>
              <a:ext cx="1366920" cy="2854080"/>
            </a:xfrm>
            <a:custGeom>
              <a:avLst/>
              <a:gdLst/>
              <a:ahLst/>
              <a:rect l="l" t="t" r="r" b="b"/>
              <a:pathLst>
                <a:path w="861" h="1798">
                  <a:moveTo>
                    <a:pt x="0" y="1798"/>
                  </a:moveTo>
                  <a:lnTo>
                    <a:pt x="0" y="1660"/>
                  </a:lnTo>
                  <a:lnTo>
                    <a:pt x="861" y="1660"/>
                  </a:lnTo>
                  <a:lnTo>
                    <a:pt x="861" y="0"/>
                  </a:lnTo>
                </a:path>
              </a:pathLst>
            </a:custGeom>
            <a:noFill/>
            <a:ln w="4752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4792680"/>
              <a:ext cx="16164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75480" y="5506920"/>
              <a:ext cx="1935000" cy="912960"/>
            </a:xfrm>
            <a:prstGeom prst="rect">
              <a:avLst/>
            </a:prstGeom>
            <a:solidFill>
              <a:srgbClr val="ccd0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65920" y="563076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ign verificatio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62040" y="5838840"/>
              <a:ext cx="146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ation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3480" y="605808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4880" y="3908520"/>
              <a:ext cx="569880" cy="91260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0" y="0"/>
                  </a:moveTo>
                  <a:lnTo>
                    <a:pt x="0" y="359"/>
                  </a:lnTo>
                  <a:lnTo>
                    <a:pt x="359" y="359"/>
                  </a:lnTo>
                  <a:lnTo>
                    <a:pt x="359" y="575"/>
                  </a:lnTo>
                </a:path>
              </a:pathLst>
            </a:custGeom>
            <a:noFill/>
            <a:ln w="47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8440" y="4792680"/>
              <a:ext cx="160560" cy="257040"/>
            </a:xfrm>
            <a:custGeom>
              <a:avLst/>
              <a:gdLst/>
              <a:ahLst/>
              <a:rect l="l" t="t" r="r" b="b"/>
              <a:pathLst>
                <a:path w="101" h="162">
                  <a:moveTo>
                    <a:pt x="0" y="0"/>
                  </a:moveTo>
                  <a:lnTo>
                    <a:pt x="48" y="162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240" y="3203640"/>
              <a:ext cx="1708200" cy="1084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8400" y="3413160"/>
              <a:ext cx="912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6720" y="4592520"/>
              <a:ext cx="2449440" cy="228600"/>
            </a:xfrm>
            <a:custGeom>
              <a:avLst/>
              <a:gdLst/>
              <a:ahLst/>
              <a:rect l="l" t="t" r="r" b="b"/>
              <a:pathLst>
                <a:path w="1543" h="144">
                  <a:moveTo>
                    <a:pt x="1543" y="144"/>
                  </a:moveTo>
                  <a:lnTo>
                    <a:pt x="1543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9840" y="4792680"/>
              <a:ext cx="16200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5400" y="4687920"/>
              <a:ext cx="114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VHDL-AM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560" y="3741840"/>
              <a:ext cx="114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VHDL-AM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2640" y="4249800"/>
              <a:ext cx="1594080" cy="685800"/>
            </a:xfrm>
            <a:prstGeom prst="rect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440" y="4486320"/>
              <a:ext cx="105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29000" y="5030640"/>
              <a:ext cx="1479600" cy="59076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80560" y="5251320"/>
              <a:ext cx="116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5600" y="2651040"/>
              <a:ext cx="1800" cy="171360"/>
            </a:xfrm>
            <a:prstGeom prst="line">
              <a:avLst/>
            </a:prstGeom>
            <a:ln w="475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752480"/>
              <a:ext cx="1676520" cy="898560"/>
            </a:xfrm>
            <a:custGeom>
              <a:avLst/>
              <a:gdLst/>
              <a:ahLst/>
              <a:rect l="l" t="t" r="r" b="b"/>
              <a:pathLst>
                <a:path w="789" h="287">
                  <a:moveTo>
                    <a:pt x="718" y="287"/>
                  </a:moveTo>
                  <a:lnTo>
                    <a:pt x="754" y="275"/>
                  </a:lnTo>
                  <a:lnTo>
                    <a:pt x="783" y="251"/>
                  </a:lnTo>
                  <a:lnTo>
                    <a:pt x="789" y="215"/>
                  </a:lnTo>
                  <a:lnTo>
                    <a:pt x="789" y="72"/>
                  </a:lnTo>
                  <a:lnTo>
                    <a:pt x="783" y="36"/>
                  </a:lnTo>
                  <a:lnTo>
                    <a:pt x="754" y="6"/>
                  </a:lnTo>
                  <a:lnTo>
                    <a:pt x="718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5"/>
                  </a:lnTo>
                  <a:lnTo>
                    <a:pt x="12" y="251"/>
                  </a:lnTo>
                  <a:lnTo>
                    <a:pt x="36" y="275"/>
                  </a:lnTo>
                  <a:lnTo>
                    <a:pt x="72" y="287"/>
                  </a:lnTo>
                  <a:lnTo>
                    <a:pt x="718" y="287"/>
                  </a:lnTo>
                  <a:close/>
                </a:path>
              </a:pathLst>
            </a:custGeom>
            <a:solidFill>
              <a:srgbClr val="58a77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09680" y="3394080"/>
              <a:ext cx="1440" cy="657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8400" y="4032360"/>
              <a:ext cx="142560" cy="21744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90" y="0"/>
                  </a:moveTo>
                  <a:lnTo>
                    <a:pt x="42" y="137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2240" y="5962680"/>
              <a:ext cx="2373480" cy="14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6640" y="587700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0"/>
                  </a:moveTo>
                  <a:lnTo>
                    <a:pt x="156" y="54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0080" y="5621400"/>
              <a:ext cx="1622160" cy="684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9360" y="5664240"/>
              <a:ext cx="119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ized Interaction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6520" y="1752480"/>
              <a:ext cx="9122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55F2-389D-411E-AE31-5FF1F9D8F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80880" y="2133720"/>
            <a:ext cx="3124080" cy="2208600"/>
            <a:chOff x="380880" y="2133720"/>
            <a:chExt cx="3124080" cy="2208600"/>
          </a:xfrm>
        </p:grpSpPr>
        <p:sp>
          <p:nvSpPr>
            <p:cNvPr id="116" name=""/>
            <p:cNvSpPr/>
            <p:nvPr/>
          </p:nvSpPr>
          <p:spPr>
            <a:xfrm>
              <a:off x="380880" y="2133720"/>
              <a:ext cx="1561680" cy="22086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2560" y="2133720"/>
              <a:ext cx="1562400" cy="2208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2133720"/>
              <a:ext cx="3124080" cy="220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5240" y="379440"/>
            <a:ext cx="74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MoS – Coupled Simulation and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Systems-on-Chips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magnet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4880" y="137160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metr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9120" y="1616040"/>
            <a:ext cx="78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4960" y="205740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18000" y="2681280"/>
            <a:ext cx="14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91520" y="3962520"/>
            <a:ext cx="1479600" cy="590400"/>
            <a:chOff x="7391520" y="3962520"/>
            <a:chExt cx="1479600" cy="590400"/>
          </a:xfrm>
        </p:grpSpPr>
        <p:sp>
          <p:nvSpPr>
            <p:cNvPr id="125" name=""/>
            <p:cNvSpPr/>
            <p:nvPr/>
          </p:nvSpPr>
          <p:spPr>
            <a:xfrm>
              <a:off x="7391520" y="3962520"/>
              <a:ext cx="1479600" cy="590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8680" y="4182840"/>
              <a:ext cx="116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9480" y="1295280"/>
            <a:ext cx="1368360" cy="457200"/>
            <a:chOff x="609480" y="1295280"/>
            <a:chExt cx="1368360" cy="457200"/>
          </a:xfrm>
        </p:grpSpPr>
        <p:sp>
          <p:nvSpPr>
            <p:cNvPr id="128" name=""/>
            <p:cNvSpPr/>
            <p:nvPr/>
          </p:nvSpPr>
          <p:spPr>
            <a:xfrm>
              <a:off x="609480" y="1295280"/>
              <a:ext cx="1368360" cy="457200"/>
            </a:xfrm>
            <a:custGeom>
              <a:avLst/>
              <a:gdLst/>
              <a:ahLst/>
              <a:rect l="l" t="t" r="r" b="b"/>
              <a:pathLst>
                <a:path w="862" h="288">
                  <a:moveTo>
                    <a:pt x="790" y="288"/>
                  </a:moveTo>
                  <a:lnTo>
                    <a:pt x="826" y="276"/>
                  </a:lnTo>
                  <a:lnTo>
                    <a:pt x="856" y="252"/>
                  </a:lnTo>
                  <a:lnTo>
                    <a:pt x="862" y="216"/>
                  </a:lnTo>
                  <a:lnTo>
                    <a:pt x="862" y="72"/>
                  </a:lnTo>
                  <a:lnTo>
                    <a:pt x="856" y="36"/>
                  </a:lnTo>
                  <a:lnTo>
                    <a:pt x="826" y="6"/>
                  </a:lnTo>
                  <a:lnTo>
                    <a:pt x="790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90" y="28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2160" y="140004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0" name=""/>
          <p:cNvCxnSpPr>
            <a:stCxn id="131" idx="1"/>
            <a:endCxn id="132" idx="1"/>
          </p:cNvCxnSpPr>
          <p:nvPr/>
        </p:nvCxnSpPr>
        <p:spPr>
          <a:xfrm flipH="1" flipV="1" rot="10800000">
            <a:off x="608400" y="2665800"/>
            <a:ext cx="381960" cy="1258200"/>
          </a:xfrm>
          <a:prstGeom prst="bentConnector3">
            <a:avLst>
              <a:gd name="adj1" fmla="val -6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480" y="2438280"/>
            <a:ext cx="2743200" cy="990360"/>
            <a:chOff x="609480" y="2438280"/>
            <a:chExt cx="2743200" cy="990360"/>
          </a:xfrm>
        </p:grpSpPr>
        <p:grpSp>
          <p:nvGrpSpPr>
            <p:cNvPr id="134" name=""/>
            <p:cNvGrpSpPr/>
            <p:nvPr/>
          </p:nvGrpSpPr>
          <p:grpSpPr>
            <a:xfrm>
              <a:off x="609480" y="2438280"/>
              <a:ext cx="1219320" cy="457200"/>
              <a:chOff x="609480" y="2438280"/>
              <a:chExt cx="1219320" cy="457200"/>
            </a:xfrm>
          </p:grpSpPr>
          <p:sp>
            <p:nvSpPr>
              <p:cNvPr id="131" name=""/>
              <p:cNvSpPr/>
              <p:nvPr/>
            </p:nvSpPr>
            <p:spPr>
              <a:xfrm>
                <a:off x="609480" y="2438280"/>
                <a:ext cx="121932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5040" y="2514600"/>
                <a:ext cx="8222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U-Mes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133720" y="2438280"/>
              <a:ext cx="1218960" cy="457200"/>
              <a:chOff x="2133720" y="2438280"/>
              <a:chExt cx="121896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133720" y="2438280"/>
                <a:ext cx="121896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79960" y="2514600"/>
                <a:ext cx="7430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Anso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133720" y="2971440"/>
              <a:ext cx="1218960" cy="457200"/>
              <a:chOff x="2133720" y="2971440"/>
              <a:chExt cx="121896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2133720" y="2971440"/>
                <a:ext cx="121896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70160" y="3047760"/>
                <a:ext cx="9608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Coven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9480" y="2971440"/>
              <a:ext cx="1219320" cy="457200"/>
              <a:chOff x="609480" y="2971440"/>
              <a:chExt cx="1219320" cy="4572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9480" y="2971440"/>
                <a:ext cx="121932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360" y="3047760"/>
                <a:ext cx="6364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Ide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990720" y="3581280"/>
            <a:ext cx="1981080" cy="685800"/>
            <a:chOff x="990720" y="3581280"/>
            <a:chExt cx="1981080" cy="685800"/>
          </a:xfrm>
        </p:grpSpPr>
        <p:sp>
          <p:nvSpPr>
            <p:cNvPr id="132" name=""/>
            <p:cNvSpPr/>
            <p:nvPr/>
          </p:nvSpPr>
          <p:spPr>
            <a:xfrm>
              <a:off x="990720" y="3581280"/>
              <a:ext cx="1981080" cy="6858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15080" y="3633840"/>
              <a:ext cx="1340640" cy="5806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utral F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"/>
          <p:cNvCxnSpPr>
            <a:stCxn id="148" idx="1"/>
            <a:endCxn id="132" idx="3"/>
          </p:cNvCxnSpPr>
          <p:nvPr/>
        </p:nvCxnSpPr>
        <p:spPr>
          <a:xfrm flipV="1" rot="10800000">
            <a:off x="2971800" y="1913400"/>
            <a:ext cx="4100760" cy="2010600"/>
          </a:xfrm>
          <a:prstGeom prst="bentConnector3">
            <a:avLst>
              <a:gd name="adj1" fmla="val 49824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28" idx="0"/>
            <a:endCxn id="135" idx="0"/>
          </p:cNvCxnSpPr>
          <p:nvPr/>
        </p:nvCxnSpPr>
        <p:spPr>
          <a:xfrm flipH="1" flipV="1" rot="10800000">
            <a:off x="609120" y="1638000"/>
            <a:ext cx="618480" cy="876960"/>
          </a:xfrm>
          <a:prstGeom prst="bentConnector4">
            <a:avLst>
              <a:gd name="adj1" fmla="val -36983"/>
              <a:gd name="adj2" fmla="val 5650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8" idx="2"/>
            <a:endCxn id="125" idx="0"/>
          </p:cNvCxnSpPr>
          <p:nvPr/>
        </p:nvCxnSpPr>
        <p:spPr>
          <a:xfrm flipH="1" rot="16200000">
            <a:off x="6956280" y="2773080"/>
            <a:ext cx="1724760" cy="62604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grpSp>
        <p:nvGrpSpPr>
          <p:cNvPr id="151" name=""/>
          <p:cNvGrpSpPr/>
          <p:nvPr/>
        </p:nvGrpSpPr>
        <p:grpSpPr>
          <a:xfrm>
            <a:off x="7086600" y="1619280"/>
            <a:ext cx="838080" cy="590400"/>
            <a:chOff x="7086600" y="1619280"/>
            <a:chExt cx="838080" cy="590400"/>
          </a:xfrm>
        </p:grpSpPr>
        <p:sp>
          <p:nvSpPr>
            <p:cNvPr id="148" name=""/>
            <p:cNvSpPr/>
            <p:nvPr/>
          </p:nvSpPr>
          <p:spPr>
            <a:xfrm>
              <a:off x="7086600" y="1619280"/>
              <a:ext cx="838080" cy="590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6360" y="1771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059840" y="190512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/ circui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9320" y="4435560"/>
            <a:ext cx="1605600" cy="5202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MP/P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havio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867280" y="5486400"/>
            <a:ext cx="1622520" cy="687240"/>
            <a:chOff x="5867280" y="5486400"/>
            <a:chExt cx="1622520" cy="687240"/>
          </a:xfrm>
        </p:grpSpPr>
        <p:sp>
          <p:nvSpPr>
            <p:cNvPr id="156" name=""/>
            <p:cNvSpPr/>
            <p:nvPr/>
          </p:nvSpPr>
          <p:spPr>
            <a:xfrm>
              <a:off x="5867280" y="5486400"/>
              <a:ext cx="1622520" cy="684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8360" y="5533920"/>
              <a:ext cx="119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ized Interaction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6" idx="2"/>
            <a:endCxn id="159" idx="0"/>
          </p:cNvCxnSpPr>
          <p:nvPr/>
        </p:nvCxnSpPr>
        <p:spPr>
          <a:xfrm rot="5400000">
            <a:off x="1268280" y="4450320"/>
            <a:ext cx="953280" cy="482040"/>
          </a:xfrm>
          <a:prstGeom prst="bentConnector3">
            <a:avLst>
              <a:gd name="adj1" fmla="val 506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4" idx="3"/>
            <a:endCxn id="125" idx="1"/>
          </p:cNvCxnSpPr>
          <p:nvPr/>
        </p:nvCxnSpPr>
        <p:spPr>
          <a:xfrm flipV="1">
            <a:off x="5792400" y="4257000"/>
            <a:ext cx="1585080" cy="437400"/>
          </a:xfrm>
          <a:prstGeom prst="bentConnector3">
            <a:avLst>
              <a:gd name="adj1" fmla="val 50386"/>
            </a:avLst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61800" y="5181480"/>
            <a:ext cx="2286000" cy="114300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4952880"/>
            <a:ext cx="105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3160" y="5410080"/>
            <a:ext cx="2250360" cy="733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strate cou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lti-Phy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486400"/>
            <a:ext cx="12189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M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DF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7" idx="2"/>
          </p:cNvCxnSpPr>
          <p:nvPr/>
        </p:nvCxnSpPr>
        <p:spPr>
          <a:xfrm flipH="1" rot="16200000">
            <a:off x="3778920" y="3306960"/>
            <a:ext cx="229320" cy="5501520"/>
          </a:xfrm>
          <a:prstGeom prst="bentConnector3">
            <a:avLst>
              <a:gd name="adj1" fmla="val 200000"/>
            </a:avLst>
          </a:prstGeom>
          <a:ln w="38160">
            <a:solidFill>
              <a:srgbClr val="fdfd43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2" idx="3"/>
            <a:endCxn id="154" idx="2"/>
          </p:cNvCxnSpPr>
          <p:nvPr/>
        </p:nvCxnSpPr>
        <p:spPr>
          <a:xfrm flipV="1">
            <a:off x="4130280" y="4952160"/>
            <a:ext cx="862920" cy="823320"/>
          </a:xfrm>
          <a:prstGeom prst="bentConnector2">
            <a:avLst/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0"/>
            <a:endCxn id="125" idx="2"/>
          </p:cNvCxnSpPr>
          <p:nvPr/>
        </p:nvCxnSpPr>
        <p:spPr>
          <a:xfrm flipH="1" flipV="1" rot="5400000">
            <a:off x="6945120" y="4299840"/>
            <a:ext cx="919800" cy="1453320"/>
          </a:xfrm>
          <a:prstGeom prst="bentConnector3">
            <a:avLst>
              <a:gd name="adj1" fmla="val 50743"/>
            </a:avLst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AFEC-CE83-4D66-AC7C-F7A3E580FF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LLNL Funding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00K, $400K/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received at LLN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11, 200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4, 200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2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anticipated at LLN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00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Reque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to June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to September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to December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to March 2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to June 2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170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62920" y="42670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2EB4-4937-400C-9031-BF8221AB1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3F08-EF58-4EAF-ACCA-AE4885C352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Modeling Flow Document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a “MicroMesh Hints”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s how we put port info into MicroMes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s how to avoid sliver el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ral of our suggestions have been incorporated into MicroMes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a Neutral Fi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Mesh-to-Neutral conversion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AA79-A2B3-4801-B51A-FDA20E3601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Cartesian Mesh Example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5" name="CoupledInd_CloseUp" descr=""/>
          <p:cNvPicPr/>
          <p:nvPr/>
        </p:nvPicPr>
        <p:blipFill>
          <a:blip r:embed="rId1"/>
          <a:stretch/>
        </p:blipFill>
        <p:spPr>
          <a:xfrm>
            <a:off x="1073160" y="2660760"/>
            <a:ext cx="6983280" cy="412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1280" y="1317600"/>
            <a:ext cx="8996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hex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lead to efficient numeric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obtainable for particular geome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ways 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D5E8-49CA-4345-9406-04EBAE231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Prism Mesh Example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8" name="CoupledInd_Prism_CloseUp" descr=""/>
          <p:cNvPicPr/>
          <p:nvPr/>
        </p:nvPicPr>
        <p:blipFill>
          <a:blip r:embed="rId1"/>
          <a:stretch/>
        </p:blipFill>
        <p:spPr>
          <a:xfrm>
            <a:off x="998640" y="2646360"/>
            <a:ext cx="7088040" cy="4135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280" y="1371600"/>
            <a:ext cx="89964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tructured prism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itrary geome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d mesh is not automatic…requires user ski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1507-077B-46CC-A479-8476D75E0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0:19:20Z</dcterms:created>
  <dc:creator>Rockway</dc:creator>
  <dc:description/>
  <dc:language>en-US</dc:language>
  <cp:lastModifiedBy>DANIEL WHITE</cp:lastModifiedBy>
  <cp:lastPrinted>2001-04-26T16:25:30Z</cp:lastPrinted>
  <dcterms:modified xsi:type="dcterms:W3CDTF">2003-05-15T08:55:29Z</dcterms:modified>
  <cp:revision>151</cp:revision>
  <dc:subject/>
  <dc:title>Rockway Template</dc:title>
</cp:coreProperties>
</file>