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3.png" ContentType="image/png"/>
  <Override PartName="/ppt/media/image2.wmf" ContentType="image/x-wmf"/>
  <Override PartName="/ppt/media/image1.png" ContentType="image/png"/>
  <Override PartName="/ppt/media/image26.wmf" ContentType="image/x-wmf"/>
  <Override PartName="/ppt/media/image15.png" ContentType="image/png"/>
  <Override PartName="/ppt/media/image25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7B7E-3321-4BD8-ADA7-F96F3DF83A2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ample presentation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A3D0-E4E8-49F9-BC83-FB5015781FA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CB6A-16AA-4CB9-9715-2F3EAE43448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EA56-4238-4DFF-BDF4-07D628B0222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29DF-CF93-4262-9965-39CAA1B0D38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F969-61D5-4D11-89EB-D64CB8E9C58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EA34-7969-4FD4-B793-950E1407B30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ization of system with random (1) position and (2) velocity of each p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7F8E-6168-43AD-ABF3-DDC62979F0C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Gbest among the group.  Decide the Gbest vector of each p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ECD6-555F-478E-B569-A7BFA0DB073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movement of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2CCE-8D9D-4AFB-B4EB-3E6CF049FE2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and update G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C34C-1FB8-4DCC-BC1A-07B9BB78A24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ching for global optim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691D-D354-4893-830A-390D9F7A1B6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8AE2-71D7-4E2D-B4E8-8338C76DEF0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08B1-1D64-4715-804E-0956AB5FB4C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1E68-84C9-4394-91C4-FFF070DDAFC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72C6-F88F-4E68-9917-7396EF4A97B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0955-A480-4EA1-9546-3B32655D87D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D666-DBF0-427D-AFA4-7B0545E6FC3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CBCD-4CB9-430D-A004-7F4BC38B4A7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D855-7D1C-444C-90FD-DA0578CF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89D0-3346-427B-898E-80CF55EF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DF0D-49A0-4545-A5D9-60F139D9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F04F-50CE-4784-A8A6-20D71982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381B-AF69-4529-93AA-765C9E36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BFD7-A916-413D-AE85-D91028A6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D1C1-0495-4A0B-8371-B2ABCA7F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5ADB-5D84-4CBB-9229-02025317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FCEF-1B0F-4C27-BFCE-2EF9CBA6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F9A9-8809-4BB4-87E6-82F56655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14FD-71CD-462C-BC0D-00F518BE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DF29-1D3E-47B6-A809-95DBAAF1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86F8-20E6-4975-AA53-38C47CDC8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Arial"/>
              </a:rPr>
              <a:t>Parasitic-Aware Analog/RF Synthesis</a:t>
            </a:r>
            <a:endParaRPr b="1" lang="en-US" sz="5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S2003/RFIC20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95160" y="5776920"/>
            <a:ext cx="14479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4352760" y="5700600"/>
          <a:ext cx="82080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2760" y="5700600"/>
                    <a:ext cx="820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480440" y="5700600"/>
            <a:ext cx="745920" cy="762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id J. Allst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Circuit Simulator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Circuit Sim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HSpice/Spectre (No simplified circuit simula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Tradeoff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굴림"/>
              </a:rPr>
              <a:t>optimization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굴림"/>
              </a:rPr>
              <a:t>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Bottleneck in the overall optimization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Only way to reduce the optimization time is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ea typeface="굴림"/>
              </a:rPr>
              <a:t>reduce the total number of iteration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Need a fast and efficient optimization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50040" y="655308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굴림"/>
              </a:rPr>
              <a:t>Next: 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Cost Func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Cost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Single criterion whether evaluated circuit is good or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Expressed as weighted sum of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.g. broadband ampl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st = 50%*(target_gain – gain) + 50%*fla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RF optimization =&gt; Minimizing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306440" y="3273480"/>
                <a:ext cx="69278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formance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bjective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7350120" y="6553080"/>
            <a:ext cx="180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굴림"/>
              </a:rPr>
              <a:t>Next: Simulated 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굴림"/>
              </a:rPr>
              <a:t>Simulated Annealing Optimiz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4788000" cy="33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d annealing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l climb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chance to fi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s more time to find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 : Temperature coeffic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pha : to control Te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a : to control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246640" y="1446120"/>
            <a:ext cx="3457800" cy="2438640"/>
            <a:chOff x="5246640" y="1446120"/>
            <a:chExt cx="3457800" cy="2438640"/>
          </a:xfrm>
        </p:grpSpPr>
        <p:sp>
          <p:nvSpPr>
            <p:cNvPr id="280" name=""/>
            <p:cNvSpPr/>
            <p:nvPr/>
          </p:nvSpPr>
          <p:spPr>
            <a:xfrm>
              <a:off x="5275440" y="1522440"/>
              <a:ext cx="3429000" cy="23623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37560" y="2055960"/>
              <a:ext cx="2057400" cy="939600"/>
            </a:xfrm>
            <a:custGeom>
              <a:avLst/>
              <a:gdLst/>
              <a:ahLst/>
              <a:rect l="l" t="t" r="r" b="b"/>
              <a:pathLst>
                <a:path w="3408" h="2896">
                  <a:moveTo>
                    <a:pt x="0" y="288"/>
                  </a:moveTo>
                  <a:cubicBezTo>
                    <a:pt x="196" y="1172"/>
                    <a:pt x="392" y="2056"/>
                    <a:pt x="576" y="2208"/>
                  </a:cubicBezTo>
                  <a:cubicBezTo>
                    <a:pt x="760" y="2360"/>
                    <a:pt x="920" y="1096"/>
                    <a:pt x="1104" y="1200"/>
                  </a:cubicBezTo>
                  <a:cubicBezTo>
                    <a:pt x="1288" y="1304"/>
                    <a:pt x="1472" y="2896"/>
                    <a:pt x="1680" y="2832"/>
                  </a:cubicBezTo>
                  <a:cubicBezTo>
                    <a:pt x="1888" y="2768"/>
                    <a:pt x="2176" y="944"/>
                    <a:pt x="2352" y="816"/>
                  </a:cubicBezTo>
                  <a:cubicBezTo>
                    <a:pt x="2528" y="688"/>
                    <a:pt x="2560" y="2200"/>
                    <a:pt x="2736" y="2064"/>
                  </a:cubicBezTo>
                  <a:cubicBezTo>
                    <a:pt x="2912" y="1928"/>
                    <a:pt x="3160" y="964"/>
                    <a:pt x="34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84920" y="15987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84920" y="31989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46640" y="2103480"/>
              <a:ext cx="55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18640" y="27385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03000" y="28908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85120" y="266544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13520" y="2284560"/>
              <a:ext cx="76320" cy="7596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485120" y="14461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47040" y="152244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83480" y="167472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reg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645240" y="167472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I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reg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58920" y="16747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II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reg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49480" y="3317760"/>
              <a:ext cx="305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l minima and global minim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786040" y="4468680"/>
                <a:ext cx="2805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nd</m:t>
                    </m:r>
                    <m:r>
                      <m:t xml:space="preserve">(</m:t>
                    </m:r>
                    <m:r>
                      <m:t xml:space="preserve">0,1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emp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1554120" y="5357880"/>
          <a:ext cx="6095880" cy="115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5357880"/>
                    <a:ext cx="60958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6254640" y="474804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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cost=costnew-cost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mulated Annealing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굴림"/>
              </a:rPr>
              <a:t> Optimiz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4000"/>
          </a:bodyPr>
          <a:p>
            <a:pPr marL="322200" indent="-32220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l climbing 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te iteration to climb up the hi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hough there is no min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nnel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lot of iterations when # of parameter is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the next simulation point randomly                                      (not to stuck at local mini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parameters :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00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000,000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 Temp coefficient manu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 is low : fast, but easy to stuck at local min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 is high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ore ch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find global min, but to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it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굴림"/>
              </a:rPr>
              <a:t>Simulated annealing with tunneling proces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5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imulated annealing with tunnel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imulated annealing is too slow (1 day per transis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unneling process is 4X to 10X faster than hill climbing proces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comparison%20of%20SA%20and%20NSA" descr=""/>
          <p:cNvPicPr/>
          <p:nvPr/>
        </p:nvPicPr>
        <p:blipFill>
          <a:blip r:embed="rId1"/>
          <a:stretch/>
        </p:blipFill>
        <p:spPr>
          <a:xfrm>
            <a:off x="458640" y="2968560"/>
            <a:ext cx="8229600" cy="26002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814320" y="5438880"/>
            <a:ext cx="314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Hill climbing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Simulated annea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664240" y="56070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unnel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Particle Swarm (1/2)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spired by a social behavior of a swarm of bees searching for the location of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xchang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an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information to find the opt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ork on a population of potential solution candidates called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Parti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herently parallel process (use of pop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ell-balanced between global / local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Very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fast / accurate (robu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Very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Si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and Easy to be implemented as optimization core for parasitic-aware synthesis and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Particle Swarm (2/2)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Unlike simulated annealing in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1) Initialized with a population of random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2) Assigned a random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3) Potential solutions flying through problem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best – each particle keeps track of best solution it has experien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Gbest – best solution in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onverge toward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t each iteration, changing the velocity of each particle toward its Pbest and Gbest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osition (particle location, Pbest, Gb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Velocity (next position – current pos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49760" y="6553080"/>
            <a:ext cx="175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굴림"/>
              </a:rPr>
              <a:t>Next: PSO eq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Swarming Equation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53128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otion of searching agents (Particles) by keeping track of individual and group experience (Competition and Coope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inertia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30040" y="2900520"/>
                <a:ext cx="8874360" cy="25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and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be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and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be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 flipH="1" flipV="1" rot="16200000">
            <a:off x="2459880" y="3542400"/>
            <a:ext cx="190440" cy="1114200"/>
          </a:xfrm>
          <a:custGeom>
            <a:avLst/>
            <a:gdLst>
              <a:gd name="textAreaLeft" fmla="*/ 121320 w 190440"/>
              <a:gd name="textAreaRight" fmla="*/ 190440 w 190440"/>
              <a:gd name="textAreaTop" fmla="*/ 28800 h 1114200"/>
              <a:gd name="textAreaBottom" fmla="*/ 1085400 h 111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 rot="16200000">
            <a:off x="6243480" y="1449720"/>
            <a:ext cx="228600" cy="5184720"/>
          </a:xfrm>
          <a:custGeom>
            <a:avLst/>
            <a:gdLst>
              <a:gd name="textAreaLeft" fmla="*/ 145800 w 228600"/>
              <a:gd name="textAreaRight" fmla="*/ 228600 w 22860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 rot="5400000">
            <a:off x="5206680" y="2987280"/>
            <a:ext cx="228600" cy="5184720"/>
          </a:xfrm>
          <a:custGeom>
            <a:avLst/>
            <a:gdLst>
              <a:gd name="textAreaLeft" fmla="*/ 145800 w 228600"/>
              <a:gd name="textAreaRight" fmla="*/ 228600 w 22860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026200" y="655308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굴림"/>
              </a:rPr>
              <a:t>Next: b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Swarming Process: Initializ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270000" y="1123920"/>
            <a:ext cx="8488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valu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270000" y="1114560"/>
            <a:ext cx="8412120" cy="52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1111320"/>
            <a:ext cx="758376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—parasitic-aware design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ing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ve Simulated Annealing with Tunn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le Swarm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AT/Particle Swarm 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Noise Amplifier Synthesis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warming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: Flying particl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93680" y="1123920"/>
            <a:ext cx="86025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warming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: Updating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93680" y="1123920"/>
            <a:ext cx="86025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void trapping in local minim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31840" y="1123920"/>
            <a:ext cx="86025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270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SA      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 Particle Swarm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1492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0000"/>
          </a:bodyPr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hysical process of anne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Old, well stu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g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i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itial point depend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mplement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pe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Known to be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hance to trap in loc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robable in complex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aralleliz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42920" y="1219320"/>
            <a:ext cx="381492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0000"/>
          </a:bodyPr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ocial behavior of b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w, need to be stu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g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itial point depend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mplement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pe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Known to be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hance to trap in loc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aralleliz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herently parallel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165240"/>
            <a:ext cx="0" cy="6375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Which technique is better?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40840" y="850680"/>
            <a:ext cx="8496360" cy="430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609480" indent="-6094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Two different parasitic-aware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imulated Annealing – Conventional optimization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article Swarm – New optimization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Wi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Particle Swa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fit parasitic-aware synthes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576440" y="381312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굴림"/>
              </a:rPr>
              <a:t>DA (11 variab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992920" y="3774960"/>
            <a:ext cx="21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굴림"/>
              </a:rPr>
              <a:t>MA (16 variab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610160" y="3929040"/>
            <a:ext cx="0" cy="241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47760" y="4214880"/>
          <a:ext cx="4038480" cy="21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760" y="4214880"/>
                    <a:ext cx="403848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4879800" y="4159080"/>
          <a:ext cx="4038840" cy="239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9800" y="4159080"/>
                    <a:ext cx="403884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Design Targe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1492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4-stage Distributed A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sign Spe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0.35µm CMOS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Gain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) ~ 6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andwidth &gt; 8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Optim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11 desig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ame Cost (COST = 50% for Gain + 50% for Flat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42920" y="1219320"/>
            <a:ext cx="381492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2-by-4 Matrix Ampl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sign Spe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0.25µm CMOS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Gain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) ~ 20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andwidth &gt; 12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Optim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16 desig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ame Cost (COST = 50% for Gain + 50% for Flat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95680" y="1163520"/>
            <a:ext cx="0" cy="510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Comparison Result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0880" cy="194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mparable initial performance for both DA and 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erformance difference increases as the constraints become tighter and the total iterations incr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A performs very poor in complex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article swarm is 1)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fas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nd more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effic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649440" y="3083040"/>
            <a:ext cx="8242200" cy="34956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4533840" y="2928960"/>
            <a:ext cx="0" cy="353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173240" y="5925960"/>
            <a:ext cx="2976480" cy="0"/>
          </a:xfrm>
          <a:prstGeom prst="line">
            <a:avLst/>
          </a:prstGeom>
          <a:ln w="38160">
            <a:solidFill>
              <a:srgbClr val="99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186520" y="5118120"/>
            <a:ext cx="3687480" cy="0"/>
          </a:xfrm>
          <a:prstGeom prst="line">
            <a:avLst/>
          </a:prstGeom>
          <a:ln w="38160">
            <a:solidFill>
              <a:srgbClr val="99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73320" y="4849920"/>
            <a:ext cx="1497240" cy="5806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ff"/>
                </a:solidFill>
                <a:latin typeface="Arial"/>
                <a:ea typeface="굴림"/>
              </a:rPr>
              <a:t>Acceptable Solution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649680" y="5425920"/>
            <a:ext cx="231840" cy="50004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4456080" y="5118120"/>
            <a:ext cx="692280" cy="11592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Optimization Results (MA)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-7920" y="1854360"/>
          <a:ext cx="484812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920" y="1854360"/>
                    <a:ext cx="484812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4572000" y="1895400"/>
          <a:ext cx="4800600" cy="40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95400"/>
                    <a:ext cx="4800600" cy="40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LNA Optimiz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2896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NF = 3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IIP3 = -10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Gain = 20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Input and Output                                matching &lt; -10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Stability factor &g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Bias current &lt;4 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4448160" y="1817640"/>
            <a:ext cx="469584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NF in HSPI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960560" y="1123920"/>
            <a:ext cx="57229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MOS for R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30088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igital circuits in C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st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igh integration capability (Small ar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ow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Good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F circuits in C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ow transconductance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igh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arg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re n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ow breakdown voltage (gate oxide / drain jun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nducting substrate (highly doped lossy subst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or on-chip indu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ubstrate cou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NF simulation resul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052720" y="1862280"/>
            <a:ext cx="5038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07680" y="533160"/>
            <a:ext cx="600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굴림"/>
              </a:rPr>
              <a:t>Saving optimization time by skipping IIP3 simulation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2700360" y="1219320"/>
            <a:ext cx="40305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Cost Func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1913040" y="1959120"/>
                <a:ext cx="5149800" cy="37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NF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×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F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ain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×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e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IP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e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P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abilit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tability</m:t>
                            </m:r>
                          </m:den>
                        </m:f>
                        <m:r>
                          <m:t xml:space="preserve">×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+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×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×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4746600" y="1290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ise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347880" y="15192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720200" y="296064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03200" y="34624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IP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89360" y="542916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67440" y="55958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3863880" y="1736640"/>
            <a:ext cx="1447920" cy="45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806800" y="1920960"/>
            <a:ext cx="71604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1874880" y="3543120"/>
            <a:ext cx="852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438600" y="3208320"/>
            <a:ext cx="121932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3094200" y="5037120"/>
            <a:ext cx="45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364000" y="5356080"/>
            <a:ext cx="0" cy="2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Summary of LN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685800" y="1219320"/>
          <a:ext cx="7772400" cy="4929120"/>
        </p:xfrm>
        <a:graphic>
          <a:graphicData uri="http://schemas.openxmlformats.org/drawingml/2006/table">
            <a:tbl>
              <a:tblPr/>
              <a:tblGrid>
                <a:gridCol w="1144080"/>
                <a:gridCol w="1729800"/>
                <a:gridCol w="1608840"/>
                <a:gridCol w="1644840"/>
                <a:gridCol w="1644840"/>
              </a:tblGrid>
              <a:tr h="886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Specif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Ideal Induct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parasitic laden induct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without optim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with optim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N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&lt;3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.94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6.35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3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g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6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6.8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4.7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8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IIP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0 db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0 dB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0 dB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.3 dB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st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&g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&g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&g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&g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S</a:t>
                      </a:r>
                      <a:r>
                        <a:rPr b="0" lang="en-US" sz="1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&lt;-10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- 26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-12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-12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S</a:t>
                      </a:r>
                      <a:r>
                        <a:rPr b="0" lang="en-US" sz="1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&lt;-10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- 18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- 3.5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- 12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I</a:t>
                      </a:r>
                      <a:r>
                        <a:rPr b="0" lang="en-US" sz="1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 B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5 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5 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5 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5 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CMOS DA Example</a:t>
            </a:r>
            <a:r>
              <a:rPr b="1" lang="en-US" sz="3600" spc="-1" strike="noStrike" baseline="30000">
                <a:solidFill>
                  <a:srgbClr val="3333cc"/>
                </a:solidFill>
                <a:latin typeface="Arial"/>
                <a:ea typeface="굴림"/>
              </a:rPr>
              <a:t>[1]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379520" y="1432080"/>
          <a:ext cx="6118200" cy="42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9520" y="1432080"/>
                    <a:ext cx="6118200" cy="42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457200" y="594360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  <a:ea typeface="굴림"/>
              </a:rPr>
              <a:t>[1] B. Kleveland, et al., “Monolithic CMOS distributed amplifier and oscillator”, </a:t>
            </a:r>
            <a:r>
              <a:rPr b="0" i="1" lang="en-US" sz="1400" spc="-1" strike="noStrike">
                <a:solidFill>
                  <a:srgbClr val="3333cc"/>
                </a:solidFill>
                <a:latin typeface="Tahoma"/>
                <a:ea typeface="굴림"/>
              </a:rPr>
              <a:t>ISSCC99.</a:t>
            </a:r>
            <a:r>
              <a:rPr b="0" lang="en-US" sz="1400" spc="-1" strike="noStrike">
                <a:solidFill>
                  <a:srgbClr val="3333cc"/>
                </a:solidFill>
                <a:latin typeface="Tahoma"/>
                <a:ea typeface="굴림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36880" y="1892160"/>
            <a:ext cx="3956040" cy="3303720"/>
          </a:xfrm>
          <a:custGeom>
            <a:avLst/>
            <a:gdLst/>
            <a:ahLst/>
            <a:rect l="l" t="t" r="r" b="b"/>
            <a:pathLst>
              <a:path w="2492" h="2081">
                <a:moveTo>
                  <a:pt x="0" y="0"/>
                </a:moveTo>
                <a:lnTo>
                  <a:pt x="1452" y="0"/>
                </a:lnTo>
                <a:lnTo>
                  <a:pt x="2492" y="2081"/>
                </a:lnTo>
              </a:path>
            </a:pathLst>
          </a:custGeom>
          <a:noFill/>
          <a:ln w="76320">
            <a:solidFill>
              <a:srgbClr val="ff0066"/>
            </a:solidFill>
            <a:round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CMOS DA Example</a:t>
            </a:r>
            <a:r>
              <a:rPr b="1" lang="en-US" sz="3600" spc="-1" strike="noStrike" baseline="30000">
                <a:solidFill>
                  <a:srgbClr val="3333cc"/>
                </a:solidFill>
                <a:latin typeface="Arial"/>
                <a:ea typeface="굴림"/>
              </a:rPr>
              <a:t>[2]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32240" y="1085760"/>
            <a:ext cx="6611760" cy="4667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594360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  <a:ea typeface="굴림"/>
              </a:rPr>
              <a:t>[2] B.M. Ballweber, R. Gupta, and D.J. Allstot, “A fully integrated 0.5-5.5GHz CMOS distributed amplifier,” </a:t>
            </a:r>
            <a:r>
              <a:rPr b="0" i="1" lang="en-US" sz="1400" spc="-1" strike="noStrike">
                <a:solidFill>
                  <a:srgbClr val="3333cc"/>
                </a:solidFill>
                <a:latin typeface="Tahoma"/>
                <a:ea typeface="굴림"/>
              </a:rPr>
              <a:t>IEEE J. Solid-State Circuits, </a:t>
            </a:r>
            <a:r>
              <a:rPr b="0" lang="en-US" sz="1400" spc="-1" strike="noStrike">
                <a:solidFill>
                  <a:srgbClr val="3333cc"/>
                </a:solidFill>
                <a:latin typeface="Tahoma"/>
                <a:ea typeface="굴림"/>
              </a:rPr>
              <a:t>vol. 35, pp.231-239, Feb.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5920" y="2238480"/>
          <a:ext cx="2649240" cy="22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920" y="2238480"/>
                    <a:ext cx="264924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93680" y="2084400"/>
            <a:ext cx="2995560" cy="26114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150720" y="2238480"/>
            <a:ext cx="1497240" cy="218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77440" y="1930320"/>
            <a:ext cx="4032360" cy="15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0680" y="167940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굴림"/>
              </a:rPr>
              <a:t>Parasitic-laden In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CMOS DA Example</a:t>
            </a:r>
            <a:r>
              <a:rPr b="1" lang="en-US" sz="3600" spc="-1" strike="noStrike" baseline="30000">
                <a:solidFill>
                  <a:srgbClr val="3333cc"/>
                </a:solidFill>
                <a:latin typeface="Arial"/>
                <a:ea typeface="굴림"/>
              </a:rPr>
              <a:t>[2]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9640" y="1047600"/>
            <a:ext cx="3935520" cy="581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38560" y="1325520"/>
          <a:ext cx="3270240" cy="239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38560" y="1325520"/>
                    <a:ext cx="327024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111480" y="1163520"/>
            <a:ext cx="1306440" cy="8064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4360" y="4235400"/>
            <a:ext cx="1306800" cy="8064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4560" y="2122560"/>
            <a:ext cx="1306440" cy="8064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4560" y="4927680"/>
            <a:ext cx="1306440" cy="8064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956120" y="4119480"/>
          <a:ext cx="3643200" cy="262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6120" y="4119480"/>
                    <a:ext cx="364320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3151080" y="4465800"/>
            <a:ext cx="1306800" cy="8064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10160" y="1009800"/>
            <a:ext cx="0" cy="549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0800000">
            <a:off x="119160" y="3044520"/>
            <a:ext cx="45468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굴림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rot="10800000">
            <a:off x="4647960" y="2968200"/>
            <a:ext cx="45468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Meas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Parasitic-Aware Optimiz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8640" y="1763640"/>
            <a:ext cx="8385480" cy="4165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31840" y="5157720"/>
            <a:ext cx="2803320" cy="806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arasitic laden Spiral inductor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4272120" cy="459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is about 4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xide Thick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al 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bstrate resistivity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design 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: center 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: metal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tur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: spacing between 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21160" y="2820960"/>
            <a:ext cx="4571640" cy="1980360"/>
            <a:chOff x="4421160" y="2820960"/>
            <a:chExt cx="4571640" cy="1980360"/>
          </a:xfrm>
        </p:grpSpPr>
        <p:sp>
          <p:nvSpPr>
            <p:cNvPr id="94" name=""/>
            <p:cNvSpPr/>
            <p:nvPr/>
          </p:nvSpPr>
          <p:spPr>
            <a:xfrm>
              <a:off x="4421160" y="3831840"/>
              <a:ext cx="2217240" cy="58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21160" y="3600000"/>
              <a:ext cx="2217240" cy="23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53520" y="3312000"/>
              <a:ext cx="1447560" cy="287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34640" y="3059280"/>
              <a:ext cx="204840" cy="17420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34640" y="2820960"/>
              <a:ext cx="1445400" cy="238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780040" y="2820960"/>
              <a:ext cx="212400" cy="15166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69520" y="4337640"/>
              <a:ext cx="1223280" cy="235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69520" y="3464640"/>
              <a:ext cx="228960" cy="8730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69520" y="3188520"/>
              <a:ext cx="722520" cy="275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03760" y="3464640"/>
              <a:ext cx="188280" cy="523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72320" y="318276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et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00040" y="3493800"/>
              <a:ext cx="4140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iO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Times New Roman"/>
                  <a:ea typeface="굴림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97800" y="3999960"/>
              <a:ext cx="61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i-waf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"/>
            <p:cNvCxnSpPr/>
            <p:nvPr/>
          </p:nvCxnSpPr>
          <p:spPr>
            <a:xfrm flipV="1">
              <a:off x="4999320" y="4008240"/>
              <a:ext cx="144360" cy="11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8" name=""/>
            <p:cNvCxnSpPr/>
            <p:nvPr/>
          </p:nvCxnSpPr>
          <p:spPr>
            <a:xfrm flipV="1">
              <a:off x="4999320" y="4181400"/>
              <a:ext cx="144360" cy="11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9" name=""/>
            <p:cNvCxnSpPr/>
            <p:nvPr/>
          </p:nvCxnSpPr>
          <p:spPr>
            <a:xfrm flipH="1" flipV="1">
              <a:off x="4998960" y="3949560"/>
              <a:ext cx="144360" cy="5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0" name=""/>
            <p:cNvCxnSpPr/>
            <p:nvPr/>
          </p:nvCxnSpPr>
          <p:spPr>
            <a:xfrm flipH="1" flipV="1">
              <a:off x="4998960" y="4122720"/>
              <a:ext cx="144360" cy="5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1" name=""/>
            <p:cNvCxnSpPr/>
            <p:nvPr/>
          </p:nvCxnSpPr>
          <p:spPr>
            <a:xfrm flipH="1" flipV="1">
              <a:off x="4999320" y="4295880"/>
              <a:ext cx="97920" cy="5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2" name=""/>
            <p:cNvSpPr/>
            <p:nvPr/>
          </p:nvSpPr>
          <p:spPr>
            <a:xfrm>
              <a:off x="5097240" y="371736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97240" y="435492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99680" y="3658680"/>
              <a:ext cx="1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99680" y="3717360"/>
              <a:ext cx="1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999680" y="3890520"/>
              <a:ext cx="97200" cy="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97240" y="348516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" name=""/>
            <p:cNvCxnSpPr/>
            <p:nvPr/>
          </p:nvCxnSpPr>
          <p:spPr>
            <a:xfrm flipV="1">
              <a:off x="6059520" y="4008240"/>
              <a:ext cx="147240" cy="11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9" name=""/>
            <p:cNvCxnSpPr/>
            <p:nvPr/>
          </p:nvCxnSpPr>
          <p:spPr>
            <a:xfrm flipV="1">
              <a:off x="6059520" y="4181400"/>
              <a:ext cx="147240" cy="11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0" name=""/>
            <p:cNvCxnSpPr/>
            <p:nvPr/>
          </p:nvCxnSpPr>
          <p:spPr>
            <a:xfrm flipH="1" flipV="1">
              <a:off x="6059160" y="3949560"/>
              <a:ext cx="147240" cy="5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1" name=""/>
            <p:cNvCxnSpPr/>
            <p:nvPr/>
          </p:nvCxnSpPr>
          <p:spPr>
            <a:xfrm flipH="1" flipV="1">
              <a:off x="6059160" y="4122720"/>
              <a:ext cx="147240" cy="5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2" name=""/>
            <p:cNvCxnSpPr/>
            <p:nvPr/>
          </p:nvCxnSpPr>
          <p:spPr>
            <a:xfrm flipH="1" flipV="1">
              <a:off x="6059520" y="4295880"/>
              <a:ext cx="97920" cy="5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6157080" y="371736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57080" y="435492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59880" y="3658680"/>
              <a:ext cx="1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59880" y="3717360"/>
              <a:ext cx="1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6059880" y="3890520"/>
              <a:ext cx="97200" cy="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57080" y="348516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92280" y="3426480"/>
              <a:ext cx="97920" cy="1170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90560" y="3426480"/>
              <a:ext cx="95040" cy="1170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85600" y="3426480"/>
              <a:ext cx="97200" cy="1170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85080" y="3479400"/>
              <a:ext cx="336960" cy="79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97240" y="3485160"/>
              <a:ext cx="9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8848400">
              <a:off x="5616000" y="3436920"/>
              <a:ext cx="117000" cy="95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8848400">
              <a:off x="5760720" y="3436920"/>
              <a:ext cx="117000" cy="9504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8848400">
              <a:off x="5905800" y="3435840"/>
              <a:ext cx="117000" cy="9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93320" y="3493800"/>
              <a:ext cx="443880" cy="9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28200" y="3485160"/>
              <a:ext cx="12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92720" y="4049640"/>
              <a:ext cx="71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Rsubstr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93320" y="2932920"/>
              <a:ext cx="54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20720" y="2932920"/>
              <a:ext cx="35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91640" y="3755880"/>
              <a:ext cx="297720" cy="2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66080" y="37756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00800" y="39643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445600" y="37645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51080" y="452844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99680" y="4590360"/>
              <a:ext cx="1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46120" y="4646160"/>
              <a:ext cx="9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3080" y="452844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59880" y="4590360"/>
              <a:ext cx="1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08480" y="4646160"/>
              <a:ext cx="9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90360" y="3482640"/>
              <a:ext cx="13932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494200" y="3667320"/>
              <a:ext cx="263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255200" y="4687920"/>
            <a:ext cx="478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Spiral Inductor cross-section and Top vie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83680" y="343044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26480" y="343044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69280" y="343044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916840" y="343044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780000" y="1289160"/>
            <a:ext cx="4678200" cy="2776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굴림"/>
              </a:rPr>
              <a:t>Parasitic inductor model extrac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5840" y="4878360"/>
            <a:ext cx="3068640" cy="7477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5320" y="3909960"/>
            <a:ext cx="2292480" cy="6732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659480" y="4222800"/>
            <a:ext cx="4647600" cy="2518920"/>
            <a:chOff x="4659480" y="4222800"/>
            <a:chExt cx="4647600" cy="2518920"/>
          </a:xfrm>
        </p:grpSpPr>
        <p:sp>
          <p:nvSpPr>
            <p:cNvPr id="164" name=""/>
            <p:cNvSpPr/>
            <p:nvPr/>
          </p:nvSpPr>
          <p:spPr>
            <a:xfrm>
              <a:off x="4735440" y="4241880"/>
              <a:ext cx="4571640" cy="24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subckt spind in1 in2 g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1 in1b in2b ‘sl*1e-9'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x1 in1 a1 '(-0.0005*sl*sl+0.0312*sl+0.0543)/2*1e-12'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sub3 a1 gnd  '(-0.0789*sl+31.7071+ 3.4892/sl)*2'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x2 in2 a2   '(-0.0005*sl*sl+0.0312*sl+0.0543)/2*1e-12'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sub4 a2 gnd   '(-0.0789*sl+31.7071+ 3.4892/sl)*2'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ser1 in1 in1b '(-0.0296*sl*sl+1.830007*sl+2.2875)/2'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ser2 in2 in2b '(-0.0296*sl*sl+1.830007*sl+2.2875)/2'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e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59480" y="4222800"/>
              <a:ext cx="4130280" cy="2448000"/>
            </a:xfrm>
            <a:prstGeom prst="flowChartAlternateProcess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925280" y="1700280"/>
            <a:ext cx="593640" cy="164520"/>
            <a:chOff x="1925280" y="1700280"/>
            <a:chExt cx="593640" cy="164520"/>
          </a:xfrm>
        </p:grpSpPr>
        <p:grpSp>
          <p:nvGrpSpPr>
            <p:cNvPr id="167" name=""/>
            <p:cNvGrpSpPr/>
            <p:nvPr/>
          </p:nvGrpSpPr>
          <p:grpSpPr>
            <a:xfrm>
              <a:off x="2272320" y="1700280"/>
              <a:ext cx="98280" cy="164160"/>
              <a:chOff x="2272320" y="1700280"/>
              <a:chExt cx="98280" cy="164160"/>
            </a:xfrm>
          </p:grpSpPr>
          <p:sp>
            <p:nvSpPr>
              <p:cNvPr id="168" name=""/>
              <p:cNvSpPr/>
              <p:nvPr/>
            </p:nvSpPr>
            <p:spPr>
              <a:xfrm flipH="1" flipV="1">
                <a:off x="2321640" y="1700280"/>
                <a:ext cx="48960" cy="164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2272320" y="1700280"/>
                <a:ext cx="49320" cy="164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173320" y="1700280"/>
              <a:ext cx="98280" cy="164160"/>
              <a:chOff x="2173320" y="1700280"/>
              <a:chExt cx="98280" cy="164160"/>
            </a:xfrm>
          </p:grpSpPr>
          <p:sp>
            <p:nvSpPr>
              <p:cNvPr id="171" name=""/>
              <p:cNvSpPr/>
              <p:nvPr/>
            </p:nvSpPr>
            <p:spPr>
              <a:xfrm flipH="1" flipV="1">
                <a:off x="2222640" y="1700280"/>
                <a:ext cx="48960" cy="164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2173320" y="1700280"/>
                <a:ext cx="49320" cy="164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2073960" y="1700280"/>
              <a:ext cx="99000" cy="164160"/>
              <a:chOff x="2073960" y="1700280"/>
              <a:chExt cx="99000" cy="164160"/>
            </a:xfrm>
          </p:grpSpPr>
          <p:sp>
            <p:nvSpPr>
              <p:cNvPr id="174" name=""/>
              <p:cNvSpPr/>
              <p:nvPr/>
            </p:nvSpPr>
            <p:spPr>
              <a:xfrm flipH="1" flipV="1">
                <a:off x="2123640" y="1700280"/>
                <a:ext cx="49320" cy="164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2073960" y="1700280"/>
                <a:ext cx="49680" cy="164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2370600" y="1864800"/>
              <a:ext cx="1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925280" y="1864800"/>
              <a:ext cx="1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742680" y="1878120"/>
            <a:ext cx="299160" cy="677520"/>
            <a:chOff x="742680" y="1878120"/>
            <a:chExt cx="299160" cy="677520"/>
          </a:xfrm>
        </p:grpSpPr>
        <p:sp>
          <p:nvSpPr>
            <p:cNvPr id="179" name=""/>
            <p:cNvSpPr/>
            <p:nvPr/>
          </p:nvSpPr>
          <p:spPr>
            <a:xfrm>
              <a:off x="889560" y="1878120"/>
              <a:ext cx="2160" cy="28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92080" y="2216880"/>
              <a:ext cx="2520" cy="33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742680" y="2159640"/>
              <a:ext cx="298440" cy="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1576000">
              <a:off x="743040" y="2216880"/>
              <a:ext cx="298440" cy="56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96"/>
                  </a:moveTo>
                  <a:cubicBezTo>
                    <a:pt x="32" y="48"/>
                    <a:pt x="64" y="0"/>
                    <a:pt x="96" y="0"/>
                  </a:cubicBezTo>
                  <a:cubicBezTo>
                    <a:pt x="128" y="0"/>
                    <a:pt x="176" y="80"/>
                    <a:pt x="192" y="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327400" y="3062160"/>
            <a:ext cx="298440" cy="405000"/>
            <a:chOff x="2327400" y="3062160"/>
            <a:chExt cx="298440" cy="405000"/>
          </a:xfrm>
        </p:grpSpPr>
        <p:sp>
          <p:nvSpPr>
            <p:cNvPr id="184" name=""/>
            <p:cNvSpPr/>
            <p:nvPr/>
          </p:nvSpPr>
          <p:spPr>
            <a:xfrm>
              <a:off x="2476440" y="3062160"/>
              <a:ext cx="0" cy="30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27400" y="336564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77080" y="3416400"/>
              <a:ext cx="19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26760" y="3467160"/>
              <a:ext cx="9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452600" y="1727280"/>
            <a:ext cx="518760" cy="269640"/>
            <a:chOff x="1452600" y="1727280"/>
            <a:chExt cx="518760" cy="269640"/>
          </a:xfrm>
        </p:grpSpPr>
        <p:grpSp>
          <p:nvGrpSpPr>
            <p:cNvPr id="189" name=""/>
            <p:cNvGrpSpPr/>
            <p:nvPr/>
          </p:nvGrpSpPr>
          <p:grpSpPr>
            <a:xfrm>
              <a:off x="1549080" y="1727280"/>
              <a:ext cx="346680" cy="269640"/>
              <a:chOff x="1549080" y="1727280"/>
              <a:chExt cx="346680" cy="26964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1740240" y="1727280"/>
                <a:ext cx="155520" cy="260640"/>
                <a:chOff x="1740240" y="1727280"/>
                <a:chExt cx="155520" cy="260640"/>
              </a:xfrm>
            </p:grpSpPr>
            <p:sp>
              <p:nvSpPr>
                <p:cNvPr id="191" name=""/>
                <p:cNvSpPr/>
                <p:nvPr/>
              </p:nvSpPr>
              <p:spPr>
                <a:xfrm flipH="1" rot="5238600">
                  <a:off x="1690200" y="1785960"/>
                  <a:ext cx="25416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 flipV="1" rot="5238600">
                  <a:off x="1691280" y="1785960"/>
                  <a:ext cx="25416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44480" y="1731960"/>
                <a:ext cx="155520" cy="260640"/>
                <a:chOff x="1644480" y="1731960"/>
                <a:chExt cx="155520" cy="260640"/>
              </a:xfrm>
            </p:grpSpPr>
            <p:sp>
              <p:nvSpPr>
                <p:cNvPr id="194" name=""/>
                <p:cNvSpPr/>
                <p:nvPr/>
              </p:nvSpPr>
              <p:spPr>
                <a:xfrm flipH="1" rot="5238600">
                  <a:off x="1594440" y="1790640"/>
                  <a:ext cx="25416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 flipV="1" rot="5238600">
                  <a:off x="1595520" y="1790640"/>
                  <a:ext cx="25416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1549080" y="1736280"/>
                <a:ext cx="155160" cy="260640"/>
                <a:chOff x="1549080" y="1736280"/>
                <a:chExt cx="155160" cy="260640"/>
              </a:xfrm>
            </p:grpSpPr>
            <p:sp>
              <p:nvSpPr>
                <p:cNvPr id="197" name=""/>
                <p:cNvSpPr/>
                <p:nvPr/>
              </p:nvSpPr>
              <p:spPr>
                <a:xfrm flipH="1" rot="5238600">
                  <a:off x="1499040" y="1794960"/>
                  <a:ext cx="25416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 flipV="1" rot="5238600">
                  <a:off x="1499760" y="1794960"/>
                  <a:ext cx="25416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 rot="5238600">
                <a:off x="1744560" y="1858680"/>
                <a:ext cx="50400" cy="4572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0" y="46"/>
                    </a:moveTo>
                    <a:cubicBezTo>
                      <a:pt x="10" y="44"/>
                      <a:pt x="21" y="42"/>
                      <a:pt x="27" y="37"/>
                    </a:cubicBezTo>
                    <a:cubicBezTo>
                      <a:pt x="33" y="32"/>
                      <a:pt x="38" y="21"/>
                      <a:pt x="33" y="15"/>
                    </a:cubicBezTo>
                    <a:cubicBezTo>
                      <a:pt x="28" y="9"/>
                      <a:pt x="14" y="4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238600">
                <a:off x="1648800" y="1858680"/>
                <a:ext cx="50040" cy="4572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0" y="46"/>
                    </a:moveTo>
                    <a:cubicBezTo>
                      <a:pt x="10" y="44"/>
                      <a:pt x="21" y="42"/>
                      <a:pt x="27" y="37"/>
                    </a:cubicBezTo>
                    <a:cubicBezTo>
                      <a:pt x="33" y="32"/>
                      <a:pt x="38" y="21"/>
                      <a:pt x="33" y="15"/>
                    </a:cubicBezTo>
                    <a:cubicBezTo>
                      <a:pt x="28" y="9"/>
                      <a:pt x="14" y="4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 flipH="1">
              <a:off x="1884240" y="1857600"/>
              <a:ext cx="8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52600" y="1877400"/>
              <a:ext cx="10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902880" y="1717200"/>
            <a:ext cx="593640" cy="165240"/>
            <a:chOff x="902880" y="1717200"/>
            <a:chExt cx="593640" cy="165240"/>
          </a:xfrm>
        </p:grpSpPr>
        <p:grpSp>
          <p:nvGrpSpPr>
            <p:cNvPr id="204" name=""/>
            <p:cNvGrpSpPr/>
            <p:nvPr/>
          </p:nvGrpSpPr>
          <p:grpSpPr>
            <a:xfrm>
              <a:off x="1249920" y="1717200"/>
              <a:ext cx="98280" cy="164880"/>
              <a:chOff x="1249920" y="1717200"/>
              <a:chExt cx="98280" cy="164880"/>
            </a:xfrm>
          </p:grpSpPr>
          <p:sp>
            <p:nvSpPr>
              <p:cNvPr id="205" name=""/>
              <p:cNvSpPr/>
              <p:nvPr/>
            </p:nvSpPr>
            <p:spPr>
              <a:xfrm flipH="1" flipV="1">
                <a:off x="1299240" y="1717200"/>
                <a:ext cx="48960" cy="16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1249920" y="1717560"/>
                <a:ext cx="49320" cy="16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1150920" y="1717200"/>
              <a:ext cx="98280" cy="164880"/>
              <a:chOff x="1150920" y="1717200"/>
              <a:chExt cx="98280" cy="164880"/>
            </a:xfrm>
          </p:grpSpPr>
          <p:sp>
            <p:nvSpPr>
              <p:cNvPr id="208" name=""/>
              <p:cNvSpPr/>
              <p:nvPr/>
            </p:nvSpPr>
            <p:spPr>
              <a:xfrm flipH="1" flipV="1">
                <a:off x="1200240" y="1717200"/>
                <a:ext cx="48960" cy="16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1150920" y="1717560"/>
                <a:ext cx="49320" cy="16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1051560" y="1717200"/>
              <a:ext cx="99000" cy="164880"/>
              <a:chOff x="1051560" y="1717200"/>
              <a:chExt cx="99000" cy="164880"/>
            </a:xfrm>
          </p:grpSpPr>
          <p:sp>
            <p:nvSpPr>
              <p:cNvPr id="211" name=""/>
              <p:cNvSpPr/>
              <p:nvPr/>
            </p:nvSpPr>
            <p:spPr>
              <a:xfrm flipH="1" flipV="1">
                <a:off x="1101240" y="1717200"/>
                <a:ext cx="49320" cy="16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1051560" y="1717560"/>
                <a:ext cx="49680" cy="16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1348200" y="1882440"/>
              <a:ext cx="1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902880" y="1882440"/>
              <a:ext cx="1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330280" y="1857240"/>
            <a:ext cx="298800" cy="675000"/>
            <a:chOff x="2330280" y="1857240"/>
            <a:chExt cx="298800" cy="675000"/>
          </a:xfrm>
        </p:grpSpPr>
        <p:sp>
          <p:nvSpPr>
            <p:cNvPr id="216" name=""/>
            <p:cNvSpPr/>
            <p:nvPr/>
          </p:nvSpPr>
          <p:spPr>
            <a:xfrm>
              <a:off x="2494440" y="1857240"/>
              <a:ext cx="2160" cy="28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80040" y="2193840"/>
              <a:ext cx="2160" cy="3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2330280" y="2138760"/>
              <a:ext cx="297000" cy="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21576000">
              <a:off x="2331720" y="2193840"/>
              <a:ext cx="297000" cy="5724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96"/>
                  </a:moveTo>
                  <a:cubicBezTo>
                    <a:pt x="32" y="48"/>
                    <a:pt x="64" y="0"/>
                    <a:pt x="96" y="0"/>
                  </a:cubicBezTo>
                  <a:cubicBezTo>
                    <a:pt x="128" y="0"/>
                    <a:pt x="176" y="80"/>
                    <a:pt x="192" y="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41240" y="3029040"/>
            <a:ext cx="298440" cy="404640"/>
            <a:chOff x="741240" y="3029040"/>
            <a:chExt cx="298440" cy="404640"/>
          </a:xfrm>
        </p:grpSpPr>
        <p:sp>
          <p:nvSpPr>
            <p:cNvPr id="221" name=""/>
            <p:cNvSpPr/>
            <p:nvPr/>
          </p:nvSpPr>
          <p:spPr>
            <a:xfrm>
              <a:off x="890280" y="3029040"/>
              <a:ext cx="0" cy="30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1240" y="333216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0920" y="3382920"/>
              <a:ext cx="19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40600" y="3433680"/>
              <a:ext cx="9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477880" y="2438640"/>
            <a:ext cx="146160" cy="673200"/>
            <a:chOff x="2477880" y="2438640"/>
            <a:chExt cx="146160" cy="673200"/>
          </a:xfrm>
        </p:grpSpPr>
        <p:grpSp>
          <p:nvGrpSpPr>
            <p:cNvPr id="226" name=""/>
            <p:cNvGrpSpPr/>
            <p:nvPr/>
          </p:nvGrpSpPr>
          <p:grpSpPr>
            <a:xfrm>
              <a:off x="2477880" y="2831400"/>
              <a:ext cx="146160" cy="111960"/>
              <a:chOff x="2477880" y="2831400"/>
              <a:chExt cx="146160" cy="111960"/>
            </a:xfrm>
          </p:grpSpPr>
          <p:sp>
            <p:nvSpPr>
              <p:cNvPr id="227" name=""/>
              <p:cNvSpPr/>
              <p:nvPr/>
            </p:nvSpPr>
            <p:spPr>
              <a:xfrm flipV="1">
                <a:off x="2478240" y="2887560"/>
                <a:ext cx="145800" cy="5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>
                <a:off x="2477880" y="2831400"/>
                <a:ext cx="145800" cy="5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477880" y="2719080"/>
              <a:ext cx="146160" cy="111960"/>
              <a:chOff x="2477880" y="2719080"/>
              <a:chExt cx="146160" cy="111960"/>
            </a:xfrm>
          </p:grpSpPr>
          <p:sp>
            <p:nvSpPr>
              <p:cNvPr id="230" name=""/>
              <p:cNvSpPr/>
              <p:nvPr/>
            </p:nvSpPr>
            <p:spPr>
              <a:xfrm flipV="1">
                <a:off x="2478240" y="2775240"/>
                <a:ext cx="145800" cy="5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2477880" y="2719080"/>
                <a:ext cx="145800" cy="5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2477880" y="2607120"/>
              <a:ext cx="146160" cy="111960"/>
              <a:chOff x="2477880" y="2607120"/>
              <a:chExt cx="146160" cy="111960"/>
            </a:xfrm>
          </p:grpSpPr>
          <p:sp>
            <p:nvSpPr>
              <p:cNvPr id="233" name=""/>
              <p:cNvSpPr/>
              <p:nvPr/>
            </p:nvSpPr>
            <p:spPr>
              <a:xfrm flipV="1">
                <a:off x="2478240" y="2663280"/>
                <a:ext cx="145800" cy="5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2477880" y="2607120"/>
                <a:ext cx="145800" cy="5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2477880" y="2943720"/>
              <a:ext cx="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477880" y="2438640"/>
              <a:ext cx="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730080" y="2429280"/>
            <a:ext cx="160200" cy="673200"/>
            <a:chOff x="730080" y="2429280"/>
            <a:chExt cx="160200" cy="673200"/>
          </a:xfrm>
        </p:grpSpPr>
        <p:grpSp>
          <p:nvGrpSpPr>
            <p:cNvPr id="238" name=""/>
            <p:cNvGrpSpPr/>
            <p:nvPr/>
          </p:nvGrpSpPr>
          <p:grpSpPr>
            <a:xfrm>
              <a:off x="730080" y="2822040"/>
              <a:ext cx="159840" cy="111960"/>
              <a:chOff x="730080" y="2822040"/>
              <a:chExt cx="159840" cy="111960"/>
            </a:xfrm>
          </p:grpSpPr>
          <p:sp>
            <p:nvSpPr>
              <p:cNvPr id="239" name=""/>
              <p:cNvSpPr/>
              <p:nvPr/>
            </p:nvSpPr>
            <p:spPr>
              <a:xfrm flipH="1" flipV="1">
                <a:off x="730080" y="2878200"/>
                <a:ext cx="159840" cy="5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730080" y="2822040"/>
                <a:ext cx="159840" cy="5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730080" y="2709720"/>
              <a:ext cx="159840" cy="111960"/>
              <a:chOff x="730080" y="2709720"/>
              <a:chExt cx="159840" cy="111960"/>
            </a:xfrm>
          </p:grpSpPr>
          <p:sp>
            <p:nvSpPr>
              <p:cNvPr id="242" name=""/>
              <p:cNvSpPr/>
              <p:nvPr/>
            </p:nvSpPr>
            <p:spPr>
              <a:xfrm flipH="1" flipV="1">
                <a:off x="730080" y="2765880"/>
                <a:ext cx="159840" cy="5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730080" y="2709720"/>
                <a:ext cx="159840" cy="5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730080" y="2597760"/>
              <a:ext cx="159840" cy="111960"/>
              <a:chOff x="730080" y="2597760"/>
              <a:chExt cx="159840" cy="111960"/>
            </a:xfrm>
          </p:grpSpPr>
          <p:sp>
            <p:nvSpPr>
              <p:cNvPr id="245" name=""/>
              <p:cNvSpPr/>
              <p:nvPr/>
            </p:nvSpPr>
            <p:spPr>
              <a:xfrm flipH="1" flipV="1">
                <a:off x="730080" y="2653920"/>
                <a:ext cx="159840" cy="5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730080" y="2597760"/>
                <a:ext cx="159840" cy="5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890280" y="2934360"/>
              <a:ext cx="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890280" y="2429280"/>
              <a:ext cx="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495800" y="13683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99360" y="13413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se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29440" y="136224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ser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16480" y="205740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92360" y="262080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su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35760" y="3902040"/>
            <a:ext cx="23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bricate indu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1280" y="489096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librate and interpol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y using EM Si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70120" y="5899320"/>
            <a:ext cx="1744560" cy="5061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78040" y="590544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rve Fi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780800">
            <a:off x="3315960" y="3808440"/>
            <a:ext cx="1028520" cy="619200"/>
          </a:xfrm>
          <a:prstGeom prst="rightArrow">
            <a:avLst>
              <a:gd name="adj1" fmla="val 50000"/>
              <a:gd name="adj2" fmla="val 4152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12880" y="4560840"/>
            <a:ext cx="0" cy="32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98480" y="56275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83160" y="1892160"/>
            <a:ext cx="106200" cy="84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16480" y="1644480"/>
            <a:ext cx="106560" cy="84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935840" y="1449360"/>
            <a:ext cx="106560" cy="84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99000" y="2813040"/>
            <a:ext cx="106200" cy="84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232680" y="2690640"/>
            <a:ext cx="106200" cy="84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951680" y="2568600"/>
            <a:ext cx="106560" cy="84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13400" y="3648240"/>
            <a:ext cx="106200" cy="83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257880" y="3714840"/>
            <a:ext cx="106560" cy="83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24680" y="3740040"/>
            <a:ext cx="106560" cy="84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6T05:25:42Z</dcterms:created>
  <dc:creator>Art Downey</dc:creator>
  <dc:description>V4.0 12/23/01 changes for 2001
V4.1 05/13/01 remove references to '97 and 4
V4.2 05/18/01 feedback from select meeting</dc:description>
  <dc:language>en-US</dc:language>
  <cp:lastModifiedBy>Valued Sony Customer</cp:lastModifiedBy>
  <cp:lastPrinted>2002-02-05T19:22:32Z</cp:lastPrinted>
  <dcterms:modified xsi:type="dcterms:W3CDTF">2003-06-18T19:29:08Z</dcterms:modified>
  <cp:revision>138</cp:revision>
  <dc:subject>ITC '01 Electronic presentation guide/template</dc:subject>
  <dc:title>Presentation Guide</dc:title>
</cp:coreProperties>
</file>