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25.png" ContentType="image/png"/>
  <Override PartName="/ppt/media/image10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BCED-18C1-4A65-AEB6-6B7EEC0C1D4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ample presentation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74AC-9791-4961-900E-C39D78558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34A7-3670-4E43-BED2-0146C8BB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D00C-67A4-46B4-A7E8-3DEF85699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22E6-5441-47F9-9FF7-77EE71776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CEFD-7314-4506-970A-71E2EE86B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475F-26D4-4559-8171-8CE2402B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C449-81C4-4B90-A188-4E685254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753F-C087-41E8-A628-21A3CFD0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8684-EEE2-4808-95EC-29E1A420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E55E-B436-4D9F-92A9-DA19AEB5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800B-5CD4-4ED9-BED8-02F6B7B6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C958-7551-4ABC-A2FE-E7A90C6A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B236-59C3-4901-96E2-B8EC67C9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7894-F08B-42DA-A89C-533C8E4A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C443-775D-406D-8F1D-127D04C2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FB41-7E7A-4041-BF15-9AD089102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48DD-DF48-47E4-97FC-DFE2BC637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4B22-9A96-40BF-8567-E5662DDE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69CB-EDA1-4C3D-89E2-49E9721B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4A74-6985-4D9D-8E80-B59DEC52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66BE-8802-4CBC-8CAF-246CC0CC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20BE-70D0-4797-A19E-B2478C4E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49F5-FBDF-4603-8B61-FEF403CA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9DF9-1F52-47D3-AF45-5F76AFAA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8236-A7FE-4453-B575-7CFB21D3E6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5F1C-0010-487E-8500-2848B6E721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9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95160" y="5776920"/>
            <a:ext cx="1447920" cy="60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4352760" y="5700600"/>
          <a:ext cx="820800" cy="83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2760" y="5700600"/>
                    <a:ext cx="8208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480440" y="5700600"/>
            <a:ext cx="745920" cy="762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24200" y="3733920"/>
            <a:ext cx="645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: Chuanyi Y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sor:  Vikram Jandhy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95160" y="1072800"/>
            <a:ext cx="7772400" cy="152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Time Domain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Surface Integral Technique  for Mixed Electromagnetic and Circuit Sim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85440" y="61704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Cross-talk Simulation with the Presence  of Substrat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2881440"/>
            <a:ext cx="3284640" cy="24638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041640" y="1859040"/>
            <a:ext cx="3086280" cy="23144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5870520" y="1881360"/>
            <a:ext cx="3273480" cy="23270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2994120" y="4216320"/>
            <a:ext cx="3085920" cy="24861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5985000" y="4246560"/>
            <a:ext cx="315900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Cross-talk Simulation with the Presence  of Substrat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3220920"/>
            <a:ext cx="3044880" cy="18525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978520" y="1870200"/>
            <a:ext cx="3165480" cy="2367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2951280" y="1839960"/>
            <a:ext cx="3081240" cy="2349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6091200" y="4307040"/>
            <a:ext cx="3052800" cy="25509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2925720" y="4260960"/>
            <a:ext cx="320220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Conclusion and Next Stage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79600" y="2152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resented Solver Is Capable of Full Wave Modeling of PEC or Lossy Conductors Under High Frequenc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Galerkin Testing  Higher Order Gauss Quadrature Integration Rule Leads to Ensured St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clusion of Finite Sized Dielectric Material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ext Stage Re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odeling of Lossy Medium in Time Dom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ast Time Domain Integral Solver based on QR-FF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19240" y="211932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1000" y="2208240"/>
            <a:ext cx="87930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Introduction and For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Tahoma"/>
              </a:rPr>
              <a:t>a. Implicit Time Domain Surface Integral Formulation Utilizing Equivalenc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ahoma"/>
              </a:rPr>
              <a:t>       </a:t>
            </a:r>
            <a:r>
              <a:rPr b="0" lang="en-US" sz="1600" spc="-1" strike="noStrike">
                <a:solidFill>
                  <a:srgbClr val="0033cc"/>
                </a:solidFill>
                <a:latin typeface="Tahoma"/>
              </a:rPr>
              <a:t>Princi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Tahoma"/>
              </a:rPr>
              <a:t>b. Direct Coupling to Modified Nodal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Tahoma"/>
              </a:rPr>
              <a:t>c. Stabilization of Time Domain Integral Equation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imulation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Tahoma"/>
              </a:rPr>
              <a:t>a.Improvement on Late Time Stability Associated with TD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33cc"/>
                </a:solidFill>
                <a:latin typeface="Tahoma"/>
              </a:rPr>
              <a:t>b.Differential Pair with Split Ground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33cc"/>
                </a:solidFill>
                <a:latin typeface="Tahoma"/>
              </a:rPr>
              <a:t>c.Cross-talk Simulation with the Presence of Subst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Next Stage Research and 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Tahoma"/>
              </a:rPr>
              <a:t>a.Modeling of Lossy Medium in Time Do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Tahoma"/>
              </a:rPr>
              <a:t>b.Fast Algorithm for the Coupled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Time Domain Integral    Equ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336708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95280" y="3048120"/>
          <a:ext cx="342432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048120"/>
                    <a:ext cx="342432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272120" y="2089080"/>
                <a:ext cx="4276440" cy="159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nc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nc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nc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08628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338720" y="3894120"/>
                <a:ext cx="4387680" cy="26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∇</m:t>
                                </m:r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∇</m:t>
                                </m:r>
                                <m:r>
                                  <m:t xml:space="preserve">×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c</m:t>
                                    </m:r>
                                  </m:sup>
                                </m:sSup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  <m:e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∇</m:t>
                                </m:r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∇</m:t>
                                </m:r>
                                <m:r>
                                  <m:t xml:space="preserve">×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c</m:t>
                                    </m:r>
                                  </m:sup>
                                </m:sSup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</m:e>
                      <m:e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∇</m:t>
                                </m:r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∇</m:t>
                                </m:r>
                                <m:r>
                                  <m:t xml:space="preserve">×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Direct Coupling to M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68160" y="2774880"/>
          <a:ext cx="4773960" cy="24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2774880"/>
                    <a:ext cx="477396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490680" y="1844640"/>
            <a:ext cx="2843640" cy="4188960"/>
            <a:chOff x="490680" y="1844640"/>
            <a:chExt cx="2843640" cy="4188960"/>
          </a:xfrm>
        </p:grpSpPr>
        <p:grpSp>
          <p:nvGrpSpPr>
            <p:cNvPr id="127" name=""/>
            <p:cNvGrpSpPr/>
            <p:nvPr/>
          </p:nvGrpSpPr>
          <p:grpSpPr>
            <a:xfrm>
              <a:off x="490680" y="1844640"/>
              <a:ext cx="2233440" cy="1170000"/>
              <a:chOff x="490680" y="1844640"/>
              <a:chExt cx="2233440" cy="1170000"/>
            </a:xfrm>
          </p:grpSpPr>
          <p:pic>
            <p:nvPicPr>
              <p:cNvPr id="12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146960" y="1844640"/>
                <a:ext cx="941040" cy="76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90680" y="1929600"/>
                <a:ext cx="851040" cy="69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906920" y="2205720"/>
                <a:ext cx="817200" cy="67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1209600" y="2715840"/>
                <a:ext cx="69480" cy="290880"/>
              </a:xfrm>
              <a:prstGeom prst="downArrow">
                <a:avLst>
                  <a:gd name="adj1" fmla="val 50000"/>
                  <a:gd name="adj2" fmla="val 104663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636200">
                <a:off x="1379160" y="2582280"/>
                <a:ext cx="68040" cy="432000"/>
              </a:xfrm>
              <a:prstGeom prst="downArrow">
                <a:avLst>
                  <a:gd name="adj1" fmla="val 50000"/>
                  <a:gd name="adj2" fmla="val 15873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 rot="14530800">
                <a:off x="1662840" y="2475000"/>
                <a:ext cx="70920" cy="692640"/>
              </a:xfrm>
              <a:prstGeom prst="downArrow">
                <a:avLst>
                  <a:gd name="adj1" fmla="val 50000"/>
                  <a:gd name="adj2" fmla="val 244162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1614600" y="5086080"/>
              <a:ext cx="1719720" cy="947520"/>
              <a:chOff x="1614600" y="5086080"/>
              <a:chExt cx="1719720" cy="94752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1614600" y="5086080"/>
                <a:ext cx="1719720" cy="947520"/>
                <a:chOff x="1614600" y="5086080"/>
                <a:chExt cx="1719720" cy="947520"/>
              </a:xfrm>
            </p:grpSpPr>
            <p:grpSp>
              <p:nvGrpSpPr>
                <p:cNvPr id="136" name=""/>
                <p:cNvGrpSpPr/>
                <p:nvPr/>
              </p:nvGrpSpPr>
              <p:grpSpPr>
                <a:xfrm>
                  <a:off x="1614600" y="5543280"/>
                  <a:ext cx="895680" cy="291960"/>
                  <a:chOff x="1614600" y="5543280"/>
                  <a:chExt cx="895680" cy="291960"/>
                </a:xfrm>
              </p:grpSpPr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1882080" y="5543280"/>
                    <a:ext cx="356400" cy="291960"/>
                    <a:chOff x="1882080" y="5543280"/>
                    <a:chExt cx="356400" cy="2919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 rot="21570600">
                      <a:off x="1883160" y="5545440"/>
                      <a:ext cx="88200" cy="28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0" y="10815"/>
                          </a:moveTo>
                          <a:arcTo wR="10800" hR="10800" stAng="10795224" swAng="1080477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0" y="10815"/>
                          </a:moveTo>
                          <a:arcTo wR="10800" hR="10800" stAng="10795224" swAng="10804776"/>
                        </a:path>
                      </a:pathLst>
                    </a:custGeom>
                    <a:noFill/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 rot="21570600">
                      <a:off x="1971720" y="5544720"/>
                      <a:ext cx="88200" cy="28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0" y="10815"/>
                          </a:moveTo>
                          <a:arcTo wR="10800" hR="10800" stAng="10795224" swAng="1080477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0" y="10815"/>
                          </a:moveTo>
                          <a:arcTo wR="10800" hR="10800" stAng="10795224" swAng="10804776"/>
                        </a:path>
                      </a:pathLst>
                    </a:custGeom>
                    <a:noFill/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 rot="21570600">
                      <a:off x="2060280" y="5544000"/>
                      <a:ext cx="88200" cy="28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0" y="10815"/>
                          </a:moveTo>
                          <a:arcTo wR="10800" hR="10800" stAng="10795224" swAng="1080477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0" y="10815"/>
                          </a:moveTo>
                          <a:arcTo wR="10800" hR="10800" stAng="10795224" swAng="10804776"/>
                        </a:path>
                      </a:pathLst>
                    </a:custGeom>
                    <a:noFill/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 rot="21570600">
                      <a:off x="2148840" y="5543280"/>
                      <a:ext cx="88200" cy="28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0" y="10815"/>
                          </a:moveTo>
                          <a:arcTo wR="10800" hR="10800" stAng="10795224" swAng="1080477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0" y="10815"/>
                          </a:moveTo>
                          <a:arcTo wR="10800" hR="10800" stAng="10795224" swAng="10804776"/>
                        </a:path>
                      </a:pathLst>
                    </a:custGeom>
                    <a:noFill/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" name=""/>
                  <p:cNvSpPr/>
                  <p:nvPr/>
                </p:nvSpPr>
                <p:spPr>
                  <a:xfrm flipV="1">
                    <a:off x="2244240" y="5685480"/>
                    <a:ext cx="266040" cy="2520"/>
                  </a:xfrm>
                  <a:prstGeom prst="line">
                    <a:avLst/>
                  </a:prstGeom>
                  <a:ln w="1260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flipV="1">
                    <a:off x="1614600" y="5690880"/>
                    <a:ext cx="264600" cy="2520"/>
                  </a:xfrm>
                  <a:prstGeom prst="line">
                    <a:avLst/>
                  </a:prstGeom>
                  <a:ln w="1260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"/>
                <p:cNvGrpSpPr/>
                <p:nvPr/>
              </p:nvGrpSpPr>
              <p:grpSpPr>
                <a:xfrm>
                  <a:off x="2502000" y="5637960"/>
                  <a:ext cx="458640" cy="321840"/>
                  <a:chOff x="2502000" y="5637960"/>
                  <a:chExt cx="458640" cy="321840"/>
                </a:xfrm>
              </p:grpSpPr>
              <p:grpSp>
                <p:nvGrpSpPr>
                  <p:cNvPr id="145" name=""/>
                  <p:cNvGrpSpPr/>
                  <p:nvPr/>
                </p:nvGrpSpPr>
                <p:grpSpPr>
                  <a:xfrm>
                    <a:off x="2668320" y="5637960"/>
                    <a:ext cx="81360" cy="321840"/>
                    <a:chOff x="2668320" y="5637960"/>
                    <a:chExt cx="81360" cy="321840"/>
                  </a:xfrm>
                </p:grpSpPr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2668320" y="5637960"/>
                      <a:ext cx="0" cy="321840"/>
                    </a:xfrm>
                    <a:prstGeom prst="line">
                      <a:avLst/>
                    </a:prstGeom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2749680" y="5637960"/>
                      <a:ext cx="0" cy="321840"/>
                    </a:xfrm>
                    <a:prstGeom prst="line">
                      <a:avLst/>
                    </a:prstGeom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8" name=""/>
                  <p:cNvSpPr/>
                  <p:nvPr/>
                </p:nvSpPr>
                <p:spPr>
                  <a:xfrm flipH="1">
                    <a:off x="2502000" y="5806440"/>
                    <a:ext cx="166320" cy="0"/>
                  </a:xfrm>
                  <a:prstGeom prst="line">
                    <a:avLst/>
                  </a:prstGeom>
                  <a:ln w="1260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2744280" y="5806440"/>
                    <a:ext cx="216360" cy="0"/>
                  </a:xfrm>
                  <a:prstGeom prst="line">
                    <a:avLst/>
                  </a:prstGeom>
                  <a:ln w="1260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"/>
                <p:cNvGrpSpPr/>
                <p:nvPr/>
              </p:nvGrpSpPr>
              <p:grpSpPr>
                <a:xfrm>
                  <a:off x="2999520" y="5086080"/>
                  <a:ext cx="334800" cy="947520"/>
                  <a:chOff x="2999520" y="5086080"/>
                  <a:chExt cx="334800" cy="947520"/>
                </a:xfrm>
              </p:grpSpPr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2999520" y="5313600"/>
                    <a:ext cx="334800" cy="431280"/>
                    <a:chOff x="2999520" y="5313600"/>
                    <a:chExt cx="334800" cy="431280"/>
                  </a:xfrm>
                </p:grpSpPr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999520" y="5313600"/>
                      <a:ext cx="334800" cy="2862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169080" y="5335560"/>
                      <a:ext cx="0" cy="348840"/>
                    </a:xfrm>
                    <a:prstGeom prst="line">
                      <a:avLst/>
                    </a:prstGeom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125880" y="5635800"/>
                      <a:ext cx="85680" cy="5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0" h="360">
                          <a:moveTo>
                            <a:pt x="0" y="0"/>
                          </a:moveTo>
                          <a:lnTo>
                            <a:pt x="510" y="0"/>
                          </a:lnTo>
                          <a:lnTo>
                            <a:pt x="255" y="36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3333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040" bIns="5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999520" y="5458680"/>
                      <a:ext cx="334800" cy="2862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3035160" y="5968080"/>
                    <a:ext cx="261720" cy="65520"/>
                    <a:chOff x="3035160" y="5968080"/>
                    <a:chExt cx="261720" cy="6552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 flipH="1">
                      <a:off x="3035160" y="5968080"/>
                      <a:ext cx="261720" cy="0"/>
                    </a:xfrm>
                    <a:prstGeom prst="line">
                      <a:avLst/>
                    </a:prstGeom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 flipH="1">
                      <a:off x="3098520" y="6000840"/>
                      <a:ext cx="135360" cy="0"/>
                    </a:xfrm>
                    <a:prstGeom prst="line">
                      <a:avLst/>
                    </a:prstGeom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 flipH="1">
                      <a:off x="3134880" y="6033600"/>
                      <a:ext cx="63000" cy="0"/>
                    </a:xfrm>
                    <a:prstGeom prst="line">
                      <a:avLst/>
                    </a:prstGeom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0" name=""/>
                  <p:cNvSpPr/>
                  <p:nvPr/>
                </p:nvSpPr>
                <p:spPr>
                  <a:xfrm>
                    <a:off x="3166560" y="5086080"/>
                    <a:ext cx="2880" cy="273960"/>
                  </a:xfrm>
                  <a:prstGeom prst="line">
                    <a:avLst/>
                  </a:prstGeom>
                  <a:ln w="1260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3166560" y="5736240"/>
                    <a:ext cx="0" cy="231840"/>
                  </a:xfrm>
                  <a:prstGeom prst="line">
                    <a:avLst/>
                  </a:prstGeom>
                  <a:ln w="1260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"/>
                <p:cNvSpPr/>
                <p:nvPr/>
              </p:nvSpPr>
              <p:spPr>
                <a:xfrm>
                  <a:off x="2538720" y="5187960"/>
                  <a:ext cx="86760" cy="385200"/>
                </a:xfrm>
                <a:prstGeom prst="upArrow">
                  <a:avLst>
                    <a:gd name="adj1" fmla="val 50000"/>
                    <a:gd name="adj2" fmla="val 110996"/>
                  </a:avLst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 rot="2640000">
                <a:off x="2192760" y="5079960"/>
                <a:ext cx="86760" cy="454320"/>
              </a:xfrm>
              <a:prstGeom prst="upArrow">
                <a:avLst>
                  <a:gd name="adj1" fmla="val 50000"/>
                  <a:gd name="adj2" fmla="val 130913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448000">
                <a:off x="2857680" y="5232960"/>
                <a:ext cx="88200" cy="208080"/>
              </a:xfrm>
              <a:prstGeom prst="upArrow">
                <a:avLst>
                  <a:gd name="adj1" fmla="val 50000"/>
                  <a:gd name="adj2" fmla="val 5898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65" name=""/>
          <p:cNvGraphicFramePr/>
          <p:nvPr/>
        </p:nvGraphicFramePr>
        <p:xfrm>
          <a:off x="5700600" y="2265480"/>
          <a:ext cx="1859040" cy="1535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00600" y="2265480"/>
                    <a:ext cx="1859040" cy="15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813280" y="3971880"/>
          <a:ext cx="1627200" cy="625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813280" y="3971880"/>
                    <a:ext cx="162720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853240" y="4651200"/>
                <a:ext cx="15620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4210200" y="5475240"/>
            <a:ext cx="493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rect coupling enable us to get things done by the best tools for each part of th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15680" y="691920"/>
            <a:ext cx="704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Stabilization of TDIE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17622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933480" y="2352600"/>
                <a:ext cx="5756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α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α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α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α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w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30384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3364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871560" y="3129120"/>
                <a:ext cx="5499000" cy="21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p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p>
                                          <m:r>
                                            <m:t xml:space="preserve">0</m:t>
                                          </m:r>
                                        </m:sup>
                                      </m:sSup>
                                    </m:e>
                                  </m:d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p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p>
                                          <m:r>
                                            <m:t xml:space="preserve">0</m:t>
                                          </m:r>
                                        </m:sup>
                                      </m:sSup>
                                    </m:e>
                                  </m:d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p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p>
                                          <m:r>
                                            <m:t xml:space="preserve">0</m:t>
                                          </m:r>
                                        </m:sup>
                                      </m:sSup>
                                    </m:e>
                                  </m:d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 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p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p>
                                          <m:r>
                                            <m:t xml:space="preserve">0</m:t>
                                          </m:r>
                                        </m:sup>
                                      </m:sSup>
                                    </m:e>
                                  </m:d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W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/>
                            <m:e/>
                            <m:e/>
                          </m:mr>
                          <m:mr>
                            <m:e/>
                            <m:e>
                              <m:r>
                                <m:t xml:space="preserve">1</m:t>
                              </m:r>
                            </m:e>
                            <m:e/>
                            <m:e/>
                          </m:mr>
                          <m:mr>
                            <m:e/>
                            <m:e/>
                            <m:e>
                              <m:r>
                                <m:t xml:space="preserve">1</m:t>
                              </m:r>
                            </m:e>
                            <m:e/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809640" y="5514840"/>
            <a:ext cx="697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For a marching on time system, where the unknowns at current time can be described in terms of unknowns of earlier time, if the system is a stable one the eigenvalues of above matrix should be enclosed in a unit circle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48960" y="1137960"/>
            <a:ext cx="5869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Stabilization of TDI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977760" y="2173320"/>
            <a:ext cx="3256200" cy="1870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568760" y="1787400"/>
            <a:ext cx="3995640" cy="2306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36480" y="4102200"/>
            <a:ext cx="3884760" cy="25588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4616280" y="4094280"/>
            <a:ext cx="366084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1054080"/>
            <a:ext cx="77929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Stabilization of TDI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7200" y="1987560"/>
            <a:ext cx="3144960" cy="2378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170240" y="2030400"/>
            <a:ext cx="4191120" cy="22096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11040" y="4476600"/>
            <a:ext cx="3733920" cy="2381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4216320" y="4419720"/>
            <a:ext cx="4114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Circuit T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54120" y="1833480"/>
            <a:ext cx="3463920" cy="16923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0" y="4222800"/>
            <a:ext cx="4267080" cy="2438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4591080" y="1832040"/>
            <a:ext cx="3886200" cy="21304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4692600" y="4211640"/>
            <a:ext cx="3801960" cy="2367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852480" y="3679920"/>
            <a:ext cx="22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Small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55440" y="1145880"/>
            <a:ext cx="818820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Differential Pair Over Split Ground Plan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89080" y="2046240"/>
            <a:ext cx="3409920" cy="28670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356000" y="1820880"/>
            <a:ext cx="4570560" cy="21985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429080" y="4203720"/>
            <a:ext cx="4570560" cy="2468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68120" y="5184720"/>
            <a:ext cx="373392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ACES IEEE/EMC Society TC9        2001 Challenging Problem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-Find:Volt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Between Line+ and CM Ground Point On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6T05:25:42Z</dcterms:created>
  <dc:creator>Art Downey</dc:creator>
  <dc:description>V4.0 12/23/01 changes for 2001
V4.1 05/13/01 remove references to '97 and 4
V4.2 05/18/01 feedback from select meeting</dc:description>
  <dc:language>en-US</dc:language>
  <cp:lastModifiedBy>Vikram</cp:lastModifiedBy>
  <cp:lastPrinted>2002-02-05T19:22:32Z</cp:lastPrinted>
  <dcterms:modified xsi:type="dcterms:W3CDTF">2003-06-18T21:33:58Z</dcterms:modified>
  <cp:revision>149</cp:revision>
  <dc:subject>ITC '01 Electronic presentation guide/template</dc:subject>
  <dc:title>Presentation Guide</dc:title>
</cp:coreProperties>
</file>