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.png" ContentType="image/pn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DFA-8C40-4974-9B72-996A4CCC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165-A539-499E-8BB5-363BECF7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934-D2B8-4E93-BFFA-8A0E723A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9C9-F4EB-4357-973D-0859C4E8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EDB-E720-48FF-93DC-726E2484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59F-8EC9-46D6-9C76-31A391C5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CB6-84E5-4B04-A26A-D9335F56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106-96F7-4661-BFF5-0B8BE423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BB8-372D-4094-B413-890C4258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276-11F3-4473-999A-024B54D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277-15FB-45D6-BE7B-6B7ED888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A0C-3604-4450-BF20-CD587A2B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F431-9667-4914-8342-AA2679AF9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72240" y="58672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886200" y="57150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7150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1790280" y="35334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67040" y="30290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296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133720"/>
            <a:ext cx="8686800" cy="35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Realistic Material Effect Simulation in the Frequency 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gato Chakrabo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04760" y="838080"/>
            <a:ext cx="698184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rface Current 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-457200" y="1828800"/>
            <a:ext cx="6629400" cy="4449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4191120" y="1600200"/>
            <a:ext cx="5356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52280" y="838080"/>
            <a:ext cx="358164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kin Dep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1790280" y="37620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867040" y="32576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67320" y="2895480"/>
            <a:ext cx="344808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kin Depth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978600" y="3314880"/>
                <a:ext cx="766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μσω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228600" y="48006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uted volumetric current density matches closely with the exact analytic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0" y="1093680"/>
            <a:ext cx="5562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104760" y="838080"/>
            <a:ext cx="644832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olumetric Current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790280" y="37620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67040" y="32576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486400"/>
            <a:ext cx="906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tric Current Flow in Rectangular Cross Section, at 1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019920" y="1708200"/>
            <a:ext cx="2836800" cy="1313640"/>
            <a:chOff x="6019920" y="1708200"/>
            <a:chExt cx="2836800" cy="1313640"/>
          </a:xfrm>
        </p:grpSpPr>
        <p:sp>
          <p:nvSpPr>
            <p:cNvPr id="339" name=""/>
            <p:cNvSpPr/>
            <p:nvPr/>
          </p:nvSpPr>
          <p:spPr>
            <a:xfrm>
              <a:off x="6019920" y="1752480"/>
              <a:ext cx="150480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p Left :      Top Right : Bottom Left: Bottom Right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6972480" y="1708200"/>
                  <a:ext cx="1617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7077240" y="2162160"/>
                  <a:ext cx="161748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238880" y="2403360"/>
                  <a:ext cx="161784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7000920" y="1933560"/>
                  <a:ext cx="16192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4" name=""/>
          <p:cNvGrpSpPr/>
          <p:nvPr/>
        </p:nvGrpSpPr>
        <p:grpSpPr>
          <a:xfrm>
            <a:off x="762120" y="1371600"/>
            <a:ext cx="6697440" cy="4125960"/>
            <a:chOff x="762120" y="1371600"/>
            <a:chExt cx="6697440" cy="4125960"/>
          </a:xfrm>
        </p:grpSpPr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6248520" y="4572000"/>
              <a:ext cx="12110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762120" y="1371600"/>
              <a:ext cx="2743200" cy="19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3429000" y="1447920"/>
              <a:ext cx="251460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762120" y="3048120"/>
              <a:ext cx="2743200" cy="20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3352680" y="3124080"/>
              <a:ext cx="25146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715000" y="4495680"/>
              <a:ext cx="609480" cy="304920"/>
            </a:xfrm>
            <a:custGeom>
              <a:avLst/>
              <a:gdLst>
                <a:gd name="textAreaLeft" fmla="*/ 106560 w 609480"/>
                <a:gd name="textAreaRight" fmla="*/ 442080 w 60948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0080" y="4724280"/>
              <a:ext cx="304920" cy="3812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52280" y="762120"/>
            <a:ext cx="3657600" cy="15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790280" y="37620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67040" y="32576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141560"/>
            <a:ext cx="8915400" cy="65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le of handling arbitrarily shaped conducting material  coupled to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definition is directly compatible to SPIC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only formulation, yet valid at low frequency limit of volumetric current flow - broadband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current density using a surface based formulation- important design in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handle both circuit and EM exitation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572240" y="58672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3886200" y="57150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7150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52280" y="609480"/>
            <a:ext cx="73152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tinuing and 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1790280" y="35334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67040" y="30290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912960"/>
            <a:ext cx="891540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region PMCHW problem to incorporate more realistic package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conditioning of the coupled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Algorithms for more complicate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-wave substrate nois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requency sweep for dielectric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layered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03848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600" y="838080"/>
            <a:ext cx="36576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686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lectric and conducto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e to couple circuit with conducting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and inductance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curr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current distribution and skin-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and continuin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96080" y="608976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5861160"/>
            <a:ext cx="74592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038480" y="601344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344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28600" y="838080"/>
            <a:ext cx="403848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838080"/>
            <a:ext cx="891540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property (Conductivity, Dielectric constant, etc.) – important for EM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design between geometry dependent EM part with topology dependent circuit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d set of linear equations includes EM, coupling and circuit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port parameter extraction and beyond, more insightful analysis of ground bounce, hot-spot 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96080" y="608976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920" y="5861160"/>
            <a:ext cx="74592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038480" y="601344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344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0880" y="838080"/>
            <a:ext cx="5105520" cy="17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21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aterial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438280"/>
            <a:ext cx="852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838080" y="1752480"/>
                <a:ext cx="2793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114300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295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magnetic current exist on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495440"/>
            <a:ext cx="479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region problem with boundary condition on E and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3200400"/>
                <a:ext cx="7869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83816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81000" y="3962520"/>
                <a:ext cx="74804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961920" y="4400640"/>
            <a:ext cx="343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038480" y="1714680"/>
            <a:ext cx="4172040" cy="1130040"/>
            <a:chOff x="4038480" y="1714680"/>
            <a:chExt cx="4172040" cy="113004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4241880" y="1733400"/>
                  <a:ext cx="3175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105520" y="1714680"/>
                  <a:ext cx="26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2" name=""/>
            <p:cNvGrpSpPr/>
            <p:nvPr/>
          </p:nvGrpSpPr>
          <p:grpSpPr>
            <a:xfrm>
              <a:off x="4038480" y="1752480"/>
              <a:ext cx="4172040" cy="1092240"/>
              <a:chOff x="4038480" y="1752480"/>
              <a:chExt cx="4172040" cy="1092240"/>
            </a:xfrm>
          </p:grpSpPr>
          <p:sp>
            <p:nvSpPr>
              <p:cNvPr id="83" name=""/>
              <p:cNvSpPr/>
              <p:nvPr/>
            </p:nvSpPr>
            <p:spPr>
              <a:xfrm>
                <a:off x="4038480" y="2038320"/>
                <a:ext cx="4172040" cy="538200"/>
              </a:xfrm>
              <a:prstGeom prst="rect">
                <a:avLst/>
              </a:prstGeom>
              <a:noFill/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52760" y="1952640"/>
                <a:ext cx="4953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4191120" y="1981080"/>
                    <a:ext cx="31752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6" name=""/>
              <p:cNvSpPr/>
              <p:nvPr/>
            </p:nvSpPr>
            <p:spPr>
              <a:xfrm>
                <a:off x="4734000" y="203832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" name=""/>
                  <p:cNvSpPr txBox="1"/>
                  <p:nvPr/>
                </p:nvSpPr>
                <p:spPr>
                  <a:xfrm>
                    <a:off x="4784760" y="2035080"/>
                    <a:ext cx="2412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8" name=""/>
              <p:cNvSpPr/>
              <p:nvPr/>
            </p:nvSpPr>
            <p:spPr>
              <a:xfrm flipV="1">
                <a:off x="5048280" y="18950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00680" y="19810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896160" y="20858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6726240" y="2046240"/>
                    <a:ext cx="66024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5334120" y="2286000"/>
                    <a:ext cx="57132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6172200" y="1752480"/>
                    <a:ext cx="7239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" name=""/>
                  <p:cNvSpPr txBox="1"/>
                  <p:nvPr/>
                </p:nvSpPr>
                <p:spPr>
                  <a:xfrm>
                    <a:off x="6248520" y="2514600"/>
                    <a:ext cx="62208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5" name=""/>
          <p:cNvSpPr/>
          <p:nvPr/>
        </p:nvSpPr>
        <p:spPr>
          <a:xfrm>
            <a:off x="228600" y="4800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: Source convolved with  Green’s function in respective media – Method of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403848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838080"/>
            <a:ext cx="50292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upling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143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143000"/>
            <a:ext cx="5304960" cy="2908440"/>
            <a:chOff x="304920" y="1143000"/>
            <a:chExt cx="5304960" cy="2908440"/>
          </a:xfrm>
        </p:grpSpPr>
        <p:grpSp>
          <p:nvGrpSpPr>
            <p:cNvPr id="104" name=""/>
            <p:cNvGrpSpPr/>
            <p:nvPr/>
          </p:nvGrpSpPr>
          <p:grpSpPr>
            <a:xfrm>
              <a:off x="304920" y="1143000"/>
              <a:ext cx="3893400" cy="2908440"/>
              <a:chOff x="304920" y="1143000"/>
              <a:chExt cx="3893400" cy="2908440"/>
            </a:xfrm>
          </p:grpSpPr>
          <p:sp>
            <p:nvSpPr>
              <p:cNvPr id="105" name=""/>
              <p:cNvSpPr/>
              <p:nvPr/>
            </p:nvSpPr>
            <p:spPr>
              <a:xfrm>
                <a:off x="3962880" y="3260520"/>
                <a:ext cx="235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06" name=""/>
              <p:cNvGraphicFramePr/>
              <p:nvPr/>
            </p:nvGraphicFramePr>
            <p:xfrm>
              <a:off x="304920" y="1889280"/>
              <a:ext cx="1428480" cy="2162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4920" y="1889280"/>
                        <a:ext cx="1428480" cy="21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552600" y="1160640"/>
                <a:ext cx="599760" cy="1366560"/>
              </a:xfrm>
              <a:custGeom>
                <a:avLst/>
                <a:gdLst/>
                <a:ahLst/>
                <a:rect l="l" t="t" r="r" b="b"/>
                <a:pathLst>
                  <a:path w="378" h="861">
                    <a:moveTo>
                      <a:pt x="378" y="123"/>
                    </a:moveTo>
                    <a:cubicBezTo>
                      <a:pt x="361" y="61"/>
                      <a:pt x="345" y="0"/>
                      <a:pt x="282" y="123"/>
                    </a:cubicBezTo>
                    <a:cubicBezTo>
                      <a:pt x="219" y="246"/>
                      <a:pt x="109" y="553"/>
                      <a:pt x="0" y="8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7640" y="1147680"/>
                <a:ext cx="504720" cy="1113120"/>
              </a:xfrm>
              <a:custGeom>
                <a:avLst/>
                <a:gdLst/>
                <a:ahLst/>
                <a:rect l="l" t="t" r="r" b="b"/>
                <a:pathLst>
                  <a:path w="318" h="701">
                    <a:moveTo>
                      <a:pt x="318" y="131"/>
                    </a:moveTo>
                    <a:cubicBezTo>
                      <a:pt x="287" y="65"/>
                      <a:pt x="257" y="0"/>
                      <a:pt x="204" y="95"/>
                    </a:cubicBezTo>
                    <a:cubicBezTo>
                      <a:pt x="151" y="190"/>
                      <a:pt x="75" y="445"/>
                      <a:pt x="0" y="7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2360" y="1355760"/>
                <a:ext cx="0" cy="8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904680" y="1355760"/>
                <a:ext cx="239400" cy="7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30400" y="1143000"/>
                <a:ext cx="384120" cy="1003320"/>
              </a:xfrm>
              <a:custGeom>
                <a:avLst/>
                <a:gdLst/>
                <a:ahLst/>
                <a:rect l="l" t="t" r="r" b="b"/>
                <a:pathLst>
                  <a:path w="242" h="632">
                    <a:moveTo>
                      <a:pt x="14" y="116"/>
                    </a:moveTo>
                    <a:cubicBezTo>
                      <a:pt x="7" y="58"/>
                      <a:pt x="0" y="0"/>
                      <a:pt x="38" y="86"/>
                    </a:cubicBezTo>
                    <a:cubicBezTo>
                      <a:pt x="76" y="172"/>
                      <a:pt x="159" y="402"/>
                      <a:pt x="242" y="6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28880" y="1258920"/>
                <a:ext cx="220320" cy="1297080"/>
              </a:xfrm>
              <a:custGeom>
                <a:avLst/>
                <a:gdLst/>
                <a:ahLst/>
                <a:rect l="l" t="t" r="r" b="b"/>
                <a:pathLst>
                  <a:path w="139" h="817">
                    <a:moveTo>
                      <a:pt x="78" y="55"/>
                    </a:moveTo>
                    <a:cubicBezTo>
                      <a:pt x="108" y="27"/>
                      <a:pt x="139" y="0"/>
                      <a:pt x="126" y="127"/>
                    </a:cubicBezTo>
                    <a:cubicBezTo>
                      <a:pt x="113" y="254"/>
                      <a:pt x="56" y="535"/>
                      <a:pt x="0" y="81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57320" y="1203480"/>
                <a:ext cx="181080" cy="1998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81160" y="1308240"/>
                <a:ext cx="10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57560" y="1222560"/>
                <a:ext cx="704880" cy="180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62440" y="1298520"/>
                <a:ext cx="61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752480" y="1571760"/>
              <a:ext cx="3857400" cy="650160"/>
              <a:chOff x="1752480" y="1571760"/>
              <a:chExt cx="3857400" cy="650160"/>
            </a:xfrm>
          </p:grpSpPr>
          <p:sp>
            <p:nvSpPr>
              <p:cNvPr id="119" name=""/>
              <p:cNvSpPr/>
              <p:nvPr/>
            </p:nvSpPr>
            <p:spPr>
              <a:xfrm>
                <a:off x="2037960" y="1571760"/>
                <a:ext cx="3552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nnection Surfa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57040" y="1886040"/>
                <a:ext cx="3552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M Surfa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1752480" y="1600200"/>
                <a:ext cx="2571120" cy="596880"/>
                <a:chOff x="1752480" y="1600200"/>
                <a:chExt cx="2571120" cy="596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752480" y="1600200"/>
                  <a:ext cx="352080" cy="238320"/>
                </a:xfrm>
                <a:prstGeom prst="rect">
                  <a:avLst/>
                </a:prstGeom>
                <a:solidFill>
                  <a:srgbClr val="f4f46a"/>
                </a:solidFill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3" name=""/>
                    <p:cNvSpPr txBox="1"/>
                    <p:nvPr/>
                  </p:nvSpPr>
                  <p:spPr>
                    <a:xfrm>
                      <a:off x="4019040" y="1613160"/>
                      <a:ext cx="30456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24" name=""/>
                <p:cNvSpPr/>
                <p:nvPr/>
              </p:nvSpPr>
              <p:spPr>
                <a:xfrm>
                  <a:off x="1752480" y="1943280"/>
                  <a:ext cx="352080" cy="237960"/>
                </a:xfrm>
                <a:prstGeom prst="rect">
                  <a:avLst/>
                </a:prstGeom>
                <a:solidFill>
                  <a:srgbClr val="99cc00"/>
                </a:solidFill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5" name=""/>
                    <p:cNvSpPr txBox="1"/>
                    <p:nvPr/>
                  </p:nvSpPr>
                  <p:spPr>
                    <a:xfrm>
                      <a:off x="3358800" y="1917720"/>
                      <a:ext cx="32976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m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126" name=""/>
          <p:cNvSpPr/>
          <p:nvPr/>
        </p:nvSpPr>
        <p:spPr>
          <a:xfrm>
            <a:off x="4495680" y="1066680"/>
            <a:ext cx="338148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45000" y="1600200"/>
                <a:ext cx="3605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ω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76720" y="3048120"/>
                <a:ext cx="40003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ρ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981080" y="2590920"/>
            <a:ext cx="7162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continuity equation on connection fa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660920" y="1905120"/>
                <a:ext cx="31035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895480" y="380988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276720" y="3657600"/>
                <a:ext cx="4114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jω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410000" y="4419720"/>
            <a:ext cx="473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harge on the connection faces contributes to the electric field in both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495680"/>
            <a:ext cx="923760" cy="8766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280" y="4267080"/>
            <a:ext cx="4295520" cy="2484360"/>
            <a:chOff x="152280" y="4267080"/>
            <a:chExt cx="4295520" cy="2484360"/>
          </a:xfrm>
        </p:grpSpPr>
        <p:sp>
          <p:nvSpPr>
            <p:cNvPr id="136" name=""/>
            <p:cNvSpPr/>
            <p:nvPr/>
          </p:nvSpPr>
          <p:spPr>
            <a:xfrm>
              <a:off x="152280" y="4267080"/>
              <a:ext cx="367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itional Exterior Medium Char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80" y="4495680"/>
              <a:ext cx="88920" cy="88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6172200"/>
              <a:ext cx="2438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itional Interior Medium Char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6680" y="6248520"/>
              <a:ext cx="8892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3520" y="4572000"/>
              <a:ext cx="3914280" cy="1738440"/>
              <a:chOff x="533520" y="4572000"/>
              <a:chExt cx="3914280" cy="1738440"/>
            </a:xfrm>
          </p:grpSpPr>
          <p:sp>
            <p:nvSpPr>
              <p:cNvPr id="141" name=""/>
              <p:cNvSpPr/>
              <p:nvPr/>
            </p:nvSpPr>
            <p:spPr>
              <a:xfrm>
                <a:off x="1720800" y="4572000"/>
                <a:ext cx="1707480" cy="825480"/>
              </a:xfrm>
              <a:custGeom>
                <a:avLst/>
                <a:gdLst/>
                <a:ahLst/>
                <a:rect l="l" t="t" r="r" b="b"/>
                <a:pathLst>
                  <a:path w="1076" h="520">
                    <a:moveTo>
                      <a:pt x="266" y="520"/>
                    </a:moveTo>
                    <a:cubicBezTo>
                      <a:pt x="133" y="430"/>
                      <a:pt x="0" y="341"/>
                      <a:pt x="104" y="256"/>
                    </a:cubicBezTo>
                    <a:cubicBezTo>
                      <a:pt x="208" y="171"/>
                      <a:pt x="728" y="0"/>
                      <a:pt x="890" y="10"/>
                    </a:cubicBezTo>
                    <a:cubicBezTo>
                      <a:pt x="1052" y="20"/>
                      <a:pt x="1064" y="168"/>
                      <a:pt x="1076" y="31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8480" y="5407200"/>
                <a:ext cx="1777680" cy="903240"/>
              </a:xfrm>
              <a:custGeom>
                <a:avLst/>
                <a:gdLst/>
                <a:ahLst/>
                <a:rect l="l" t="t" r="r" b="b"/>
                <a:pathLst>
                  <a:path w="1120" h="569">
                    <a:moveTo>
                      <a:pt x="286" y="0"/>
                    </a:moveTo>
                    <a:cubicBezTo>
                      <a:pt x="143" y="35"/>
                      <a:pt x="0" y="70"/>
                      <a:pt x="106" y="162"/>
                    </a:cubicBezTo>
                    <a:cubicBezTo>
                      <a:pt x="212" y="254"/>
                      <a:pt x="753" y="535"/>
                      <a:pt x="922" y="552"/>
                    </a:cubicBezTo>
                    <a:cubicBezTo>
                      <a:pt x="1091" y="569"/>
                      <a:pt x="1105" y="416"/>
                      <a:pt x="112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162160" y="5015880"/>
                <a:ext cx="2285640" cy="819360"/>
                <a:chOff x="2162160" y="5015880"/>
                <a:chExt cx="2285640" cy="819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988080" y="5015880"/>
                  <a:ext cx="27036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62160" y="5063760"/>
                  <a:ext cx="2285640" cy="761760"/>
                </a:xfrm>
                <a:prstGeom prst="rect">
                  <a:avLst/>
                </a:prstGeom>
                <a:noFill/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62160" y="5063760"/>
                  <a:ext cx="0" cy="771480"/>
                </a:xfrm>
                <a:prstGeom prst="line">
                  <a:avLst/>
                </a:prstGeom>
                <a:ln w="28440">
                  <a:solidFill>
                    <a:srgbClr val="f4f4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62160" y="5073480"/>
                  <a:ext cx="1279080" cy="333000"/>
                </a:xfrm>
                <a:custGeom>
                  <a:avLst/>
                  <a:gdLst/>
                  <a:ahLst/>
                  <a:rect l="l" t="t" r="r" b="b"/>
                  <a:pathLst>
                    <a:path w="806" h="210">
                      <a:moveTo>
                        <a:pt x="0" y="210"/>
                      </a:moveTo>
                      <a:cubicBezTo>
                        <a:pt x="269" y="203"/>
                        <a:pt x="538" y="197"/>
                        <a:pt x="672" y="162"/>
                      </a:cubicBezTo>
                      <a:cubicBezTo>
                        <a:pt x="806" y="127"/>
                        <a:pt x="805" y="63"/>
                        <a:pt x="80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171160" y="5416200"/>
                  <a:ext cx="1304640" cy="380880"/>
                </a:xfrm>
                <a:custGeom>
                  <a:avLst/>
                  <a:gdLst/>
                  <a:ahLst/>
                  <a:rect l="l" t="t" r="r" b="b"/>
                  <a:pathLst>
                    <a:path w="822" h="240">
                      <a:moveTo>
                        <a:pt x="0" y="0"/>
                      </a:moveTo>
                      <a:cubicBezTo>
                        <a:pt x="168" y="0"/>
                        <a:pt x="336" y="0"/>
                        <a:pt x="456" y="12"/>
                      </a:cubicBezTo>
                      <a:cubicBezTo>
                        <a:pt x="576" y="24"/>
                        <a:pt x="659" y="34"/>
                        <a:pt x="720" y="72"/>
                      </a:cubicBezTo>
                      <a:cubicBezTo>
                        <a:pt x="781" y="110"/>
                        <a:pt x="801" y="175"/>
                        <a:pt x="822" y="2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33520" y="5112000"/>
                <a:ext cx="2819160" cy="428400"/>
                <a:chOff x="533520" y="5112000"/>
                <a:chExt cx="2819160" cy="4284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295280" y="5378400"/>
                  <a:ext cx="828720" cy="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09680" y="5407200"/>
                  <a:ext cx="1143000" cy="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33520" y="5112000"/>
                  <a:ext cx="19144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rcuit Curr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1942920" y="5283360"/>
                  <a:ext cx="304560" cy="257040"/>
                  <a:chOff x="1942920" y="5283360"/>
                  <a:chExt cx="304560" cy="2570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2057040" y="5359320"/>
                    <a:ext cx="88920" cy="8892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095200" y="530208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14272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4292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104920" y="544500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>
                    <a:off x="1961640" y="543564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2113920" y="528336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62000" y="530208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114280" y="541656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2057400" y="5283360"/>
                  <a:ext cx="304560" cy="257040"/>
                  <a:chOff x="2057400" y="5283360"/>
                  <a:chExt cx="304560" cy="2570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171520" y="5359320"/>
                    <a:ext cx="88920" cy="88920"/>
                  </a:xfrm>
                  <a:prstGeom prst="ellipse">
                    <a:avLst/>
                  </a:prstGeom>
                  <a:solidFill>
                    <a:srgbClr val="00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209680" y="530208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25720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05740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2219400" y="544500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2076120" y="543564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2228400" y="528336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076480" y="530208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228760" y="541656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3" name=""/>
              <p:cNvSpPr/>
              <p:nvPr/>
            </p:nvSpPr>
            <p:spPr>
              <a:xfrm flipV="1">
                <a:off x="1276200" y="5435280"/>
                <a:ext cx="923400" cy="7239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03848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28600" y="838080"/>
            <a:ext cx="670572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228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upled Matrix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143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43000" y="990720"/>
            <a:ext cx="7639200" cy="5200560"/>
            <a:chOff x="1143000" y="990720"/>
            <a:chExt cx="7639200" cy="5200560"/>
          </a:xfrm>
        </p:grpSpPr>
        <p:sp>
          <p:nvSpPr>
            <p:cNvPr id="182" name=""/>
            <p:cNvSpPr/>
            <p:nvPr/>
          </p:nvSpPr>
          <p:spPr>
            <a:xfrm>
              <a:off x="5781600" y="5410440"/>
              <a:ext cx="9720" cy="48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62080" y="4467600"/>
              <a:ext cx="361800" cy="295200"/>
            </a:xfrm>
            <a:prstGeom prst="rect">
              <a:avLst/>
            </a:prstGeom>
            <a:solidFill>
              <a:srgbClr val="70e2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52360" y="4829400"/>
              <a:ext cx="362160" cy="285840"/>
            </a:xfrm>
            <a:prstGeom prst="rect">
              <a:avLst/>
            </a:prstGeom>
            <a:solidFill>
              <a:srgbClr val="f06e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5200920"/>
              <a:ext cx="361800" cy="285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5562720"/>
              <a:ext cx="361800" cy="285840"/>
            </a:xfrm>
            <a:prstGeom prst="rect">
              <a:avLst/>
            </a:prstGeom>
            <a:solidFill>
              <a:srgbClr val="f4f46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5905800"/>
              <a:ext cx="361800" cy="28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52680" y="4448520"/>
              <a:ext cx="453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ed Electric Field / Electric Current 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62040" y="4800960"/>
              <a:ext cx="493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ed Magnetic Field / Magnetic Current 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71760" y="5153400"/>
              <a:ext cx="587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ctric Scalar Potential at Coupling Surface/ Coupling Cur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90480" y="5496120"/>
              <a:ext cx="4534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rcuit Potential / Circuit Excitation</a:t>
              </a:r>
              <a:r>
                <a:rPr b="0" lang="en-US" sz="1600" spc="-1" strike="noStrike">
                  <a:solidFill>
                    <a:srgbClr val="bbe0e3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9560" y="5848560"/>
              <a:ext cx="4534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ero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1960" y="4696200"/>
              <a:ext cx="885600" cy="77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581960" y="4696200"/>
              <a:ext cx="88560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3600" y="4451400"/>
              <a:ext cx="590400" cy="473400"/>
            </a:xfrm>
            <a:custGeom>
              <a:avLst/>
              <a:gdLst/>
              <a:ahLst/>
              <a:rect l="l" t="t" r="r" b="b"/>
              <a:pathLst>
                <a:path w="372" h="298">
                  <a:moveTo>
                    <a:pt x="361" y="298"/>
                  </a:moveTo>
                  <a:cubicBezTo>
                    <a:pt x="237" y="278"/>
                    <a:pt x="114" y="258"/>
                    <a:pt x="61" y="214"/>
                  </a:cubicBezTo>
                  <a:cubicBezTo>
                    <a:pt x="8" y="170"/>
                    <a:pt x="0" y="68"/>
                    <a:pt x="43" y="34"/>
                  </a:cubicBezTo>
                  <a:cubicBezTo>
                    <a:pt x="86" y="0"/>
                    <a:pt x="266" y="14"/>
                    <a:pt x="319" y="10"/>
                  </a:cubicBezTo>
                  <a:cubicBezTo>
                    <a:pt x="372" y="6"/>
                    <a:pt x="366" y="8"/>
                    <a:pt x="361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69200" y="5429520"/>
              <a:ext cx="1627200" cy="371520"/>
            </a:xfrm>
            <a:custGeom>
              <a:avLst/>
              <a:gdLst/>
              <a:ahLst/>
              <a:rect l="l" t="t" r="r" b="b"/>
              <a:pathLst>
                <a:path w="1025" h="234">
                  <a:moveTo>
                    <a:pt x="899" y="0"/>
                  </a:moveTo>
                  <a:cubicBezTo>
                    <a:pt x="962" y="26"/>
                    <a:pt x="1025" y="52"/>
                    <a:pt x="899" y="66"/>
                  </a:cubicBezTo>
                  <a:cubicBezTo>
                    <a:pt x="773" y="80"/>
                    <a:pt x="286" y="60"/>
                    <a:pt x="143" y="84"/>
                  </a:cubicBezTo>
                  <a:cubicBezTo>
                    <a:pt x="0" y="108"/>
                    <a:pt x="7" y="186"/>
                    <a:pt x="41" y="210"/>
                  </a:cubicBezTo>
                  <a:cubicBezTo>
                    <a:pt x="75" y="234"/>
                    <a:pt x="295" y="225"/>
                    <a:pt x="347" y="2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53400" y="565812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citation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1366920" y="990720"/>
              <a:ext cx="5952960" cy="3353040"/>
              <a:chOff x="1366920" y="990720"/>
              <a:chExt cx="5952960" cy="3353040"/>
            </a:xfrm>
          </p:grpSpPr>
          <p:graphicFrame>
            <p:nvGraphicFramePr>
              <p:cNvPr id="199" name=""/>
              <p:cNvGraphicFramePr/>
              <p:nvPr/>
            </p:nvGraphicFramePr>
            <p:xfrm>
              <a:off x="1366920" y="990720"/>
              <a:ext cx="5952960" cy="3353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6920" y="990720"/>
                        <a:ext cx="5952960" cy="3353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"/>
              <p:cNvSpPr/>
              <p:nvPr/>
            </p:nvSpPr>
            <p:spPr>
              <a:xfrm>
                <a:off x="5956200" y="2484720"/>
                <a:ext cx="392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7543800" y="4343400"/>
            <a:ext cx="172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tion En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8108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391464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464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04760" y="838080"/>
            <a:ext cx="705816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olumetric Current 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760" y="1143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" y="1066680"/>
            <a:ext cx="8763120" cy="2810160"/>
            <a:chOff x="228600" y="1066680"/>
            <a:chExt cx="8763120" cy="2810160"/>
          </a:xfrm>
        </p:grpSpPr>
        <p:sp>
          <p:nvSpPr>
            <p:cNvPr id="211" name=""/>
            <p:cNvSpPr/>
            <p:nvPr/>
          </p:nvSpPr>
          <p:spPr>
            <a:xfrm>
              <a:off x="6934320" y="220968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ior Probl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28600" y="1066680"/>
              <a:ext cx="8210520" cy="2810160"/>
              <a:chOff x="228600" y="1066680"/>
              <a:chExt cx="8210520" cy="28101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5105520" y="2590920"/>
                <a:ext cx="3333600" cy="1285920"/>
                <a:chOff x="5105520" y="2590920"/>
                <a:chExt cx="3333600" cy="1285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105520" y="2590920"/>
                  <a:ext cx="3333600" cy="1285920"/>
                </a:xfrm>
                <a:prstGeom prst="rect">
                  <a:avLst/>
                </a:prstGeom>
                <a:solidFill>
                  <a:srgbClr val="dddddd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70360" y="2621160"/>
                  <a:ext cx="2149200" cy="1245960"/>
                </a:xfrm>
                <a:custGeom>
                  <a:avLst/>
                  <a:gdLst/>
                  <a:ahLst/>
                  <a:rect l="l" t="t" r="r" b="b"/>
                  <a:pathLst>
                    <a:path w="1354" h="785">
                      <a:moveTo>
                        <a:pt x="962" y="17"/>
                      </a:moveTo>
                      <a:cubicBezTo>
                        <a:pt x="838" y="8"/>
                        <a:pt x="674" y="0"/>
                        <a:pt x="578" y="41"/>
                      </a:cubicBezTo>
                      <a:cubicBezTo>
                        <a:pt x="482" y="82"/>
                        <a:pt x="457" y="209"/>
                        <a:pt x="386" y="263"/>
                      </a:cubicBezTo>
                      <a:cubicBezTo>
                        <a:pt x="315" y="317"/>
                        <a:pt x="214" y="329"/>
                        <a:pt x="152" y="365"/>
                      </a:cubicBezTo>
                      <a:cubicBezTo>
                        <a:pt x="90" y="401"/>
                        <a:pt x="0" y="425"/>
                        <a:pt x="14" y="479"/>
                      </a:cubicBezTo>
                      <a:cubicBezTo>
                        <a:pt x="28" y="533"/>
                        <a:pt x="117" y="641"/>
                        <a:pt x="236" y="689"/>
                      </a:cubicBezTo>
                      <a:cubicBezTo>
                        <a:pt x="355" y="737"/>
                        <a:pt x="569" y="785"/>
                        <a:pt x="728" y="767"/>
                      </a:cubicBezTo>
                      <a:cubicBezTo>
                        <a:pt x="887" y="749"/>
                        <a:pt x="1132" y="633"/>
                        <a:pt x="1190" y="581"/>
                      </a:cubicBezTo>
                      <a:cubicBezTo>
                        <a:pt x="1248" y="529"/>
                        <a:pt x="1084" y="496"/>
                        <a:pt x="1076" y="455"/>
                      </a:cubicBezTo>
                      <a:cubicBezTo>
                        <a:pt x="1068" y="414"/>
                        <a:pt x="1101" y="395"/>
                        <a:pt x="1142" y="335"/>
                      </a:cubicBezTo>
                      <a:cubicBezTo>
                        <a:pt x="1183" y="275"/>
                        <a:pt x="1354" y="149"/>
                        <a:pt x="1322" y="95"/>
                      </a:cubicBezTo>
                      <a:cubicBezTo>
                        <a:pt x="1290" y="41"/>
                        <a:pt x="1086" y="26"/>
                        <a:pt x="962" y="17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9840" y="2514600"/>
                <a:ext cx="3333600" cy="1285920"/>
                <a:chOff x="609840" y="2514600"/>
                <a:chExt cx="3333600" cy="1285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09840" y="2514600"/>
                  <a:ext cx="3333600" cy="1285920"/>
                </a:xfrm>
                <a:prstGeom prst="rect">
                  <a:avLst/>
                </a:prstGeom>
                <a:solidFill>
                  <a:srgbClr val="f4f46a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174680" y="2544840"/>
                  <a:ext cx="2149200" cy="1245960"/>
                </a:xfrm>
                <a:custGeom>
                  <a:avLst/>
                  <a:gdLst/>
                  <a:ahLst/>
                  <a:rect l="l" t="t" r="r" b="b"/>
                  <a:pathLst>
                    <a:path w="1354" h="785">
                      <a:moveTo>
                        <a:pt x="962" y="17"/>
                      </a:moveTo>
                      <a:cubicBezTo>
                        <a:pt x="838" y="8"/>
                        <a:pt x="674" y="0"/>
                        <a:pt x="578" y="41"/>
                      </a:cubicBezTo>
                      <a:cubicBezTo>
                        <a:pt x="482" y="82"/>
                        <a:pt x="457" y="209"/>
                        <a:pt x="386" y="263"/>
                      </a:cubicBezTo>
                      <a:cubicBezTo>
                        <a:pt x="315" y="317"/>
                        <a:pt x="214" y="329"/>
                        <a:pt x="152" y="365"/>
                      </a:cubicBezTo>
                      <a:cubicBezTo>
                        <a:pt x="90" y="401"/>
                        <a:pt x="0" y="425"/>
                        <a:pt x="14" y="479"/>
                      </a:cubicBezTo>
                      <a:cubicBezTo>
                        <a:pt x="28" y="533"/>
                        <a:pt x="117" y="641"/>
                        <a:pt x="236" y="689"/>
                      </a:cubicBezTo>
                      <a:cubicBezTo>
                        <a:pt x="355" y="737"/>
                        <a:pt x="569" y="785"/>
                        <a:pt x="728" y="767"/>
                      </a:cubicBezTo>
                      <a:cubicBezTo>
                        <a:pt x="887" y="749"/>
                        <a:pt x="1132" y="633"/>
                        <a:pt x="1190" y="581"/>
                      </a:cubicBezTo>
                      <a:cubicBezTo>
                        <a:pt x="1248" y="529"/>
                        <a:pt x="1084" y="496"/>
                        <a:pt x="1076" y="455"/>
                      </a:cubicBezTo>
                      <a:cubicBezTo>
                        <a:pt x="1068" y="414"/>
                        <a:pt x="1101" y="395"/>
                        <a:pt x="1142" y="335"/>
                      </a:cubicBezTo>
                      <a:cubicBezTo>
                        <a:pt x="1183" y="275"/>
                        <a:pt x="1354" y="149"/>
                        <a:pt x="1322" y="95"/>
                      </a:cubicBezTo>
                      <a:cubicBezTo>
                        <a:pt x="1290" y="41"/>
                        <a:pt x="1086" y="26"/>
                        <a:pt x="962" y="17"/>
                      </a:cubicBezTo>
                      <a:close/>
                    </a:path>
                  </a:pathLst>
                </a:custGeom>
                <a:solidFill>
                  <a:srgbClr val="f4f46a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372120" y="1438200"/>
                <a:ext cx="542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3276720" y="1066680"/>
                <a:ext cx="3048120" cy="1067040"/>
                <a:chOff x="3276720" y="1066680"/>
                <a:chExt cx="3048120" cy="1067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76720" y="1066680"/>
                  <a:ext cx="3048120" cy="1067040"/>
                </a:xfrm>
                <a:prstGeom prst="rect">
                  <a:avLst/>
                </a:prstGeom>
                <a:solidFill>
                  <a:srgbClr val="f4f46a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92600" y="1092240"/>
                  <a:ext cx="1965240" cy="1033560"/>
                </a:xfrm>
                <a:custGeom>
                  <a:avLst/>
                  <a:gdLst/>
                  <a:ahLst/>
                  <a:rect l="l" t="t" r="r" b="b"/>
                  <a:pathLst>
                    <a:path w="1354" h="785">
                      <a:moveTo>
                        <a:pt x="962" y="17"/>
                      </a:moveTo>
                      <a:cubicBezTo>
                        <a:pt x="838" y="8"/>
                        <a:pt x="674" y="0"/>
                        <a:pt x="578" y="41"/>
                      </a:cubicBezTo>
                      <a:cubicBezTo>
                        <a:pt x="482" y="82"/>
                        <a:pt x="457" y="209"/>
                        <a:pt x="386" y="263"/>
                      </a:cubicBezTo>
                      <a:cubicBezTo>
                        <a:pt x="315" y="317"/>
                        <a:pt x="214" y="329"/>
                        <a:pt x="152" y="365"/>
                      </a:cubicBezTo>
                      <a:cubicBezTo>
                        <a:pt x="90" y="401"/>
                        <a:pt x="0" y="425"/>
                        <a:pt x="14" y="479"/>
                      </a:cubicBezTo>
                      <a:cubicBezTo>
                        <a:pt x="28" y="533"/>
                        <a:pt x="117" y="641"/>
                        <a:pt x="236" y="689"/>
                      </a:cubicBezTo>
                      <a:cubicBezTo>
                        <a:pt x="355" y="737"/>
                        <a:pt x="569" y="785"/>
                        <a:pt x="728" y="767"/>
                      </a:cubicBezTo>
                      <a:cubicBezTo>
                        <a:pt x="887" y="749"/>
                        <a:pt x="1132" y="633"/>
                        <a:pt x="1190" y="581"/>
                      </a:cubicBezTo>
                      <a:cubicBezTo>
                        <a:pt x="1248" y="529"/>
                        <a:pt x="1084" y="496"/>
                        <a:pt x="1076" y="455"/>
                      </a:cubicBezTo>
                      <a:cubicBezTo>
                        <a:pt x="1068" y="414"/>
                        <a:pt x="1101" y="395"/>
                        <a:pt x="1142" y="335"/>
                      </a:cubicBezTo>
                      <a:cubicBezTo>
                        <a:pt x="1183" y="275"/>
                        <a:pt x="1354" y="149"/>
                        <a:pt x="1322" y="95"/>
                      </a:cubicBezTo>
                      <a:cubicBezTo>
                        <a:pt x="1290" y="41"/>
                        <a:pt x="1086" y="26"/>
                        <a:pt x="962" y="17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3" name=""/>
                    <p:cNvSpPr txBox="1"/>
                    <p:nvPr/>
                  </p:nvSpPr>
                  <p:spPr>
                    <a:xfrm>
                      <a:off x="3429000" y="1295280"/>
                      <a:ext cx="78768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4496040" y="1600200"/>
                    <a:ext cx="7110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5" name=""/>
              <p:cNvSpPr/>
              <p:nvPr/>
            </p:nvSpPr>
            <p:spPr>
              <a:xfrm>
                <a:off x="2590920" y="1371600"/>
                <a:ext cx="685800" cy="1362240"/>
              </a:xfrm>
              <a:custGeom>
                <a:avLst/>
                <a:gdLst>
                  <a:gd name="textAreaLeft" fmla="*/ 91800 w 685800"/>
                  <a:gd name="textAreaRight" fmla="*/ 594000 w 685800"/>
                  <a:gd name="textAreaTop" fmla="*/ 238320 h 1362240"/>
                  <a:gd name="textAreaBottom" fmla="*/ 987840 h 136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324840" y="1371600"/>
                <a:ext cx="609480" cy="1333440"/>
              </a:xfrm>
              <a:custGeom>
                <a:avLst/>
                <a:gdLst>
                  <a:gd name="textAreaLeft" fmla="*/ 81360 w 609480"/>
                  <a:gd name="textAreaRight" fmla="*/ 528120 w 609480"/>
                  <a:gd name="textAreaTop" fmla="*/ 233280 h 1333440"/>
                  <a:gd name="textAreaBottom" fmla="*/ 966960 h 133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5800" y="2133720"/>
                <a:ext cx="22100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terior Proble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8" name=""/>
                  <p:cNvSpPr txBox="1"/>
                  <p:nvPr/>
                </p:nvSpPr>
                <p:spPr>
                  <a:xfrm>
                    <a:off x="1905120" y="2819520"/>
                    <a:ext cx="7873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9" name=""/>
                  <p:cNvSpPr txBox="1"/>
                  <p:nvPr/>
                </p:nvSpPr>
                <p:spPr>
                  <a:xfrm>
                    <a:off x="5931000" y="3117960"/>
                    <a:ext cx="71136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0" name=""/>
              <p:cNvSpPr/>
              <p:nvPr/>
            </p:nvSpPr>
            <p:spPr>
              <a:xfrm flipV="1">
                <a:off x="2971800" y="297144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3048120" y="3124080"/>
                    <a:ext cx="59688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2" name=""/>
              <p:cNvSpPr/>
              <p:nvPr/>
            </p:nvSpPr>
            <p:spPr>
              <a:xfrm flipH="1">
                <a:off x="7239240" y="3124080"/>
                <a:ext cx="21888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3" name=""/>
                  <p:cNvSpPr txBox="1"/>
                  <p:nvPr/>
                </p:nvSpPr>
                <p:spPr>
                  <a:xfrm>
                    <a:off x="7010640" y="2819520"/>
                    <a:ext cx="5461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4" name=""/>
              <p:cNvSpPr/>
              <p:nvPr/>
            </p:nvSpPr>
            <p:spPr>
              <a:xfrm>
                <a:off x="533520" y="2943360"/>
                <a:ext cx="1114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ue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52840" y="3200400"/>
                <a:ext cx="1114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39160" y="3381480"/>
                <a:ext cx="1114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ue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3040" y="2867040"/>
                <a:ext cx="1114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8600" y="1066680"/>
                <a:ext cx="2743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inction theorem</a:t>
                </a:r>
                <a:r>
                  <a:rPr b="0" lang="en-US" sz="2800" spc="-1" strike="noStrike">
                    <a:solidFill>
                      <a:srgbClr val="bbe0e3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33720" y="4876920"/>
                <a:ext cx="4403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238880" y="5562720"/>
                <a:ext cx="115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2280" y="3886200"/>
            <a:ext cx="8610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ior medium electric field as a function of interior medium current and charge dens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5410080"/>
            <a:ext cx="906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current density     Electric field,i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419720" y="5638680"/>
                <a:ext cx="215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04760" y="838080"/>
            <a:ext cx="629604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ductance Ex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48240" y="2583000"/>
            <a:ext cx="618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A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2280" y="1371600"/>
            <a:ext cx="3494160" cy="2284560"/>
            <a:chOff x="152280" y="1371600"/>
            <a:chExt cx="3494160" cy="2284560"/>
          </a:xfrm>
        </p:grpSpPr>
        <p:sp>
          <p:nvSpPr>
            <p:cNvPr id="252" name=""/>
            <p:cNvSpPr/>
            <p:nvPr/>
          </p:nvSpPr>
          <p:spPr>
            <a:xfrm>
              <a:off x="152280" y="2709720"/>
              <a:ext cx="619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Am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09480" y="1371600"/>
              <a:ext cx="3036960" cy="2284560"/>
              <a:chOff x="609480" y="1371600"/>
              <a:chExt cx="3036960" cy="2284560"/>
            </a:xfrm>
          </p:grpSpPr>
          <p:sp>
            <p:nvSpPr>
              <p:cNvPr id="254" name=""/>
              <p:cNvSpPr/>
              <p:nvPr/>
            </p:nvSpPr>
            <p:spPr>
              <a:xfrm>
                <a:off x="1260360" y="1940040"/>
                <a:ext cx="1766880" cy="314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9480" y="2697120"/>
                <a:ext cx="376200" cy="453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803160" y="2758680"/>
                <a:ext cx="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803160" y="2077920"/>
                <a:ext cx="0" cy="59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3160" y="2077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27240" y="2090880"/>
                <a:ext cx="46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94160" y="209088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41520" y="2583000"/>
                <a:ext cx="304920" cy="41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94160" y="2608200"/>
                <a:ext cx="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3160" y="315108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05320" y="299880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0480" y="360504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1240" y="365616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82920" y="3516480"/>
                <a:ext cx="25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54560" y="356724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260360" y="148608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17880" y="1473120"/>
                <a:ext cx="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260360" y="1687680"/>
                <a:ext cx="17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66800" y="1371600"/>
                <a:ext cx="8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 m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27280" y="2911320"/>
                <a:ext cx="568080" cy="5922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17560" y="26208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06520" y="26337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17560" y="2759040"/>
                <a:ext cx="58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16240" y="293688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16240" y="350352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17760" y="2936880"/>
                <a:ext cx="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36640" y="2444760"/>
                <a:ext cx="8542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25680" y="3062160"/>
                <a:ext cx="8557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1120" y="1800360"/>
                <a:ext cx="61920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3322800" y="1825560"/>
            <a:ext cx="6188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4997520"/>
            <a:ext cx="4038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 Inductance from Commercial Volumetric Solver=          A.C Inductance From Commercial Volumetric Solver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772400" y="4981680"/>
                <a:ext cx="10177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848720" y="5181480"/>
                <a:ext cx="1017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3886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295280" y="3809880"/>
                <a:ext cx="1892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a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19320" y="4267080"/>
                <a:ext cx="1981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mag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3809880" y="1295280"/>
            <a:ext cx="5334120" cy="3505320"/>
            <a:chOff x="3809880" y="1295280"/>
            <a:chExt cx="5334120" cy="3505320"/>
          </a:xfrm>
        </p:grpSpPr>
        <p:pic>
          <p:nvPicPr>
            <p:cNvPr id="291" name="" descr=""/>
            <p:cNvPicPr/>
            <p:nvPr/>
          </p:nvPicPr>
          <p:blipFill>
            <a:blip r:embed="rId5"/>
            <a:stretch/>
          </p:blipFill>
          <p:spPr>
            <a:xfrm>
              <a:off x="3809880" y="1295280"/>
              <a:ext cx="53341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495680" y="1981080"/>
              <a:ext cx="838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88080" y="4114800"/>
              <a:ext cx="10670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876920" y="1828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76920" y="1828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0040" y="16416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0100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695720" y="4267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62840" y="41004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04760" y="838080"/>
            <a:ext cx="621972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sistance Ex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3886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0" y="1447920"/>
            <a:ext cx="4724280" cy="3886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"/>
          <a:stretch/>
        </p:blipFill>
        <p:spPr>
          <a:xfrm>
            <a:off x="4343400" y="1447920"/>
            <a:ext cx="4800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9:07:23Z</dcterms:created>
  <dc:creator>Swagato</dc:creator>
  <dc:description/>
  <dc:language>en-US</dc:language>
  <cp:lastModifiedBy>Vikram</cp:lastModifiedBy>
  <dcterms:modified xsi:type="dcterms:W3CDTF">2003-06-18T21:42:5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5439389</vt:r8>
  </property>
  <property fmtid="{D5CDD505-2E9C-101B-9397-08002B2CF9AE}" pid="3" name="_AuthorEmail">
    <vt:lpwstr>swagato@u.washington.edu</vt:lpwstr>
  </property>
  <property fmtid="{D5CDD505-2E9C-101B-9397-08002B2CF9AE}" pid="4" name="_AuthorEmailDisplayName">
    <vt:lpwstr>swagato</vt:lpwstr>
  </property>
  <property fmtid="{D5CDD505-2E9C-101B-9397-08002B2CF9AE}" pid="5" name="_EmailSubject">
    <vt:lpwstr/>
  </property>
</Properties>
</file>