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C272-2BBD-4C6D-BD98-B936CCD2A98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BBD-E1CB-4CE1-AC04-472A1A84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9EA-735D-4CFA-84E5-75E62F58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320-4DB4-4013-9575-300A673D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A3C-6372-4756-8500-6B55DE48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5FA-A863-4936-9CA0-DA381BE8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8E5-689B-4C5B-A70D-913AA02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CD2-738B-4C7B-A138-FD309027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DF7-B34B-41CA-BB7C-CE8FDE4D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83D-411C-4928-9112-8C6DA74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29B-4190-445C-B63A-FE23181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9AD-FF45-49F2-849D-6D0DCFD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D3F-0085-41B1-9554-931064E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AD55-DCB1-420F-854A-5A2AEDB2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511200"/>
            <a:ext cx="845820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Progress on VHDL-AMS extension for EM and mixed-technology modeling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178160"/>
            <a:ext cx="77724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Nik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s and Tool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 and I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scatter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ster (Ansoft Simplo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AC (MC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ransmission Line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3800" y="1968480"/>
            <a:ext cx="441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ar interconnect connected to a simpl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EM mode, Maxwell’s equations can be reduced to Telegrapher’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0" y="1554120"/>
          <a:ext cx="404640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54120"/>
                    <a:ext cx="40464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ransmission Line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6080" y="4356000"/>
                <a:ext cx="1882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58080" y="4280040"/>
                <a:ext cx="1568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714760" y="4132440"/>
                <a:ext cx="29559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3" name=""/>
          <p:cNvGraphicFramePr/>
          <p:nvPr/>
        </p:nvGraphicFramePr>
        <p:xfrm>
          <a:off x="266760" y="1398600"/>
          <a:ext cx="861048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398600"/>
                    <a:ext cx="861048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DTD/Circuit coup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67040" y="4280040"/>
                <a:ext cx="548640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dx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671400" y="1231920"/>
          <a:ext cx="739152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231920"/>
                    <a:ext cx="739152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ircuit Model and Finite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fferenc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79520" y="2409840"/>
          <a:ext cx="4584960" cy="29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2409840"/>
                    <a:ext cx="458496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969240" y="2460600"/>
                <a:ext cx="200016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178680" y="5246640"/>
            <a:ext cx="27781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discretized 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" y="5478480"/>
            <a:ext cx="276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ped circuit KCL/KV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01680" y="2408400"/>
                <a:ext cx="200016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01960" y="1487520"/>
                <a:ext cx="1081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Simulation 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36680" y="1784520"/>
            <a:ext cx="6816600" cy="424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359160" y="1163520"/>
            <a:ext cx="242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Mode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05120"/>
            <a:ext cx="408924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</a:rPr>
              <a:t>------------------- Thermoelectric resistor 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IBRAR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;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IBRAR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EE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.ELECTROMAGNETIC_SYSTEM.ALL;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.THERMAL_SYSTEM.ALL;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EEE.MATH_REAL.ALL;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rmoelectric_resisto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IC  (resistance, alpha: REAL)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POR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ERMINAL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, b  : ELECTRICAL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ERMINAL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: THERMAL)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RCHITECTUR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ehav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OF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rmoelectric_resisto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QUA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v_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CROS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_r THROUGH a TO b;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QUA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emp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CROS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heatflow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HROUGH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 to thermal_ground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CONSTA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ref : REAL := 273.00; -- temperature at which resistance is defi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BEGI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_r == v_r/ (resistance + alpha * (temp - tref) 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tflow == i_r*v_r;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ehav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" y="2879640"/>
            <a:ext cx="3770280" cy="2189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241280"/>
            <a:ext cx="303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-AM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0480" y="2160720"/>
            <a:ext cx="303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4535640"/>
          <a:ext cx="32842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535640"/>
                    <a:ext cx="3284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993600" y="1487520"/>
          <a:ext cx="6966000" cy="25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3600" y="1487520"/>
                    <a:ext cx="69660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84600" y="415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Heat Balanc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o-Electrical intera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44720" y="1670040"/>
          <a:ext cx="525456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670040"/>
                    <a:ext cx="525456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scretization: Control Volume Method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133720"/>
          <a:ext cx="42037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4203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28600" y="4572000"/>
          <a:ext cx="861048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104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0880" y="4038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internal n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5520" y="1447920"/>
          <a:ext cx="3510000" cy="33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447920"/>
                    <a:ext cx="351000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/time domai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emperature Distribu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1600" y="1498680"/>
            <a:ext cx="6399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7" name="hAMSter_plot_2" descr=""/>
          <p:cNvPicPr/>
          <p:nvPr/>
        </p:nvPicPr>
        <p:blipFill>
          <a:blip r:embed="rId1"/>
          <a:stretch/>
        </p:blipFill>
        <p:spPr>
          <a:xfrm>
            <a:off x="846000" y="1716120"/>
            <a:ext cx="7450200" cy="4221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36840" y="1108080"/>
            <a:ext cx="606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variable pow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 Scattering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43200" y="4829040"/>
                <a:ext cx="47102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∇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381560" y="3792600"/>
            <a:ext cx="347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omain E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44720" y="1685880"/>
          <a:ext cx="463536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685880"/>
                    <a:ext cx="46353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65040" y="1147680"/>
            <a:ext cx="164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scretization support in VHDL-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operators (gradient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PDE solvers and multiphysics packages (FEM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physics Syste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5960" y="1227240"/>
          <a:ext cx="737064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227240"/>
                    <a:ext cx="737064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ckgrou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1076.1 behavioral languag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time domain simulation of mixed circuits and simple multiple physics via DAE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erarchical system description independent of solv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an have different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actical language extension is need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technology support (distributed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model exchange between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-time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5680" y="1395360"/>
          <a:ext cx="60926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395360"/>
                    <a:ext cx="609264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ays to co-sim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 con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eded VHDL-AMS ext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omai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16240" y="3592440"/>
            <a:ext cx="6620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65920" y="3637080"/>
            <a:ext cx="6620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230480"/>
          <a:ext cx="645336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30480"/>
                    <a:ext cx="64533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eded VHDL-AMS ext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operator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6520" y="3637080"/>
            <a:ext cx="2287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E, dis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04960" y="3624120"/>
            <a:ext cx="2274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E, PDE, 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5680" y="1149480"/>
          <a:ext cx="6092640" cy="26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149480"/>
                    <a:ext cx="609264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stributed Physics in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patial differential and integral operators support in VHDL-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o ODE’s via spatial discretization (leave time discretization to VHDL-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DE Support Requirements for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77956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’s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’s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and 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424160" y="1847880"/>
                <a:ext cx="62942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nikitin</cp:lastModifiedBy>
  <cp:lastPrinted>2002-02-05T19:22:32Z</cp:lastPrinted>
  <dcterms:modified xsi:type="dcterms:W3CDTF">2003-06-19T19:46:07Z</dcterms:modified>
  <cp:revision>250</cp:revision>
  <dc:subject>ITC '01 Electronic presentation guide/template</dc:subject>
  <dc:title>Presentation Guide</dc:title>
</cp:coreProperties>
</file>