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3CFE-8BEA-4EAA-B8BD-C9C8ABC483A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41C-9334-4224-BBFD-8052B96F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05B-8D59-435D-A7D9-967E7BE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003-8CDF-47FF-AC1C-4576C2A6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A2B-79CF-4636-BFD3-22D7E0EF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367-5D7A-4021-AC8B-0BFDAC1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233-B452-431C-B0DF-A52B4A6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7B1-CDDB-41EA-9C79-49E59C5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F14-2484-4AF5-B047-E1A5C9B9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9E5-EB24-4591-8D10-B2D41F46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98E-3156-4004-8F1D-AE4575E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AED-19E5-4594-BDF8-A07AA99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67F-786B-4373-9548-5BB9F78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ABC-D0C5-412F-BCC7-411698EF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8600" y="863640"/>
            <a:ext cx="6910560" cy="30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PRAI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tellectual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roperty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euse-based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alog/RF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C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ayout</a:t>
            </a:r>
            <a:br>
              <a:rPr sz="4600"/>
            </a:b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utomatic Analog/RF Layout Retargeting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800" y="53197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424400" y="52434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4400" y="52434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51720" y="524340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8400" y="4027320"/>
            <a:ext cx="7772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8680" y="6318360"/>
            <a:ext cx="70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* This research is also supported in part by National Science Found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02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nal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4616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616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25_cascode_circled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riginal Layout in TSMC 0.25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1523880"/>
            <a:ext cx="25146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.5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9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51.7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2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1.4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4,81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rget Layout in TSMC 0.18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5360" y="1417680"/>
            <a:ext cx="291168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.8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6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.5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0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0.8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,08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18_tar_cascode" descr=""/>
          <p:cNvPicPr/>
          <p:nvPr/>
        </p:nvPicPr>
        <p:blipFill>
          <a:blip r:embed="rId1"/>
          <a:stretch/>
        </p:blipFill>
        <p:spPr>
          <a:xfrm>
            <a:off x="663480" y="1533600"/>
            <a:ext cx="4606920" cy="32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ngoing Work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2720" y="817560"/>
            <a:ext cx="82645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de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Detection, extraction and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sistor, inductor an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Symmetry between passi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/contact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symmetry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Automatic gathering of match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parasitic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Pattern matching based R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5400000">
            <a:off x="1837800" y="-506160"/>
            <a:ext cx="5407200" cy="8442360"/>
          </a:xfrm>
          <a:prstGeom prst="rtTriangl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11240" y="685800"/>
            <a:ext cx="3740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bffff"/>
                </a:solidFill>
                <a:latin typeface="Arial Black"/>
              </a:rPr>
              <a:t>Extension with synthesis t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1b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0040" y="1004760"/>
            <a:ext cx="8442360" cy="541368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1760" y="3362400"/>
            <a:ext cx="2425680" cy="25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a1f"/>
                </a:solidFill>
                <a:latin typeface="Arial Black"/>
              </a:rPr>
              <a:t>Original IPR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a1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panded IPRAIL Design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9120" y="1617840"/>
            <a:ext cx="8148600" cy="4701960"/>
            <a:chOff x="519120" y="1617840"/>
            <a:chExt cx="8148600" cy="4701960"/>
          </a:xfrm>
        </p:grpSpPr>
        <p:sp>
          <p:nvSpPr>
            <p:cNvPr id="144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6840" y="31748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1440" y="344664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1160" y="30322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160" y="331164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war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358128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06120" y="5351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46640" y="5630760"/>
              <a:ext cx="109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70960" y="181116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2720" y="1701720"/>
              <a:ext cx="67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53680" y="191304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4480" y="17017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73880" y="191304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5040" y="5425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4080" y="56386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2438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8" y="388"/>
                    <a:pt x="2438" y="867"/>
                  </a:cubicBezTo>
                  <a:cubicBezTo>
                    <a:pt x="2438" y="867"/>
                    <a:pt x="2438" y="867"/>
                    <a:pt x="2438" y="867"/>
                  </a:cubicBezTo>
                  <a:cubicBezTo>
                    <a:pt x="2438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812" h="578">
                  <a:moveTo>
                    <a:pt x="0" y="289"/>
                  </a:moveTo>
                  <a:cubicBezTo>
                    <a:pt x="0" y="129"/>
                    <a:pt x="182" y="0"/>
                    <a:pt x="406" y="0"/>
                  </a:cubicBezTo>
                  <a:cubicBezTo>
                    <a:pt x="631" y="0"/>
                    <a:pt x="812" y="129"/>
                    <a:pt x="812" y="289"/>
                  </a:cubicBezTo>
                  <a:cubicBezTo>
                    <a:pt x="812" y="289"/>
                    <a:pt x="812" y="289"/>
                    <a:pt x="812" y="289"/>
                  </a:cubicBezTo>
                  <a:cubicBezTo>
                    <a:pt x="812" y="448"/>
                    <a:pt x="631" y="578"/>
                    <a:pt x="406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01840" y="426708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ym Axis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7960" y="448632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01120" y="4699080"/>
              <a:ext cx="9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stra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9"/>
                    <a:pt x="631" y="578"/>
                    <a:pt x="407" y="578"/>
                  </a:cubicBezTo>
                  <a:cubicBezTo>
                    <a:pt x="182" y="578"/>
                    <a:pt x="0" y="449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0280" y="30132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lis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7280" y="3225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sitic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8920" y="344484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7640" y="3657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20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20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8"/>
                    <a:pt x="631" y="578"/>
                    <a:pt x="407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0320" y="437688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1040" y="45878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53690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3720" y="5648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880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8400" y="1413000"/>
            <a:ext cx="68929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3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for Large Analog Blocks and R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ssive Device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roblem Reduction for Hierarchic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4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Incorporating Synthe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2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Aware Layout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400" y="468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b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440" y="1357200"/>
            <a:ext cx="81327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Automatic analog  layout automation for new  process  and  device sizes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EEE International Symposium  of  Circuits  and  Systems, Bangkok, May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IPRAIL: Intellectual  Property  Reuse-based  Analog  IC  Layout  Autom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 Electrical Engineering Technical Report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am Memb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1312920"/>
            <a:ext cx="8124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ichard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torn Jangkrajar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buddha Bhattachar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 Hart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pher Ba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1320" y="1308240"/>
            <a:ext cx="7127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and previous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 and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680" y="903240"/>
            <a:ext cx="883476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design performance strongly dependent on layout intric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Matchings and 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lacement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rasit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ubstra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layouts are manually craf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low and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hange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Analog/RF blocks have longer design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228240"/>
            <a:ext cx="858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revious Work: Macro-cell Layout Autom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2960" y="1254240"/>
            <a:ext cx="85694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digital CAD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 embedded i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loorplanning, placement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cro-cell ba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yout generation as an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cks critical designer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With incorporation of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et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704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294760" cy="50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analog/RF layou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expertise of designer into automation by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emplate-Based Design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 layout  generation  under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chnology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pecifica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9200" y="387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pp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7908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design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available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embedded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Optimizations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xploration via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Quickly gauge layou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Evaluate topology v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Various designs with different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ick the best one based 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IPRAIL methodolog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69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1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85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fa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44956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1520" y="3505320"/>
            <a:ext cx="1143000" cy="76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9000" y="36799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P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57440" y="3352680"/>
            <a:ext cx="2286000" cy="1143000"/>
            <a:chOff x="2557440" y="3352680"/>
            <a:chExt cx="2286000" cy="1143000"/>
          </a:xfrm>
        </p:grpSpPr>
        <p:sp>
          <p:nvSpPr>
            <p:cNvPr id="91" name=""/>
            <p:cNvSpPr/>
            <p:nvPr/>
          </p:nvSpPr>
          <p:spPr>
            <a:xfrm>
              <a:off x="2557440" y="3352680"/>
              <a:ext cx="2286000" cy="1143000"/>
            </a:xfrm>
            <a:prstGeom prst="rect">
              <a:avLst/>
            </a:prstGeom>
            <a:solidFill>
              <a:srgbClr val="f381b5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57440" y="3485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Design Engineers      or            Optimization Tools</a:t>
              </a:r>
              <a:r>
                <a:rPr b="0" lang="en-US" sz="18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47960" y="1523880"/>
            <a:ext cx="1798560" cy="6858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60640" y="15238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rigin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99520" y="3429000"/>
            <a:ext cx="1512720" cy="838080"/>
            <a:chOff x="7499520" y="3429000"/>
            <a:chExt cx="1512720" cy="838080"/>
          </a:xfrm>
        </p:grpSpPr>
        <p:sp>
          <p:nvSpPr>
            <p:cNvPr id="96" name=""/>
            <p:cNvSpPr/>
            <p:nvPr/>
          </p:nvSpPr>
          <p:spPr>
            <a:xfrm>
              <a:off x="7499520" y="3429000"/>
              <a:ext cx="1512720" cy="838080"/>
            </a:xfrm>
            <a:prstGeom prst="ellipse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7040" y="350496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00640" y="1523880"/>
            <a:ext cx="1676520" cy="838080"/>
            <a:chOff x="5300640" y="1523880"/>
            <a:chExt cx="1676520" cy="838080"/>
          </a:xfrm>
        </p:grpSpPr>
        <p:sp>
          <p:nvSpPr>
            <p:cNvPr id="99" name=""/>
            <p:cNvSpPr/>
            <p:nvPr/>
          </p:nvSpPr>
          <p:spPr>
            <a:xfrm>
              <a:off x="5300640" y="1523880"/>
              <a:ext cx="167652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76960" y="15998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Original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862360" y="5257800"/>
            <a:ext cx="1676160" cy="838080"/>
            <a:chOff x="2862360" y="5257800"/>
            <a:chExt cx="1676160" cy="838080"/>
          </a:xfrm>
        </p:grpSpPr>
        <p:sp>
          <p:nvSpPr>
            <p:cNvPr id="102" name=""/>
            <p:cNvSpPr/>
            <p:nvPr/>
          </p:nvSpPr>
          <p:spPr>
            <a:xfrm>
              <a:off x="2862360" y="5257800"/>
              <a:ext cx="167616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533412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3516480"/>
            <a:ext cx="1676520" cy="761760"/>
          </a:xfrm>
          <a:prstGeom prst="rect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00" y="3635280"/>
            <a:ext cx="167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ew Desig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8160" y="4648320"/>
            <a:ext cx="304560" cy="490320"/>
          </a:xfrm>
          <a:prstGeom prst="upArrow">
            <a:avLst>
              <a:gd name="adj1" fmla="val 50000"/>
              <a:gd name="adj2" fmla="val 4024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3400" y="3787920"/>
            <a:ext cx="446040" cy="304560"/>
          </a:xfrm>
          <a:prstGeom prst="rightArrow">
            <a:avLst>
              <a:gd name="adj1" fmla="val 50000"/>
              <a:gd name="adj2" fmla="val 36613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5720" y="3733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4aad4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45480" y="3733920"/>
            <a:ext cx="457200" cy="304560"/>
          </a:xfrm>
          <a:prstGeom prst="rightArrow">
            <a:avLst>
              <a:gd name="adj1" fmla="val 50000"/>
              <a:gd name="adj2" fmla="val 56815"/>
            </a:avLst>
          </a:prstGeom>
          <a:solidFill>
            <a:srgbClr val="ffcc99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4800600"/>
            <a:ext cx="14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pic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547800" y="2328480"/>
            <a:ext cx="282600" cy="893880"/>
          </a:xfrm>
          <a:prstGeom prst="upArrow">
            <a:avLst>
              <a:gd name="adj1" fmla="val 50000"/>
              <a:gd name="adj2" fmla="val 79076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97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Ne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5986080" y="2480760"/>
            <a:ext cx="304920" cy="871560"/>
          </a:xfrm>
          <a:prstGeom prst="upArrow">
            <a:avLst>
              <a:gd name="adj1" fmla="val 50000"/>
              <a:gd name="adj2" fmla="val 7145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38720" y="2666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8400000">
            <a:off x="4801680" y="2076480"/>
            <a:ext cx="304920" cy="1566720"/>
          </a:xfrm>
          <a:prstGeom prst="upArrow">
            <a:avLst>
              <a:gd name="adj1" fmla="val 50000"/>
              <a:gd name="adj2" fmla="val 128453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9760" y="4114800"/>
            <a:ext cx="68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vice     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000000">
            <a:off x="5274000" y="4101120"/>
            <a:ext cx="304560" cy="1808280"/>
          </a:xfrm>
          <a:prstGeom prst="upArrow">
            <a:avLst>
              <a:gd name="adj1" fmla="val 50000"/>
              <a:gd name="adj2" fmla="val 148434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1800" y="514980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396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3429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.</cp:lastModifiedBy>
  <cp:lastPrinted>2002-02-05T19:22:32Z</cp:lastPrinted>
  <dcterms:modified xsi:type="dcterms:W3CDTF">2003-06-18T19:11:30Z</dcterms:modified>
  <cp:revision>146</cp:revision>
  <dc:subject>ITC '01 Electronic presentation guide/template</dc:subject>
  <dc:title>Presentation Guide</dc:title>
</cp:coreProperties>
</file>