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3.wmf" ContentType="image/x-wmf"/>
  <Override PartName="/ppt/media/image22.png" ContentType="image/png"/>
  <Override PartName="/ppt/media/image21.wmf" ContentType="image/x-wmf"/>
  <Override PartName="/ppt/media/image18.png" ContentType="image/png"/>
  <Override PartName="/ppt/media/image19.png" ContentType="image/png"/>
  <Override PartName="/ppt/media/image10.wmf" ContentType="image/x-wmf"/>
  <Override PartName="/ppt/media/image2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15.png" ContentType="image/png"/>
  <Override PartName="/ppt/media/image35.wmf" ContentType="image/x-wmf"/>
  <Override PartName="/ppt/media/image5.wmf" ContentType="image/x-wmf"/>
  <Override PartName="/ppt/media/image4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2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8A88-2950-4BBC-9578-D22F22B370E9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ample presentation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7E78-274D-4945-A8A8-8D412B16B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94400"/>
            <a:ext cx="77724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1BDE-9988-4937-9FFB-9FEB73C2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6FAD-5404-432D-A9B7-CF0E97A7A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9440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9440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9440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C766-E1B3-4E9B-9E9E-BFB738C4A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FC98-1C03-4E12-B064-CB4045D0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0FD9-D4F4-4E13-BA64-D207C65A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5585-B908-4E5C-91EA-72B11CDB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5335-DB3C-4B1A-ADB1-D1CB5EBE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EBF1-C97C-4041-829A-0137482D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610A-8903-49DD-B683-C98D0870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8B2D-C343-4E27-A29C-5670565E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94400"/>
            <a:ext cx="77724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9620-5A6A-4650-A890-C9F66C4C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0252-3663-460C-AC4B-578B2E8C7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wmf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65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Arial"/>
              </a:rPr>
              <a:t>CoSMoS: Coupled Simulation and Modeling </a:t>
            </a:r>
            <a:br>
              <a:rPr sz="5400"/>
            </a:br>
            <a:r>
              <a:rPr b="1" lang="en-US" sz="5400" spc="-1" strike="noStrike">
                <a:solidFill>
                  <a:srgbClr val="3333cc"/>
                </a:solidFill>
                <a:latin typeface="Arial"/>
              </a:rPr>
              <a:t>of Systems-on-Chips </a:t>
            </a:r>
            <a:endParaRPr b="1" lang="en-US" sz="5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MS2003/RFIC20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95160" y="5776920"/>
            <a:ext cx="1447920" cy="60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4352760" y="5700600"/>
          <a:ext cx="820800" cy="83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52760" y="5700600"/>
                    <a:ext cx="8208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7480440" y="5700600"/>
            <a:ext cx="745920" cy="762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5800" y="4178160"/>
            <a:ext cx="77724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19,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Other Research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solver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linear time-domain solver research (SIL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bolic delay estimation in digital circuits with parasitics (SAMB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ccomplishments Since Last Review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ished implementation of transistor models: BSIM3, SOI, EK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ed-technology support in BM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MoS tools demo and test installation and Boe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STY and IPRAIL development and 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Milestone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July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MAC release at AF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ugust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DL-AMS mixed-technology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eptember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 domain support in BM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 domain CoSMoS simulator proto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cember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support in BM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domain CoSMoS simulator proto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ology transfer to Boeing (BMAC, IPRAIL, FROS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June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release of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EM Simulation in CoSMO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 Lead Prof. Vikram Jandhyal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Robert Sharpe, Dr. Daniel White, Dr. Nathan Champagn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LN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agato Chakraborty, Dipanjan Gope (NSF-SRC), Gong Ouyang, Todd West, Yong Wang (NSF-SRC), Chuanyi Yang (NSF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aisons to Circuit Simulation Work – Dr. Pavel Nikitin, Todd West, Yong Wa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Essential Formulation : Coupled EM and Circuit Simulation in Time and Frequency Domains : Hierarchical / Telescoping Approach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21932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istic circuit coupling applications and visualization/design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rcuit effects on EM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28600" y="2819520"/>
            <a:ext cx="3983040" cy="2327400"/>
            <a:chOff x="228600" y="2819520"/>
            <a:chExt cx="3983040" cy="2327400"/>
          </a:xfrm>
        </p:grpSpPr>
        <p:pic>
          <p:nvPicPr>
            <p:cNvPr id="107" name="G3" descr=""/>
            <p:cNvPicPr/>
            <p:nvPr/>
          </p:nvPicPr>
          <p:blipFill>
            <a:blip r:embed="rId1"/>
            <a:stretch/>
          </p:blipFill>
          <p:spPr>
            <a:xfrm>
              <a:off x="228600" y="2819520"/>
              <a:ext cx="398304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422360" y="4748040"/>
              <a:ext cx="181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Vpeak: 10m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76920" y="2514600"/>
            <a:ext cx="3800520" cy="280836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6781680" y="5486400"/>
            <a:ext cx="1933560" cy="1143000"/>
            <a:chOff x="6781680" y="5486400"/>
            <a:chExt cx="1933560" cy="1143000"/>
          </a:xfrm>
        </p:grpSpPr>
        <p:pic>
          <p:nvPicPr>
            <p:cNvPr id="111" name="parallel" descr=""/>
            <p:cNvPicPr/>
            <p:nvPr/>
          </p:nvPicPr>
          <p:blipFill>
            <a:blip r:embed="rId3"/>
            <a:stretch/>
          </p:blipFill>
          <p:spPr>
            <a:xfrm>
              <a:off x="6872040" y="5520240"/>
              <a:ext cx="1678680" cy="101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6786360" y="6327720"/>
              <a:ext cx="1861920" cy="30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781680" y="5486400"/>
              <a:ext cx="1933560" cy="17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495680" y="5181480"/>
            <a:ext cx="1803600" cy="1447920"/>
            <a:chOff x="4495680" y="5181480"/>
            <a:chExt cx="1803600" cy="1447920"/>
          </a:xfrm>
        </p:grpSpPr>
        <p:grpSp>
          <p:nvGrpSpPr>
            <p:cNvPr id="115" name=""/>
            <p:cNvGrpSpPr/>
            <p:nvPr/>
          </p:nvGrpSpPr>
          <p:grpSpPr>
            <a:xfrm>
              <a:off x="5318280" y="6377760"/>
              <a:ext cx="101880" cy="148320"/>
              <a:chOff x="5318280" y="6377760"/>
              <a:chExt cx="101880" cy="148320"/>
            </a:xfrm>
          </p:grpSpPr>
          <p:sp>
            <p:nvSpPr>
              <p:cNvPr id="116" name=""/>
              <p:cNvSpPr/>
              <p:nvPr/>
            </p:nvSpPr>
            <p:spPr>
              <a:xfrm>
                <a:off x="5318280" y="6377760"/>
                <a:ext cx="101880" cy="9864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369760" y="6385320"/>
                <a:ext cx="0" cy="1198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356800" y="6488640"/>
                <a:ext cx="25920" cy="17640"/>
              </a:xfrm>
              <a:custGeom>
                <a:avLst/>
                <a:gdLst/>
                <a:ahLst/>
                <a:rect l="l" t="t" r="r" b="b"/>
                <a:pathLst>
                  <a:path w="510" h="360">
                    <a:moveTo>
                      <a:pt x="0" y="0"/>
                    </a:moveTo>
                    <a:lnTo>
                      <a:pt x="510" y="0"/>
                    </a:lnTo>
                    <a:lnTo>
                      <a:pt x="255" y="36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318280" y="6427440"/>
                <a:ext cx="101880" cy="9864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 rot="10800000">
              <a:off x="4710600" y="5740560"/>
              <a:ext cx="91080" cy="45360"/>
            </a:xfrm>
            <a:custGeom>
              <a:avLst/>
              <a:gdLst/>
              <a:ahLst/>
              <a:rect l="l" t="t" r="r" b="b"/>
              <a:pathLst>
                <a:path w="2114" h="1192">
                  <a:moveTo>
                    <a:pt x="0" y="590"/>
                  </a:moveTo>
                  <a:lnTo>
                    <a:pt x="182" y="2"/>
                  </a:lnTo>
                  <a:lnTo>
                    <a:pt x="518" y="1192"/>
                  </a:lnTo>
                  <a:lnTo>
                    <a:pt x="882" y="2"/>
                  </a:lnTo>
                  <a:lnTo>
                    <a:pt x="1232" y="1178"/>
                  </a:lnTo>
                  <a:lnTo>
                    <a:pt x="1583" y="0"/>
                  </a:lnTo>
                  <a:lnTo>
                    <a:pt x="1932" y="1178"/>
                  </a:lnTo>
                  <a:lnTo>
                    <a:pt x="2114" y="59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5148360" y="6086880"/>
              <a:ext cx="74160" cy="141840"/>
              <a:chOff x="5148360" y="6086880"/>
              <a:chExt cx="74160" cy="141840"/>
            </a:xfrm>
          </p:grpSpPr>
          <p:sp>
            <p:nvSpPr>
              <p:cNvPr id="122" name=""/>
              <p:cNvSpPr/>
              <p:nvPr/>
            </p:nvSpPr>
            <p:spPr>
              <a:xfrm rot="5400000">
                <a:off x="5167800" y="6067440"/>
                <a:ext cx="35280" cy="74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5400000">
                <a:off x="5167800" y="6103080"/>
                <a:ext cx="35280" cy="74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5400000">
                <a:off x="5167800" y="6138360"/>
                <a:ext cx="35280" cy="74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5400000">
                <a:off x="5167800" y="6174000"/>
                <a:ext cx="35280" cy="74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5185080" y="5978160"/>
              <a:ext cx="0" cy="1062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5080" y="6229080"/>
              <a:ext cx="199440" cy="70920"/>
            </a:xfrm>
            <a:custGeom>
              <a:avLst/>
              <a:gdLst/>
              <a:ahLst/>
              <a:rect l="l" t="t" r="r" b="b"/>
              <a:pathLst>
                <a:path w="1260" h="360">
                  <a:moveTo>
                    <a:pt x="0" y="0"/>
                  </a:moveTo>
                  <a:lnTo>
                    <a:pt x="0" y="360"/>
                  </a:lnTo>
                  <a:lnTo>
                    <a:pt x="1260" y="36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5080" y="5704560"/>
              <a:ext cx="0" cy="1422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5148360" y="5328000"/>
              <a:ext cx="74160" cy="141840"/>
              <a:chOff x="5148360" y="5328000"/>
              <a:chExt cx="74160" cy="141840"/>
            </a:xfrm>
          </p:grpSpPr>
          <p:sp>
            <p:nvSpPr>
              <p:cNvPr id="130" name=""/>
              <p:cNvSpPr/>
              <p:nvPr/>
            </p:nvSpPr>
            <p:spPr>
              <a:xfrm rot="5400000">
                <a:off x="5167800" y="5308560"/>
                <a:ext cx="35280" cy="74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5400000">
                <a:off x="5167800" y="5344200"/>
                <a:ext cx="35280" cy="74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5400000">
                <a:off x="5167800" y="5379480"/>
                <a:ext cx="35280" cy="74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5400000">
                <a:off x="5167800" y="5415120"/>
                <a:ext cx="35280" cy="74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5185080" y="5472360"/>
              <a:ext cx="0" cy="1062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185080" y="5219280"/>
              <a:ext cx="0" cy="1062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56320" y="5219280"/>
              <a:ext cx="350280" cy="425880"/>
            </a:xfrm>
            <a:custGeom>
              <a:avLst/>
              <a:gdLst/>
              <a:ahLst/>
              <a:rect l="l" t="t" r="r" b="b"/>
              <a:pathLst>
                <a:path w="720" h="2160">
                  <a:moveTo>
                    <a:pt x="720" y="2160"/>
                  </a:moveTo>
                  <a:lnTo>
                    <a:pt x="0" y="216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4863960" y="5880240"/>
              <a:ext cx="151560" cy="69120"/>
              <a:chOff x="4863960" y="5880240"/>
              <a:chExt cx="151560" cy="69120"/>
            </a:xfrm>
          </p:grpSpPr>
          <p:sp>
            <p:nvSpPr>
              <p:cNvPr id="138" name=""/>
              <p:cNvSpPr/>
              <p:nvPr/>
            </p:nvSpPr>
            <p:spPr>
              <a:xfrm>
                <a:off x="4863960" y="5880240"/>
                <a:ext cx="37440" cy="6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901760" y="5880240"/>
                <a:ext cx="37440" cy="6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939920" y="5880240"/>
                <a:ext cx="37440" cy="6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978080" y="5880240"/>
                <a:ext cx="37440" cy="6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4726440" y="5863680"/>
              <a:ext cx="24120" cy="105480"/>
              <a:chOff x="4726440" y="5863680"/>
              <a:chExt cx="24120" cy="105480"/>
            </a:xfrm>
          </p:grpSpPr>
          <p:sp>
            <p:nvSpPr>
              <p:cNvPr id="143" name=""/>
              <p:cNvSpPr/>
              <p:nvPr/>
            </p:nvSpPr>
            <p:spPr>
              <a:xfrm>
                <a:off x="4726440" y="5863680"/>
                <a:ext cx="0" cy="1054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50560" y="5863680"/>
                <a:ext cx="0" cy="1054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5106960" y="5578560"/>
              <a:ext cx="79560" cy="147960"/>
              <a:chOff x="5106960" y="5578560"/>
              <a:chExt cx="79560" cy="147960"/>
            </a:xfrm>
          </p:grpSpPr>
          <p:sp>
            <p:nvSpPr>
              <p:cNvPr id="146" name=""/>
              <p:cNvSpPr/>
              <p:nvPr/>
            </p:nvSpPr>
            <p:spPr>
              <a:xfrm>
                <a:off x="5122440" y="5578560"/>
                <a:ext cx="63000" cy="127080"/>
              </a:xfrm>
              <a:custGeom>
                <a:avLst/>
                <a:gdLst/>
                <a:ahLst/>
                <a:rect l="l" t="t" r="r" b="b"/>
                <a:pathLst>
                  <a:path w="1176" h="1764">
                    <a:moveTo>
                      <a:pt x="1176" y="0"/>
                    </a:moveTo>
                    <a:lnTo>
                      <a:pt x="0" y="0"/>
                    </a:lnTo>
                    <a:lnTo>
                      <a:pt x="0" y="1764"/>
                    </a:lnTo>
                    <a:lnTo>
                      <a:pt x="1176" y="1764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154120" y="5684400"/>
                <a:ext cx="32400" cy="42120"/>
              </a:xfrm>
              <a:custGeom>
                <a:avLst/>
                <a:gdLst/>
                <a:ahLst/>
                <a:rect l="l" t="t" r="r" b="b"/>
                <a:pathLst>
                  <a:path w="602" h="588">
                    <a:moveTo>
                      <a:pt x="0" y="0"/>
                    </a:moveTo>
                    <a:lnTo>
                      <a:pt x="602" y="294"/>
                    </a:lnTo>
                    <a:lnTo>
                      <a:pt x="0" y="588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106960" y="5578560"/>
                <a:ext cx="0" cy="12816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5106960" y="5852520"/>
              <a:ext cx="79560" cy="147960"/>
              <a:chOff x="5106960" y="5852520"/>
              <a:chExt cx="79560" cy="147960"/>
            </a:xfrm>
          </p:grpSpPr>
          <p:sp>
            <p:nvSpPr>
              <p:cNvPr id="150" name=""/>
              <p:cNvSpPr/>
              <p:nvPr/>
            </p:nvSpPr>
            <p:spPr>
              <a:xfrm>
                <a:off x="5122440" y="5852520"/>
                <a:ext cx="63000" cy="127080"/>
              </a:xfrm>
              <a:custGeom>
                <a:avLst/>
                <a:gdLst/>
                <a:ahLst/>
                <a:rect l="l" t="t" r="r" b="b"/>
                <a:pathLst>
                  <a:path w="1176" h="1764">
                    <a:moveTo>
                      <a:pt x="1176" y="0"/>
                    </a:moveTo>
                    <a:lnTo>
                      <a:pt x="0" y="0"/>
                    </a:lnTo>
                    <a:lnTo>
                      <a:pt x="0" y="1764"/>
                    </a:lnTo>
                    <a:lnTo>
                      <a:pt x="1176" y="1764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154120" y="5958360"/>
                <a:ext cx="32400" cy="42120"/>
              </a:xfrm>
              <a:custGeom>
                <a:avLst/>
                <a:gdLst/>
                <a:ahLst/>
                <a:rect l="l" t="t" r="r" b="b"/>
                <a:pathLst>
                  <a:path w="602" h="588">
                    <a:moveTo>
                      <a:pt x="0" y="0"/>
                    </a:moveTo>
                    <a:lnTo>
                      <a:pt x="602" y="294"/>
                    </a:lnTo>
                    <a:lnTo>
                      <a:pt x="0" y="588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106960" y="5852520"/>
                <a:ext cx="0" cy="12816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4582440" y="6276240"/>
              <a:ext cx="115920" cy="113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19160" y="6315120"/>
              <a:ext cx="450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4641120" y="6293520"/>
              <a:ext cx="0" cy="439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6200000">
              <a:off x="4592880" y="6158520"/>
              <a:ext cx="95040" cy="42840"/>
            </a:xfrm>
            <a:custGeom>
              <a:avLst/>
              <a:gdLst/>
              <a:ahLst/>
              <a:rect l="l" t="t" r="r" b="b"/>
              <a:pathLst>
                <a:path w="2114" h="1192">
                  <a:moveTo>
                    <a:pt x="0" y="590"/>
                  </a:moveTo>
                  <a:lnTo>
                    <a:pt x="182" y="2"/>
                  </a:lnTo>
                  <a:lnTo>
                    <a:pt x="518" y="1192"/>
                  </a:lnTo>
                  <a:lnTo>
                    <a:pt x="882" y="2"/>
                  </a:lnTo>
                  <a:lnTo>
                    <a:pt x="1232" y="1178"/>
                  </a:lnTo>
                  <a:lnTo>
                    <a:pt x="1583" y="0"/>
                  </a:lnTo>
                  <a:lnTo>
                    <a:pt x="1932" y="1178"/>
                  </a:lnTo>
                  <a:lnTo>
                    <a:pt x="2114" y="59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41120" y="6227640"/>
              <a:ext cx="0" cy="482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4509000" y="6283440"/>
              <a:ext cx="56520" cy="39600"/>
              <a:chOff x="4509000" y="6283440"/>
              <a:chExt cx="56520" cy="39600"/>
            </a:xfrm>
          </p:grpSpPr>
          <p:sp>
            <p:nvSpPr>
              <p:cNvPr id="159" name=""/>
              <p:cNvSpPr/>
              <p:nvPr/>
            </p:nvSpPr>
            <p:spPr>
              <a:xfrm rot="16462800">
                <a:off x="4506120" y="6291360"/>
                <a:ext cx="34560" cy="26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1750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17504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 rot="5137200">
                <a:off x="4533480" y="6288120"/>
                <a:ext cx="34560" cy="26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1750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17504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4641840" y="5915520"/>
              <a:ext cx="84600" cy="217080"/>
            </a:xfrm>
            <a:custGeom>
              <a:avLst/>
              <a:gdLst/>
              <a:ahLst/>
              <a:rect l="l" t="t" r="r" b="b"/>
              <a:pathLst>
                <a:path w="210" h="504">
                  <a:moveTo>
                    <a:pt x="0" y="504"/>
                  </a:moveTo>
                  <a:lnTo>
                    <a:pt x="0" y="0"/>
                  </a:lnTo>
                  <a:lnTo>
                    <a:pt x="210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5015880" y="5915520"/>
              <a:ext cx="9036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52200" y="5717880"/>
              <a:ext cx="155880" cy="11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Vbi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24560" y="6360480"/>
              <a:ext cx="342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4601880" y="6486480"/>
              <a:ext cx="79200" cy="22680"/>
              <a:chOff x="4601880" y="6486480"/>
              <a:chExt cx="79200" cy="22680"/>
            </a:xfrm>
          </p:grpSpPr>
          <p:sp>
            <p:nvSpPr>
              <p:cNvPr id="166" name=""/>
              <p:cNvSpPr/>
              <p:nvPr/>
            </p:nvSpPr>
            <p:spPr>
              <a:xfrm>
                <a:off x="4601880" y="6486480"/>
                <a:ext cx="792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620960" y="6497640"/>
                <a:ext cx="410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631760" y="6509160"/>
                <a:ext cx="190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4641840" y="6389640"/>
              <a:ext cx="0" cy="964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18960" y="5909760"/>
              <a:ext cx="10800" cy="1152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02040" y="5763240"/>
              <a:ext cx="22320" cy="154080"/>
            </a:xfrm>
            <a:custGeom>
              <a:avLst/>
              <a:gdLst/>
              <a:ahLst/>
              <a:rect l="l" t="t" r="r" b="b"/>
              <a:pathLst>
                <a:path w="56" h="378">
                  <a:moveTo>
                    <a:pt x="56" y="378"/>
                  </a:moveTo>
                  <a:lnTo>
                    <a:pt x="5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4682520" y="5763240"/>
              <a:ext cx="280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4983120" y="5449680"/>
              <a:ext cx="23760" cy="111240"/>
              <a:chOff x="4983120" y="5449680"/>
              <a:chExt cx="23760" cy="111240"/>
            </a:xfrm>
          </p:grpSpPr>
          <p:sp>
            <p:nvSpPr>
              <p:cNvPr id="174" name=""/>
              <p:cNvSpPr/>
              <p:nvPr/>
            </p:nvSpPr>
            <p:spPr>
              <a:xfrm>
                <a:off x="4983120" y="5449680"/>
                <a:ext cx="0" cy="1112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006880" y="5449680"/>
                <a:ext cx="0" cy="1112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 flipH="1">
              <a:off x="4931640" y="5506920"/>
              <a:ext cx="5076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05800" y="5506920"/>
              <a:ext cx="181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4750920" y="5917320"/>
              <a:ext cx="1130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70080" y="5489640"/>
              <a:ext cx="61920" cy="34560"/>
            </a:xfrm>
            <a:custGeom>
              <a:avLst/>
              <a:gdLst/>
              <a:ahLst/>
              <a:rect l="l" t="t" r="r" b="b"/>
              <a:pathLst>
                <a:path w="2200" h="1456">
                  <a:moveTo>
                    <a:pt x="2200" y="194"/>
                  </a:moveTo>
                  <a:lnTo>
                    <a:pt x="2200" y="1456"/>
                  </a:lnTo>
                  <a:lnTo>
                    <a:pt x="932" y="1456"/>
                  </a:lnTo>
                  <a:lnTo>
                    <a:pt x="0" y="729"/>
                  </a:lnTo>
                  <a:lnTo>
                    <a:pt x="924" y="0"/>
                  </a:lnTo>
                  <a:lnTo>
                    <a:pt x="2200" y="0"/>
                  </a:lnTo>
                  <a:lnTo>
                    <a:pt x="2200" y="194"/>
                  </a:lnTo>
                  <a:close/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181840" y="5501160"/>
              <a:ext cx="11520" cy="108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5346360" y="5221440"/>
              <a:ext cx="874800" cy="1287720"/>
              <a:chOff x="5346360" y="5221440"/>
              <a:chExt cx="874800" cy="1287720"/>
            </a:xfrm>
          </p:grpSpPr>
          <p:sp>
            <p:nvSpPr>
              <p:cNvPr id="182" name=""/>
              <p:cNvSpPr/>
              <p:nvPr/>
            </p:nvSpPr>
            <p:spPr>
              <a:xfrm flipH="1" rot="10800000">
                <a:off x="5929200" y="5742000"/>
                <a:ext cx="90720" cy="45360"/>
              </a:xfrm>
              <a:custGeom>
                <a:avLst/>
                <a:gdLst/>
                <a:ahLst/>
                <a:rect l="l" t="t" r="r" b="b"/>
                <a:pathLst>
                  <a:path w="2114" h="1192">
                    <a:moveTo>
                      <a:pt x="0" y="590"/>
                    </a:moveTo>
                    <a:lnTo>
                      <a:pt x="182" y="2"/>
                    </a:lnTo>
                    <a:lnTo>
                      <a:pt x="518" y="1192"/>
                    </a:lnTo>
                    <a:lnTo>
                      <a:pt x="882" y="2"/>
                    </a:lnTo>
                    <a:lnTo>
                      <a:pt x="1232" y="1178"/>
                    </a:lnTo>
                    <a:lnTo>
                      <a:pt x="1583" y="0"/>
                    </a:lnTo>
                    <a:lnTo>
                      <a:pt x="1932" y="1178"/>
                    </a:lnTo>
                    <a:lnTo>
                      <a:pt x="2114" y="59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5508360" y="6087600"/>
                <a:ext cx="74880" cy="141480"/>
                <a:chOff x="5508360" y="6087600"/>
                <a:chExt cx="74880" cy="141480"/>
              </a:xfrm>
            </p:grpSpPr>
            <p:sp>
              <p:nvSpPr>
                <p:cNvPr id="184" name=""/>
                <p:cNvSpPr/>
                <p:nvPr/>
              </p:nvSpPr>
              <p:spPr>
                <a:xfrm flipH="1" rot="16200000">
                  <a:off x="5528160" y="6067440"/>
                  <a:ext cx="34920" cy="74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H="1" rot="16200000">
                  <a:off x="5528160" y="6102720"/>
                  <a:ext cx="34920" cy="74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flipH="1" rot="16200000">
                  <a:off x="5528160" y="6138360"/>
                  <a:ext cx="34920" cy="74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H="1" rot="16200000">
                  <a:off x="5528160" y="6174000"/>
                  <a:ext cx="34920" cy="74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"/>
              <p:cNvSpPr/>
              <p:nvPr/>
            </p:nvSpPr>
            <p:spPr>
              <a:xfrm>
                <a:off x="5545800" y="5979240"/>
                <a:ext cx="0" cy="1062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5346360" y="6230160"/>
                <a:ext cx="199440" cy="70560"/>
              </a:xfrm>
              <a:custGeom>
                <a:avLst/>
                <a:gdLst/>
                <a:ahLst/>
                <a:rect l="l" t="t" r="r" b="b"/>
                <a:pathLst>
                  <a:path w="1260" h="360">
                    <a:moveTo>
                      <a:pt x="0" y="0"/>
                    </a:moveTo>
                    <a:lnTo>
                      <a:pt x="0" y="360"/>
                    </a:lnTo>
                    <a:lnTo>
                      <a:pt x="1260" y="36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545800" y="5705640"/>
                <a:ext cx="0" cy="1418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1" name=""/>
              <p:cNvGrpSpPr/>
              <p:nvPr/>
            </p:nvGrpSpPr>
            <p:grpSpPr>
              <a:xfrm>
                <a:off x="5508360" y="5329800"/>
                <a:ext cx="74880" cy="141480"/>
                <a:chOff x="5508360" y="5329800"/>
                <a:chExt cx="74880" cy="141480"/>
              </a:xfrm>
            </p:grpSpPr>
            <p:sp>
              <p:nvSpPr>
                <p:cNvPr id="192" name=""/>
                <p:cNvSpPr/>
                <p:nvPr/>
              </p:nvSpPr>
              <p:spPr>
                <a:xfrm flipH="1" rot="16200000">
                  <a:off x="5528160" y="5309640"/>
                  <a:ext cx="34920" cy="74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flipH="1" rot="16200000">
                  <a:off x="5528160" y="5344920"/>
                  <a:ext cx="34920" cy="74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H="1" rot="16200000">
                  <a:off x="5528160" y="5380560"/>
                  <a:ext cx="34920" cy="74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flipH="1" rot="16200000">
                  <a:off x="5528160" y="5416200"/>
                  <a:ext cx="34920" cy="74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6" name=""/>
              <p:cNvSpPr/>
              <p:nvPr/>
            </p:nvSpPr>
            <p:spPr>
              <a:xfrm>
                <a:off x="5545800" y="5474160"/>
                <a:ext cx="0" cy="1062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545800" y="5221440"/>
                <a:ext cx="0" cy="1062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5623920" y="5221440"/>
                <a:ext cx="350280" cy="425160"/>
              </a:xfrm>
              <a:custGeom>
                <a:avLst/>
                <a:gdLst/>
                <a:ahLst/>
                <a:rect l="l" t="t" r="r" b="b"/>
                <a:pathLst>
                  <a:path w="720" h="2160">
                    <a:moveTo>
                      <a:pt x="720" y="2160"/>
                    </a:moveTo>
                    <a:lnTo>
                      <a:pt x="0" y="216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"/>
              <p:cNvGrpSpPr/>
              <p:nvPr/>
            </p:nvGrpSpPr>
            <p:grpSpPr>
              <a:xfrm>
                <a:off x="5715360" y="5880960"/>
                <a:ext cx="151200" cy="69840"/>
                <a:chOff x="5715360" y="5880960"/>
                <a:chExt cx="151200" cy="69840"/>
              </a:xfrm>
            </p:grpSpPr>
            <p:sp>
              <p:nvSpPr>
                <p:cNvPr id="200" name=""/>
                <p:cNvSpPr/>
                <p:nvPr/>
              </p:nvSpPr>
              <p:spPr>
                <a:xfrm flipH="1">
                  <a:off x="5829120" y="5880960"/>
                  <a:ext cx="37440" cy="69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>
                  <a:off x="5791320" y="5880960"/>
                  <a:ext cx="37440" cy="69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H="1">
                  <a:off x="5753520" y="5880960"/>
                  <a:ext cx="37440" cy="69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H="1">
                  <a:off x="5715360" y="5880960"/>
                  <a:ext cx="37440" cy="69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5980320" y="5864400"/>
                <a:ext cx="23760" cy="105120"/>
                <a:chOff x="5980320" y="5864400"/>
                <a:chExt cx="23760" cy="1051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6004080" y="5864400"/>
                  <a:ext cx="0" cy="10512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980320" y="5864400"/>
                  <a:ext cx="0" cy="10512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5545080" y="5580360"/>
                <a:ext cx="79200" cy="147960"/>
                <a:chOff x="5545080" y="5580360"/>
                <a:chExt cx="79200" cy="147960"/>
              </a:xfrm>
            </p:grpSpPr>
            <p:sp>
              <p:nvSpPr>
                <p:cNvPr id="208" name=""/>
                <p:cNvSpPr/>
                <p:nvPr/>
              </p:nvSpPr>
              <p:spPr>
                <a:xfrm flipH="1">
                  <a:off x="5545440" y="5580360"/>
                  <a:ext cx="63000" cy="127080"/>
                </a:xfrm>
                <a:custGeom>
                  <a:avLst/>
                  <a:gdLst/>
                  <a:ahLst/>
                  <a:rect l="l" t="t" r="r" b="b"/>
                  <a:pathLst>
                    <a:path w="1176" h="1764">
                      <a:moveTo>
                        <a:pt x="1176" y="0"/>
                      </a:moveTo>
                      <a:lnTo>
                        <a:pt x="0" y="0"/>
                      </a:lnTo>
                      <a:lnTo>
                        <a:pt x="0" y="1764"/>
                      </a:lnTo>
                      <a:lnTo>
                        <a:pt x="1176" y="1764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>
                  <a:off x="5544720" y="5686200"/>
                  <a:ext cx="32040" cy="42120"/>
                </a:xfrm>
                <a:custGeom>
                  <a:avLst/>
                  <a:gdLst/>
                  <a:ahLst/>
                  <a:rect l="l" t="t" r="r" b="b"/>
                  <a:pathLst>
                    <a:path w="602" h="588">
                      <a:moveTo>
                        <a:pt x="0" y="0"/>
                      </a:moveTo>
                      <a:lnTo>
                        <a:pt x="602" y="294"/>
                      </a:lnTo>
                      <a:lnTo>
                        <a:pt x="0" y="588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624280" y="5580360"/>
                  <a:ext cx="0" cy="12780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5545080" y="5853960"/>
                <a:ext cx="79200" cy="147960"/>
                <a:chOff x="5545080" y="5853960"/>
                <a:chExt cx="79200" cy="147960"/>
              </a:xfrm>
            </p:grpSpPr>
            <p:sp>
              <p:nvSpPr>
                <p:cNvPr id="212" name=""/>
                <p:cNvSpPr/>
                <p:nvPr/>
              </p:nvSpPr>
              <p:spPr>
                <a:xfrm flipH="1">
                  <a:off x="5545440" y="5853960"/>
                  <a:ext cx="63000" cy="127080"/>
                </a:xfrm>
                <a:custGeom>
                  <a:avLst/>
                  <a:gdLst/>
                  <a:ahLst/>
                  <a:rect l="l" t="t" r="r" b="b"/>
                  <a:pathLst>
                    <a:path w="1176" h="1764">
                      <a:moveTo>
                        <a:pt x="1176" y="0"/>
                      </a:moveTo>
                      <a:lnTo>
                        <a:pt x="0" y="0"/>
                      </a:lnTo>
                      <a:lnTo>
                        <a:pt x="0" y="1764"/>
                      </a:lnTo>
                      <a:lnTo>
                        <a:pt x="1176" y="1764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H="1">
                  <a:off x="5544720" y="5959800"/>
                  <a:ext cx="32040" cy="42120"/>
                </a:xfrm>
                <a:custGeom>
                  <a:avLst/>
                  <a:gdLst/>
                  <a:ahLst/>
                  <a:rect l="l" t="t" r="r" b="b"/>
                  <a:pathLst>
                    <a:path w="602" h="588">
                      <a:moveTo>
                        <a:pt x="0" y="0"/>
                      </a:moveTo>
                      <a:lnTo>
                        <a:pt x="602" y="294"/>
                      </a:lnTo>
                      <a:lnTo>
                        <a:pt x="0" y="588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624280" y="5853960"/>
                  <a:ext cx="0" cy="12780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 flipH="1">
                <a:off x="6032520" y="6276960"/>
                <a:ext cx="115560" cy="1126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6066360" y="6315480"/>
                <a:ext cx="4536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>
                <a:off x="6089400" y="6293880"/>
                <a:ext cx="0" cy="439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 rot="5400000">
                <a:off x="6042240" y="6159240"/>
                <a:ext cx="95040" cy="42840"/>
              </a:xfrm>
              <a:custGeom>
                <a:avLst/>
                <a:gdLst/>
                <a:ahLst/>
                <a:rect l="l" t="t" r="r" b="b"/>
                <a:pathLst>
                  <a:path w="2114" h="1192">
                    <a:moveTo>
                      <a:pt x="0" y="590"/>
                    </a:moveTo>
                    <a:lnTo>
                      <a:pt x="182" y="2"/>
                    </a:lnTo>
                    <a:lnTo>
                      <a:pt x="518" y="1192"/>
                    </a:lnTo>
                    <a:lnTo>
                      <a:pt x="882" y="2"/>
                    </a:lnTo>
                    <a:lnTo>
                      <a:pt x="1232" y="1178"/>
                    </a:lnTo>
                    <a:lnTo>
                      <a:pt x="1583" y="0"/>
                    </a:lnTo>
                    <a:lnTo>
                      <a:pt x="1932" y="1178"/>
                    </a:lnTo>
                    <a:lnTo>
                      <a:pt x="2114" y="59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089400" y="6228360"/>
                <a:ext cx="0" cy="482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0" name=""/>
              <p:cNvGrpSpPr/>
              <p:nvPr/>
            </p:nvGrpSpPr>
            <p:grpSpPr>
              <a:xfrm>
                <a:off x="6164640" y="6284160"/>
                <a:ext cx="56520" cy="38520"/>
                <a:chOff x="6164640" y="6284160"/>
                <a:chExt cx="56520" cy="38520"/>
              </a:xfrm>
            </p:grpSpPr>
            <p:sp>
              <p:nvSpPr>
                <p:cNvPr id="221" name=""/>
                <p:cNvSpPr/>
                <p:nvPr/>
              </p:nvSpPr>
              <p:spPr>
                <a:xfrm flipH="1" rot="5137200">
                  <a:off x="6189480" y="6291720"/>
                  <a:ext cx="33840" cy="26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17504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17504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flipH="1" flipV="1" rot="16462800">
                  <a:off x="6161760" y="6288480"/>
                  <a:ext cx="33840" cy="26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17504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17504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3" name=""/>
              <p:cNvSpPr/>
              <p:nvPr/>
            </p:nvSpPr>
            <p:spPr>
              <a:xfrm flipH="1">
                <a:off x="6004080" y="5916600"/>
                <a:ext cx="84960" cy="216360"/>
              </a:xfrm>
              <a:custGeom>
                <a:avLst/>
                <a:gdLst/>
                <a:ahLst/>
                <a:rect l="l" t="t" r="r" b="b"/>
                <a:pathLst>
                  <a:path w="210" h="504">
                    <a:moveTo>
                      <a:pt x="0" y="504"/>
                    </a:moveTo>
                    <a:lnTo>
                      <a:pt x="0" y="0"/>
                    </a:lnTo>
                    <a:lnTo>
                      <a:pt x="210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624280" y="5916600"/>
                <a:ext cx="907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6072120" y="6361200"/>
                <a:ext cx="338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6049440" y="6486480"/>
                <a:ext cx="79200" cy="22680"/>
                <a:chOff x="6049440" y="6486480"/>
                <a:chExt cx="79200" cy="22680"/>
              </a:xfrm>
            </p:grpSpPr>
            <p:sp>
              <p:nvSpPr>
                <p:cNvPr id="227" name=""/>
                <p:cNvSpPr/>
                <p:nvPr/>
              </p:nvSpPr>
              <p:spPr>
                <a:xfrm flipH="1">
                  <a:off x="6049440" y="6486480"/>
                  <a:ext cx="7920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flipH="1">
                  <a:off x="6068520" y="6497640"/>
                  <a:ext cx="4104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H="1">
                  <a:off x="6079680" y="6509160"/>
                  <a:ext cx="1908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0" name=""/>
              <p:cNvSpPr/>
              <p:nvPr/>
            </p:nvSpPr>
            <p:spPr>
              <a:xfrm>
                <a:off x="6089040" y="6389640"/>
                <a:ext cx="0" cy="964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5900760" y="5910840"/>
                <a:ext cx="11160" cy="1116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5906160" y="5764680"/>
                <a:ext cx="22680" cy="153720"/>
              </a:xfrm>
              <a:custGeom>
                <a:avLst/>
                <a:gdLst/>
                <a:ahLst/>
                <a:rect l="l" t="t" r="r" b="b"/>
                <a:pathLst>
                  <a:path w="56" h="378">
                    <a:moveTo>
                      <a:pt x="56" y="378"/>
                    </a:moveTo>
                    <a:lnTo>
                      <a:pt x="56" y="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020280" y="5764680"/>
                <a:ext cx="280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4" name=""/>
              <p:cNvGrpSpPr/>
              <p:nvPr/>
            </p:nvGrpSpPr>
            <p:grpSpPr>
              <a:xfrm>
                <a:off x="5724000" y="5451120"/>
                <a:ext cx="23760" cy="110880"/>
                <a:chOff x="5724000" y="5451120"/>
                <a:chExt cx="23760" cy="11088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5747760" y="5451120"/>
                  <a:ext cx="0" cy="11088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724000" y="5451120"/>
                  <a:ext cx="0" cy="11088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"/>
              <p:cNvSpPr/>
              <p:nvPr/>
            </p:nvSpPr>
            <p:spPr>
              <a:xfrm>
                <a:off x="5748120" y="5508360"/>
                <a:ext cx="5076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5543640" y="5508360"/>
                <a:ext cx="1814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867280" y="5918760"/>
                <a:ext cx="1134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5798520" y="5491080"/>
                <a:ext cx="62280" cy="34200"/>
              </a:xfrm>
              <a:custGeom>
                <a:avLst/>
                <a:gdLst/>
                <a:ahLst/>
                <a:rect l="l" t="t" r="r" b="b"/>
                <a:pathLst>
                  <a:path w="2200" h="1456">
                    <a:moveTo>
                      <a:pt x="2200" y="194"/>
                    </a:moveTo>
                    <a:lnTo>
                      <a:pt x="2200" y="1456"/>
                    </a:lnTo>
                    <a:lnTo>
                      <a:pt x="932" y="1456"/>
                    </a:lnTo>
                    <a:lnTo>
                      <a:pt x="0" y="729"/>
                    </a:lnTo>
                    <a:lnTo>
                      <a:pt x="924" y="0"/>
                    </a:lnTo>
                    <a:lnTo>
                      <a:pt x="2200" y="0"/>
                    </a:lnTo>
                    <a:lnTo>
                      <a:pt x="2200" y="194"/>
                    </a:lnTo>
                    <a:close/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5537520" y="5502600"/>
                <a:ext cx="11160" cy="1116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5329080" y="6606720"/>
              <a:ext cx="79200" cy="22680"/>
              <a:chOff x="5329080" y="6606720"/>
              <a:chExt cx="79200" cy="22680"/>
            </a:xfrm>
          </p:grpSpPr>
          <p:sp>
            <p:nvSpPr>
              <p:cNvPr id="243" name=""/>
              <p:cNvSpPr/>
              <p:nvPr/>
            </p:nvSpPr>
            <p:spPr>
              <a:xfrm flipH="1">
                <a:off x="5329080" y="6606720"/>
                <a:ext cx="792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5348160" y="6617880"/>
                <a:ext cx="410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5359320" y="6629400"/>
                <a:ext cx="190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5369400" y="6303240"/>
              <a:ext cx="0" cy="68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5363280" y="6297480"/>
              <a:ext cx="10800" cy="108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369400" y="6526440"/>
              <a:ext cx="0" cy="799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4676760" y="5221440"/>
              <a:ext cx="1298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4750920" y="5215680"/>
              <a:ext cx="10800" cy="108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5181840" y="5215680"/>
              <a:ext cx="11520" cy="108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5539320" y="5215680"/>
              <a:ext cx="10800" cy="108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72480" y="5730840"/>
              <a:ext cx="11880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Vbi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495680" y="6355080"/>
              <a:ext cx="11880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in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180480" y="6355080"/>
              <a:ext cx="11880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in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7400" y="5404680"/>
              <a:ext cx="11880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out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794200" y="5387400"/>
              <a:ext cx="11952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out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49520" y="5376240"/>
              <a:ext cx="11952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431320" y="5370120"/>
              <a:ext cx="11880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15080" y="5793840"/>
              <a:ext cx="11880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54960" y="5788080"/>
              <a:ext cx="11880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244480" y="6108120"/>
              <a:ext cx="11880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31320" y="6102720"/>
              <a:ext cx="11880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52200" y="5181480"/>
              <a:ext cx="11880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2.5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43200" y="6413760"/>
              <a:ext cx="11880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Itai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304920" y="5181480"/>
            <a:ext cx="3785760" cy="1320840"/>
            <a:chOff x="304920" y="5181480"/>
            <a:chExt cx="3785760" cy="1320840"/>
          </a:xfrm>
        </p:grpSpPr>
        <p:sp>
          <p:nvSpPr>
            <p:cNvPr id="267" name=""/>
            <p:cNvSpPr/>
            <p:nvPr/>
          </p:nvSpPr>
          <p:spPr>
            <a:xfrm>
              <a:off x="3208320" y="5181480"/>
              <a:ext cx="873360" cy="1320840"/>
            </a:xfrm>
            <a:prstGeom prst="rect">
              <a:avLst/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747800" y="5181480"/>
              <a:ext cx="1105200" cy="132084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4920" y="5181480"/>
              <a:ext cx="988920" cy="132084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1130400" y="5202360"/>
              <a:ext cx="2960280" cy="1280880"/>
              <a:chOff x="1130400" y="5202360"/>
              <a:chExt cx="2960280" cy="1280880"/>
            </a:xfrm>
          </p:grpSpPr>
          <p:grpSp>
            <p:nvGrpSpPr>
              <p:cNvPr id="271" name=""/>
              <p:cNvGrpSpPr/>
              <p:nvPr/>
            </p:nvGrpSpPr>
            <p:grpSpPr>
              <a:xfrm>
                <a:off x="2520000" y="5202360"/>
                <a:ext cx="200880" cy="169920"/>
                <a:chOff x="2520000" y="5202360"/>
                <a:chExt cx="200880" cy="16992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2520000" y="5202360"/>
                  <a:ext cx="200880" cy="169920"/>
                </a:xfrm>
                <a:prstGeom prst="ellipse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553480" y="5229000"/>
                  <a:ext cx="137160" cy="11592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1130400" y="5372280"/>
                <a:ext cx="201240" cy="169920"/>
                <a:chOff x="1130400" y="5372280"/>
                <a:chExt cx="201240" cy="16992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1130400" y="5372280"/>
                  <a:ext cx="201240" cy="169920"/>
                </a:xfrm>
                <a:prstGeom prst="ellipse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1163880" y="5398920"/>
                  <a:ext cx="137160" cy="11592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3889440" y="5202360"/>
                <a:ext cx="201240" cy="169920"/>
                <a:chOff x="3889440" y="5202360"/>
                <a:chExt cx="201240" cy="16992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3889440" y="5202360"/>
                  <a:ext cx="201240" cy="169920"/>
                </a:xfrm>
                <a:prstGeom prst="ellipse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3922920" y="5229000"/>
                  <a:ext cx="137160" cy="11592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2566800" y="6313320"/>
                <a:ext cx="201240" cy="169920"/>
                <a:chOff x="2566800" y="6313320"/>
                <a:chExt cx="201240" cy="16992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2566800" y="6313320"/>
                  <a:ext cx="201240" cy="169920"/>
                </a:xfrm>
                <a:prstGeom prst="ellipse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600280" y="6339960"/>
                  <a:ext cx="137160" cy="11592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3" name=""/>
            <p:cNvGrpSpPr/>
            <p:nvPr/>
          </p:nvGrpSpPr>
          <p:grpSpPr>
            <a:xfrm>
              <a:off x="1305000" y="5557680"/>
              <a:ext cx="2785320" cy="934560"/>
              <a:chOff x="1305000" y="5557680"/>
              <a:chExt cx="2785320" cy="934560"/>
            </a:xfrm>
          </p:grpSpPr>
          <p:grpSp>
            <p:nvGrpSpPr>
              <p:cNvPr id="284" name=""/>
              <p:cNvGrpSpPr/>
              <p:nvPr/>
            </p:nvGrpSpPr>
            <p:grpSpPr>
              <a:xfrm>
                <a:off x="1472400" y="5577120"/>
                <a:ext cx="2617920" cy="915120"/>
                <a:chOff x="1472400" y="5577120"/>
                <a:chExt cx="2617920" cy="91512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1982160" y="6178680"/>
                  <a:ext cx="201240" cy="169920"/>
                  <a:chOff x="1982160" y="6178680"/>
                  <a:chExt cx="201240" cy="16992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>
                    <a:off x="1982160" y="6178680"/>
                    <a:ext cx="201240" cy="1699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2015640" y="6205320"/>
                    <a:ext cx="137160" cy="11592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280" bIns="3528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8" name=""/>
                <p:cNvGrpSpPr/>
                <p:nvPr/>
              </p:nvGrpSpPr>
              <p:grpSpPr>
                <a:xfrm>
                  <a:off x="1472400" y="5577120"/>
                  <a:ext cx="200880" cy="169920"/>
                  <a:chOff x="1472400" y="5577120"/>
                  <a:chExt cx="200880" cy="16992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>
                    <a:off x="1472400" y="5577120"/>
                    <a:ext cx="200880" cy="1699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1505880" y="5603760"/>
                    <a:ext cx="137160" cy="11592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280" bIns="3528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1" name=""/>
                <p:cNvGrpSpPr/>
                <p:nvPr/>
              </p:nvGrpSpPr>
              <p:grpSpPr>
                <a:xfrm>
                  <a:off x="3889440" y="6322320"/>
                  <a:ext cx="200880" cy="169920"/>
                  <a:chOff x="3889440" y="6322320"/>
                  <a:chExt cx="200880" cy="169920"/>
                </a:xfrm>
              </p:grpSpPr>
              <p:sp>
                <p:nvSpPr>
                  <p:cNvPr id="292" name=""/>
                  <p:cNvSpPr/>
                  <p:nvPr/>
                </p:nvSpPr>
                <p:spPr>
                  <a:xfrm>
                    <a:off x="3889440" y="6322320"/>
                    <a:ext cx="200880" cy="1699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3922920" y="6348960"/>
                    <a:ext cx="137160" cy="11592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280" bIns="3528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2533320" y="5557680"/>
                <a:ext cx="200880" cy="169920"/>
                <a:chOff x="2533320" y="5557680"/>
                <a:chExt cx="200880" cy="1699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2533320" y="5557680"/>
                  <a:ext cx="200880" cy="169920"/>
                </a:xfrm>
                <a:prstGeom prst="ellipse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566800" y="5584320"/>
                  <a:ext cx="137160" cy="11592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1928880" y="5714640"/>
                <a:ext cx="201240" cy="169920"/>
                <a:chOff x="1928880" y="5714640"/>
                <a:chExt cx="201240" cy="1699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1928880" y="5714640"/>
                  <a:ext cx="201240" cy="169920"/>
                </a:xfrm>
                <a:prstGeom prst="ellipse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1962360" y="5741280"/>
                  <a:ext cx="137160" cy="11592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1305000" y="6145920"/>
                <a:ext cx="200880" cy="169920"/>
                <a:chOff x="1305000" y="6145920"/>
                <a:chExt cx="200880" cy="1699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1305000" y="6145920"/>
                  <a:ext cx="200880" cy="169920"/>
                </a:xfrm>
                <a:prstGeom prst="ellipse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1338480" y="6172560"/>
                  <a:ext cx="137160" cy="11592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3204720" y="5609880"/>
                <a:ext cx="201240" cy="169920"/>
                <a:chOff x="3204720" y="5609880"/>
                <a:chExt cx="201240" cy="1699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3204720" y="5609880"/>
                  <a:ext cx="201240" cy="169920"/>
                </a:xfrm>
                <a:prstGeom prst="ellipse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238200" y="5636520"/>
                  <a:ext cx="137160" cy="11592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6" name=""/>
          <p:cNvSpPr/>
          <p:nvPr/>
        </p:nvSpPr>
        <p:spPr>
          <a:xfrm>
            <a:off x="513000" y="2525760"/>
            <a:ext cx="250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upling capacitors : A/D/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787360" y="2438280"/>
            <a:ext cx="25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NA: Mutual inductance eff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65760" y="1776240"/>
            <a:ext cx="12056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. Wa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UW EM Statu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 multi-region formulation including exact loss effects, volumetric models, and effective surface imped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Times New Roman"/>
              </a:rPr>
              <a:t>Completed on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Times New Roman"/>
              </a:rPr>
              <a:t>On track for December 2003 deliverable of multi-region 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Green's function-independent QR fast iterative and direct solv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Times New Roman"/>
              </a:rPr>
              <a:t>Iterative solver completed (improves over existing commercial solvers) on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Times New Roman"/>
              </a:rPr>
              <a:t>On track for fast direct solver completion for December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ell-conditioned, multi-frequency fast multipole metho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Times New Roman"/>
              </a:rPr>
              <a:t>Initial FMM implementation in EM prototype code comple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further testing and optimization for July 2003 completion on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ion of EM Model Order Reduction into CoSMo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Times New Roman"/>
              </a:rPr>
              <a:t>AWE based methodology transferred to EIGER, implemented in EIGER on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Other NeoCAD MOR schemes – PRIME : No response/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ime domain integral equation (TDIE) with exact circuit coupl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Times New Roman"/>
              </a:rPr>
              <a:t>Stand-alone prototype solver completed ahead of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dditional work on stability, accuracy comple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ast solver and time stepper for Time domain integral equation (TDI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Not comple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LLNL-UW EM Statu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GER : Frequency Domain 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utral File Format – interface for using any commercial mesher : Completed on schedule, delivered to U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-alone multilayered Green’s function interface : Delivered to UW for prototype testing of fast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ion of MOR-AWE into EIGER : Completed ahead of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ct model generation : Completed on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Solve : Time Domain 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 to CFDRC Micromesh comp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static solver comp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ning of test cases comp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EMSolv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957560" y="461520"/>
            <a:ext cx="3633480" cy="484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998640" y="1143000"/>
            <a:ext cx="5867280" cy="5715000"/>
            <a:chOff x="998640" y="1143000"/>
            <a:chExt cx="5867280" cy="5715000"/>
          </a:xfrm>
        </p:grpSpPr>
        <p:pic>
          <p:nvPicPr>
            <p:cNvPr id="316" name="slant_view_metal0003" descr=""/>
            <p:cNvPicPr/>
            <p:nvPr/>
          </p:nvPicPr>
          <p:blipFill>
            <a:blip r:embed="rId1"/>
            <a:stretch/>
          </p:blipFill>
          <p:spPr>
            <a:xfrm>
              <a:off x="2141640" y="2438640"/>
              <a:ext cx="4724280" cy="361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n" descr=""/>
            <p:cNvPicPr/>
            <p:nvPr/>
          </p:nvPicPr>
          <p:blipFill>
            <a:blip r:embed="rId2"/>
            <a:stretch/>
          </p:blipFill>
          <p:spPr>
            <a:xfrm>
              <a:off x="998640" y="1143000"/>
              <a:ext cx="2362320" cy="23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pout" descr=""/>
            <p:cNvPicPr/>
            <p:nvPr/>
          </p:nvPicPr>
          <p:blipFill>
            <a:blip r:embed="rId3"/>
            <a:stretch/>
          </p:blipFill>
          <p:spPr>
            <a:xfrm>
              <a:off x="998640" y="4724640"/>
              <a:ext cx="213372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2065320" y="2362320"/>
              <a:ext cx="1219320" cy="1066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1836720" y="4267080"/>
              <a:ext cx="1600200" cy="1143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27960" y="304812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ur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28680" y="4496040"/>
              <a:ext cx="96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ns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4343400" y="1203480"/>
            <a:ext cx="4572000" cy="21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ctr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planar wave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piral i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EEE benchm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UW V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064160" y="781200"/>
            <a:ext cx="12056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Wh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757080" y="820800"/>
            <a:ext cx="3637080" cy="35370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716360" y="1165320"/>
            <a:ext cx="3086280" cy="22320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409680" y="1236600"/>
            <a:ext cx="1778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ic_hrl_tc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1 million patc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RHS sol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7149960" y="1612800"/>
            <a:ext cx="595440" cy="354240"/>
            <a:chOff x="7149960" y="1612800"/>
            <a:chExt cx="595440" cy="354240"/>
          </a:xfrm>
        </p:grpSpPr>
        <p:sp>
          <p:nvSpPr>
            <p:cNvPr id="329" name=""/>
            <p:cNvSpPr/>
            <p:nvPr/>
          </p:nvSpPr>
          <p:spPr>
            <a:xfrm flipH="1">
              <a:off x="7149960" y="1612800"/>
              <a:ext cx="185760" cy="27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161120" y="1859040"/>
              <a:ext cx="432000" cy="92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313760" y="1620720"/>
              <a:ext cx="431640" cy="92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7521480" y="1689120"/>
              <a:ext cx="185760" cy="27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3503520" y="2849400"/>
            <a:ext cx="1068480" cy="514440"/>
          </a:xfrm>
          <a:prstGeom prst="rightArrow">
            <a:avLst>
              <a:gd name="adj1" fmla="val 50000"/>
              <a:gd name="adj2" fmla="val 51924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3741840" y="3727440"/>
          <a:ext cx="5126040" cy="3132000"/>
        </p:xfrm>
        <a:graphic>
          <a:graphicData uri="http://schemas.openxmlformats.org/drawingml/2006/table">
            <a:tbl>
              <a:tblPr/>
              <a:tblGrid>
                <a:gridCol w="1135080"/>
                <a:gridCol w="1220760"/>
                <a:gridCol w="2770200"/>
              </a:tblGrid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Algorith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Mem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W Parasitic Sol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5M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adence / Lucent IES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0M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T-CAP/ Ansoft Q3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M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458640" y="4243320"/>
            <a:ext cx="3143520" cy="26528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UW EM Parasitic Extraction (completed)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145160" y="552600"/>
            <a:ext cx="29415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Gope and V. Jandhy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98400" y="517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Parasitics in massively coupled problems (completed)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641520" y="1008000"/>
            <a:ext cx="7489800" cy="5434200"/>
            <a:chOff x="641520" y="1008000"/>
            <a:chExt cx="7489800" cy="5434200"/>
          </a:xfrm>
        </p:grpSpPr>
        <p:sp>
          <p:nvSpPr>
            <p:cNvPr id="340" name=""/>
            <p:cNvSpPr/>
            <p:nvPr/>
          </p:nvSpPr>
          <p:spPr>
            <a:xfrm>
              <a:off x="641520" y="1008000"/>
              <a:ext cx="7489800" cy="543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1" name="" descr=""/>
            <p:cNvPicPr/>
            <p:nvPr/>
          </p:nvPicPr>
          <p:blipFill>
            <a:blip r:embed="rId1"/>
            <a:stretch/>
          </p:blipFill>
          <p:spPr>
            <a:xfrm>
              <a:off x="1178280" y="1078920"/>
              <a:ext cx="6369120" cy="20390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342" name=""/>
          <p:cNvGraphicFramePr/>
          <p:nvPr/>
        </p:nvGraphicFramePr>
        <p:xfrm>
          <a:off x="1176480" y="3225960"/>
          <a:ext cx="6825960" cy="2504880"/>
        </p:xfrm>
        <a:graphic>
          <a:graphicData uri="http://schemas.openxmlformats.org/drawingml/2006/table">
            <a:tbl>
              <a:tblPr/>
              <a:tblGrid>
                <a:gridCol w="1707840"/>
                <a:gridCol w="1706760"/>
                <a:gridCol w="1706400"/>
                <a:gridCol w="1704960"/>
              </a:tblGrid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orith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ve (3RH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W Parasitic Sol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G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ES^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ld Not Fit in Mem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TCAP 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oft Q3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ld Not Fit in Mem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W EM parasitic solver : 0.9 million patches in 1.5 hours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251880" y="5823000"/>
            <a:ext cx="29415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Gope and V. Jandhy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45760" y="6384960"/>
            <a:ext cx="78368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ster than commercial solvers, Green’s function in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MoS struc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MoS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mplishments since last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est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 simulation in CoSM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19640" y="1200240"/>
            <a:ext cx="23954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avel Niki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29280" y="4687920"/>
            <a:ext cx="3149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Vikram Jandhy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517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Broadband Full-Wave Parasitic Extraction (completed)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482760" y="1090440"/>
            <a:ext cx="4371840" cy="3168720"/>
            <a:chOff x="482760" y="1090440"/>
            <a:chExt cx="4371840" cy="3168720"/>
          </a:xfrm>
        </p:grpSpPr>
        <p:pic>
          <p:nvPicPr>
            <p:cNvPr id="348" name="" descr=""/>
            <p:cNvPicPr/>
            <p:nvPr/>
          </p:nvPicPr>
          <p:blipFill>
            <a:blip r:embed="rId1"/>
            <a:stretch/>
          </p:blipFill>
          <p:spPr>
            <a:xfrm>
              <a:off x="482760" y="1090440"/>
              <a:ext cx="4371840" cy="31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1044720" y="1710360"/>
              <a:ext cx="68688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579120" y="3639240"/>
              <a:ext cx="87444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1357200" y="1572480"/>
              <a:ext cx="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357200" y="1572480"/>
              <a:ext cx="31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605600" y="1403280"/>
              <a:ext cx="999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6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917520" y="3639240"/>
              <a:ext cx="0" cy="13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3667680" y="3776760"/>
              <a:ext cx="24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147120" y="3625920"/>
              <a:ext cx="68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1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4541760" y="1014480"/>
            <a:ext cx="4095720" cy="33685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2973240" y="4351320"/>
            <a:ext cx="3686400" cy="250668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187920" y="4251240"/>
            <a:ext cx="279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ercial Solver Comparis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1130400" y="2045880"/>
            <a:ext cx="71280" cy="214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174680" y="3595320"/>
            <a:ext cx="2106720" cy="60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78360" y="1733400"/>
            <a:ext cx="205308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c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463360" y="1808280"/>
            <a:ext cx="20714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29240" y="5151600"/>
            <a:ext cx="2870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. Chakraborty and V. Jandhya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261400" y="5189400"/>
            <a:ext cx="30438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in and Volume 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294560" y="6384960"/>
            <a:ext cx="64515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 available in commercial surface-based solv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74640" y="1036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daptive Fast Multipole Method for Realistic Geometries with Arbitrary Aspect Ratio Element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0" y="1832040"/>
            <a:ext cx="5807160" cy="436572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5734080" y="4294080"/>
            <a:ext cx="3409920" cy="256392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6435720" y="2697120"/>
            <a:ext cx="22939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. West and V. Jandhya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064160" y="6384960"/>
            <a:ext cx="69422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isting FMMs do not completely address this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Direct Time Domain EM Simulatio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576360" y="1785960"/>
            <a:ext cx="3862440" cy="2897280"/>
          </a:xfrm>
          <a:prstGeom prst="rect">
            <a:avLst/>
          </a:prstGeom>
          <a:ln w="0">
            <a:noFill/>
          </a:ln>
        </p:spPr>
      </p:pic>
      <p:grpSp>
        <p:nvGrpSpPr>
          <p:cNvPr id="374" name=""/>
          <p:cNvGrpSpPr/>
          <p:nvPr/>
        </p:nvGrpSpPr>
        <p:grpSpPr>
          <a:xfrm>
            <a:off x="5232240" y="944640"/>
            <a:ext cx="3481200" cy="4987440"/>
            <a:chOff x="5232240" y="944640"/>
            <a:chExt cx="3481200" cy="4987440"/>
          </a:xfrm>
        </p:grpSpPr>
        <p:pic>
          <p:nvPicPr>
            <p:cNvPr id="375" name="" descr=""/>
            <p:cNvPicPr/>
            <p:nvPr/>
          </p:nvPicPr>
          <p:blipFill>
            <a:blip r:embed="rId2"/>
            <a:stretch/>
          </p:blipFill>
          <p:spPr>
            <a:xfrm>
              <a:off x="5284800" y="944640"/>
              <a:ext cx="3428640" cy="238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" descr=""/>
            <p:cNvPicPr/>
            <p:nvPr/>
          </p:nvPicPr>
          <p:blipFill>
            <a:blip r:embed="rId3"/>
            <a:stretch/>
          </p:blipFill>
          <p:spPr>
            <a:xfrm>
              <a:off x="5232240" y="3372120"/>
              <a:ext cx="3428280" cy="255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7" name=""/>
          <p:cNvSpPr/>
          <p:nvPr/>
        </p:nvSpPr>
        <p:spPr>
          <a:xfrm>
            <a:off x="106920" y="5451480"/>
            <a:ext cx="510120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connect-Substrate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74760" y="976320"/>
            <a:ext cx="33379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 Yang, G. Ouyang, and V. Jandhya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09560" y="661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oupled Circuit-EM Simulation in the Time Domai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552600" y="1757520"/>
            <a:ext cx="3409920" cy="286704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4068720" y="1978200"/>
            <a:ext cx="4570560" cy="246852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168120" y="5184720"/>
            <a:ext cx="373392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ACES IEEE/EMC Society TC9        2001 Challenge Problem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-Find:Volta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Between Line+ and CM Ground Point On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4473720" y="4491000"/>
            <a:ext cx="4198680" cy="2367000"/>
            <a:chOff x="4473720" y="4491000"/>
            <a:chExt cx="4198680" cy="2367000"/>
          </a:xfrm>
        </p:grpSpPr>
        <p:pic>
          <p:nvPicPr>
            <p:cNvPr id="384" name="" descr=""/>
            <p:cNvPicPr/>
            <p:nvPr/>
          </p:nvPicPr>
          <p:blipFill>
            <a:blip r:embed="rId3"/>
            <a:stretch/>
          </p:blipFill>
          <p:spPr>
            <a:xfrm>
              <a:off x="4473720" y="4491000"/>
              <a:ext cx="3801960" cy="236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" descr=""/>
            <p:cNvPicPr/>
            <p:nvPr/>
          </p:nvPicPr>
          <p:blipFill>
            <a:blip r:embed="rId4"/>
            <a:stretch/>
          </p:blipFill>
          <p:spPr>
            <a:xfrm>
              <a:off x="6810480" y="5060880"/>
              <a:ext cx="1861920" cy="90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6" name=""/>
          <p:cNvSpPr/>
          <p:nvPr/>
        </p:nvSpPr>
        <p:spPr>
          <a:xfrm>
            <a:off x="3043440" y="1325520"/>
            <a:ext cx="33379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 Yang, G. Ouyang, and V. Jandhya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1836720" y="200160"/>
            <a:ext cx="58690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tabilization of UW EM TDIE : Eigenvalu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528480" y="763560"/>
            <a:ext cx="7928280" cy="4873680"/>
            <a:chOff x="528480" y="763560"/>
            <a:chExt cx="7928280" cy="4873680"/>
          </a:xfrm>
        </p:grpSpPr>
        <p:pic>
          <p:nvPicPr>
            <p:cNvPr id="389" name="" descr=""/>
            <p:cNvPicPr/>
            <p:nvPr/>
          </p:nvPicPr>
          <p:blipFill>
            <a:blip r:embed="rId1"/>
            <a:stretch/>
          </p:blipFill>
          <p:spPr>
            <a:xfrm>
              <a:off x="870120" y="1149480"/>
              <a:ext cx="3255840" cy="186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" descr=""/>
            <p:cNvPicPr/>
            <p:nvPr/>
          </p:nvPicPr>
          <p:blipFill>
            <a:blip r:embed="rId2"/>
            <a:stretch/>
          </p:blipFill>
          <p:spPr>
            <a:xfrm>
              <a:off x="4460760" y="763560"/>
              <a:ext cx="3996000" cy="23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" descr=""/>
            <p:cNvPicPr/>
            <p:nvPr/>
          </p:nvPicPr>
          <p:blipFill>
            <a:blip r:embed="rId3"/>
            <a:stretch/>
          </p:blipFill>
          <p:spPr>
            <a:xfrm>
              <a:off x="528480" y="3078000"/>
              <a:ext cx="3884760" cy="255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" descr=""/>
            <p:cNvPicPr/>
            <p:nvPr/>
          </p:nvPicPr>
          <p:blipFill>
            <a:blip r:embed="rId4"/>
            <a:stretch/>
          </p:blipFill>
          <p:spPr>
            <a:xfrm>
              <a:off x="4508640" y="3070080"/>
              <a:ext cx="3660480" cy="2567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3" name=""/>
          <p:cNvGrpSpPr/>
          <p:nvPr/>
        </p:nvGrpSpPr>
        <p:grpSpPr>
          <a:xfrm>
            <a:off x="4043520" y="5500800"/>
            <a:ext cx="1454040" cy="1357200"/>
            <a:chOff x="4043520" y="5500800"/>
            <a:chExt cx="1454040" cy="1357200"/>
          </a:xfrm>
        </p:grpSpPr>
        <p:pic>
          <p:nvPicPr>
            <p:cNvPr id="394" name="" descr=""/>
            <p:cNvPicPr/>
            <p:nvPr/>
          </p:nvPicPr>
          <p:blipFill>
            <a:blip r:embed="rId5"/>
            <a:stretch/>
          </p:blipFill>
          <p:spPr>
            <a:xfrm>
              <a:off x="4043520" y="5500800"/>
              <a:ext cx="1454040" cy="13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twoplates" descr=""/>
            <p:cNvPicPr/>
            <p:nvPr/>
          </p:nvPicPr>
          <p:blipFill>
            <a:blip r:embed="rId6"/>
            <a:stretch/>
          </p:blipFill>
          <p:spPr>
            <a:xfrm>
              <a:off x="4679640" y="5848920"/>
              <a:ext cx="660600" cy="59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6" name=""/>
          <p:cNvSpPr/>
          <p:nvPr/>
        </p:nvSpPr>
        <p:spPr>
          <a:xfrm>
            <a:off x="1059120" y="915840"/>
            <a:ext cx="33379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 Yang, G. Ouyang, and V. Jandhya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ummary of EM Progres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 fontScale="88000"/>
          </a:bodyPr>
          <a:p>
            <a:pPr marL="301680" indent="-30168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IGER and EMSol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orporation of AWE, contact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of Neutral file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-physics capable (EMSolve and UW EM TDIE to work in conjunction) for device layer eff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W EM Frequency Domain Proto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pling to SPICE-lik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 solvers (FMM and QR-base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region formulations and lossy material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 frequency sweep / Integrated M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 from commercial mes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driven from Mat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W EM Time Domain Proto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pling to SPICE-like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bility analysis and enhanc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erial mode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sible to EMI/EMC and device/multi-physics coup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Team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University of Washing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essors: Richard Shi, Vikram Jandhyala, David Allstot, Carl Se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doctoral researchers: Guoyong Shi, Pavel Niki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.D. students: Bo Wan, Bo Hu, Sam Bhattacharya, Zhao Li, Nuttorn Jangkrajarng, Lei Yang, Lili Zhou, Renpi Yu, Yong Wang, Dipanjan Gope,Todd West, Swagato Chakraborty, Chuanyi Yang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Lawrence Livermore National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b Sharpe, Dan White, John Rock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pace and Naval Warfare Systems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 Rock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Boeing Solid State Electro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rora Design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modeling and simulation capability for mixed-signal and mixed-technology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hieve significant simulation speed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ize “device model in a day” concept using  a behavioral model compi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ccurate EM tools for coupl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VHDL-AMS to mixed-techn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ate tools on realistic DoD de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oSMoS Structur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050840" y="987480"/>
          <a:ext cx="7419960" cy="58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987480"/>
                    <a:ext cx="7419960" cy="58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283600" cy="120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BMAC (MCAST): VHDL-AMS model compiler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85880" y="2046240"/>
          <a:ext cx="717552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2046240"/>
                    <a:ext cx="717552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3645000" y="1366920"/>
            <a:ext cx="532440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industry-grade transistor models and mixed-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gs into commercial circuit sim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VHDL-AMS work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Background on VHDL-A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1076.1 behavioral language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itable for time domain simulation of mixed circuits and simple multiple physics via DAE’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 hierarchical system description independent of solving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s can have different 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ractical language extension is needed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ed technology support (distributed interac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model exchange between desig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IPRAIL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93680" y="1971360"/>
            <a:ext cx="8727480" cy="4046040"/>
            <a:chOff x="193680" y="1971360"/>
            <a:chExt cx="8727480" cy="4046040"/>
          </a:xfrm>
        </p:grpSpPr>
        <p:sp>
          <p:nvSpPr>
            <p:cNvPr id="74" name=""/>
            <p:cNvSpPr/>
            <p:nvPr/>
          </p:nvSpPr>
          <p:spPr>
            <a:xfrm rot="10800000">
              <a:off x="2459520" y="1971000"/>
              <a:ext cx="4512240" cy="1043640"/>
            </a:xfrm>
            <a:prstGeom prst="wedgeEllipseCallout">
              <a:avLst>
                <a:gd name="adj1" fmla="val 25935"/>
                <a:gd name="adj2" fmla="val -100879"/>
              </a:avLst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mplate-Driven Analog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ayout Retarge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193680" y="3367440"/>
              <a:ext cx="8727480" cy="790920"/>
              <a:chOff x="193680" y="3367440"/>
              <a:chExt cx="8727480" cy="790920"/>
            </a:xfrm>
          </p:grpSpPr>
          <p:sp>
            <p:nvSpPr>
              <p:cNvPr id="76" name=""/>
              <p:cNvSpPr/>
              <p:nvPr/>
            </p:nvSpPr>
            <p:spPr>
              <a:xfrm>
                <a:off x="193680" y="3367440"/>
                <a:ext cx="2098080" cy="790920"/>
              </a:xfrm>
              <a:prstGeom prst="rect">
                <a:avLst/>
              </a:prstGeom>
              <a:solidFill>
                <a:srgbClr val="ff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Analog Layout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in Tech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823080" y="3367440"/>
                <a:ext cx="2098080" cy="790920"/>
              </a:xfrm>
              <a:prstGeom prst="rect">
                <a:avLst/>
              </a:prstGeom>
              <a:solidFill>
                <a:srgbClr val="ff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Analog Layout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in Tech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375640" y="3525840"/>
                <a:ext cx="4363200" cy="395280"/>
              </a:xfrm>
              <a:prstGeom prst="rightArrow">
                <a:avLst>
                  <a:gd name="adj1" fmla="val 50000"/>
                  <a:gd name="adj2" fmla="val 275956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1728720" y="3894840"/>
              <a:ext cx="2349000" cy="2109600"/>
              <a:chOff x="1728720" y="3894840"/>
              <a:chExt cx="2349000" cy="2109600"/>
            </a:xfrm>
          </p:grpSpPr>
          <p:sp>
            <p:nvSpPr>
              <p:cNvPr id="80" name=""/>
              <p:cNvSpPr/>
              <p:nvPr/>
            </p:nvSpPr>
            <p:spPr>
              <a:xfrm>
                <a:off x="1728720" y="4711320"/>
                <a:ext cx="1761840" cy="47628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990000"/>
                    </a:solidFill>
                    <a:latin typeface="Tahoma"/>
                  </a:rPr>
                  <a:t>Tech 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315880" y="5528160"/>
                <a:ext cx="1761840" cy="47628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990000"/>
                    </a:solidFill>
                    <a:latin typeface="Tahoma"/>
                  </a:rPr>
                  <a:t>Tech 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154680" y="3894840"/>
                <a:ext cx="251640" cy="816480"/>
              </a:xfrm>
              <a:prstGeom prst="upArrow">
                <a:avLst>
                  <a:gd name="adj1" fmla="val 50000"/>
                  <a:gd name="adj2" fmla="val 81116"/>
                </a:avLst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742200" y="3894840"/>
                <a:ext cx="251640" cy="1633320"/>
              </a:xfrm>
              <a:prstGeom prst="upArrow">
                <a:avLst>
                  <a:gd name="adj1" fmla="val 51389"/>
                  <a:gd name="adj2" fmla="val 79451"/>
                </a:avLst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4797360" y="3907800"/>
              <a:ext cx="2097360" cy="2109600"/>
              <a:chOff x="4797360" y="3907800"/>
              <a:chExt cx="2097360" cy="2109600"/>
            </a:xfrm>
          </p:grpSpPr>
          <p:sp>
            <p:nvSpPr>
              <p:cNvPr id="85" name=""/>
              <p:cNvSpPr/>
              <p:nvPr/>
            </p:nvSpPr>
            <p:spPr>
              <a:xfrm>
                <a:off x="4797360" y="5337000"/>
                <a:ext cx="2097360" cy="680400"/>
              </a:xfrm>
              <a:prstGeom prst="rect">
                <a:avLst/>
              </a:prstGeom>
              <a:solidFill>
                <a:srgbClr val="ffcccc"/>
              </a:solidFill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New 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Specifica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880880" y="3907800"/>
                <a:ext cx="251640" cy="1429200"/>
              </a:xfrm>
              <a:prstGeom prst="upArrow">
                <a:avLst>
                  <a:gd name="adj1" fmla="val 51389"/>
                  <a:gd name="adj2" fmla="val 69522"/>
                </a:avLst>
              </a:prstGeom>
              <a:solidFill>
                <a:srgbClr val="ffcccc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5372280" y="4686120"/>
              <a:ext cx="2098080" cy="36468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ymmet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456160" y="3920400"/>
              <a:ext cx="251640" cy="765360"/>
            </a:xfrm>
            <a:prstGeom prst="upArrow">
              <a:avLst>
                <a:gd name="adj1" fmla="val 51389"/>
                <a:gd name="adj2" fmla="val 67673"/>
              </a:avLst>
            </a:prstGeom>
            <a:solidFill>
              <a:srgbClr val="ffcc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2stage" descr=""/>
          <p:cNvPicPr/>
          <p:nvPr/>
        </p:nvPicPr>
        <p:blipFill>
          <a:blip r:embed="rId1"/>
          <a:stretch/>
        </p:blipFill>
        <p:spPr>
          <a:xfrm>
            <a:off x="165240" y="1711440"/>
            <a:ext cx="2230200" cy="1390680"/>
          </a:xfrm>
          <a:prstGeom prst="rect">
            <a:avLst/>
          </a:prstGeom>
          <a:ln w="0">
            <a:noFill/>
          </a:ln>
        </p:spPr>
      </p:pic>
      <p:pic>
        <p:nvPicPr>
          <p:cNvPr id="90" name="2stage_target" descr=""/>
          <p:cNvPicPr/>
          <p:nvPr/>
        </p:nvPicPr>
        <p:blipFill>
          <a:blip r:embed="rId2"/>
          <a:stretch/>
        </p:blipFill>
        <p:spPr>
          <a:xfrm>
            <a:off x="7203960" y="1881360"/>
            <a:ext cx="1698840" cy="1056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932200" y="519120"/>
            <a:ext cx="586260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e previous RF/analog design to do resizing for new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FROSTY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463760" y="1770120"/>
          <a:ext cx="6216480" cy="49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3760" y="1770120"/>
                    <a:ext cx="6216480" cy="49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2919240" y="679320"/>
            <a:ext cx="593100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gate-level netlist from extracted net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26T05:25:42Z</dcterms:created>
  <dc:creator>Art Downey</dc:creator>
  <dc:description>V4.0 12/23/01 changes for 2001
V4.1 05/13/01 remove references to '97 and 4
V4.2 05/18/01 feedback from select meeting</dc:description>
  <dc:language>en-US</dc:language>
  <cp:lastModifiedBy>nikitin</cp:lastModifiedBy>
  <cp:lastPrinted>2002-02-05T19:22:32Z</cp:lastPrinted>
  <dcterms:modified xsi:type="dcterms:W3CDTF">2003-06-18T22:30:16Z</dcterms:modified>
  <cp:revision>291</cp:revision>
  <dc:subject>ITC '01 Electronic presentation guide/template</dc:subject>
  <dc:title>Presentation Guide</dc:title>
</cp:coreProperties>
</file>