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FAB-7436-44DC-B741-C53EE2B5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AFC-E1A7-4B27-BB66-09AFD6B7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B16-3648-4E7A-9EBB-3CA8469A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A59-79D8-473E-B2C7-0FF7F296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561D-7637-4742-B04D-B2536B5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18DC-429B-44F0-8EBA-F3E0FF22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AC9B-0AA5-4497-8368-B41CA7E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71A9-8F0F-41A7-8DC7-AE31036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9D5F-5D3D-4728-B520-64DACAAB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C926-74A1-4808-9EB6-B03E2D78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0608-B3A3-408F-AFED-346C381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ED7-E4AD-4C2F-9ED7-169F09FD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DD95-F7C5-4F37-A9FF-1643472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A811-2EEF-4853-91C8-4B48CED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06EC-4606-45E8-B06C-1F54032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FD7A-1DBE-4B7A-AB62-B768488E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936-B6BB-4590-A828-E1E1CA1A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99C-CD85-46AE-AAD4-9930E19F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48B-6EA2-4262-95DE-88615F92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63D-9CA9-4824-ACDC-B2C90398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F38-A84C-4283-BDC1-34DB342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87F-61E3-4A72-915E-C02E25F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979-9226-44B7-9D3B-0060A99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FEF-688C-4F3F-AEFA-8664D12C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date/time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Jun. 19~20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400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NeoCAD Quarterl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62160" y="6324120"/>
            <a:ext cx="533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d1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B5FC-CADA-4523-96F1-673117C44473}" type="slidenum">
              <a:rPr b="0" lang="en-US" sz="1200" spc="-1" strike="noStrike">
                <a:solidFill>
                  <a:srgbClr val="75d1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B6C-F680-4AB5-BDFA-9973C2160C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11456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Progress on Linear Solv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894040"/>
            <a:ext cx="7796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earch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r. Guoyong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Zhao Li, Bo 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038480" y="563868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63868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876-673F-4442-B7BE-032DF88813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66294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Proposed Linear Centric Circuit Analysis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3800" y="2057040"/>
            <a:ext cx="736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rove numerical integration formulae to keep circuit matrices constant for a large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mi-implicit integration formulae as a predi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erative integration formulae as a corr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7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rove nonlinear iteration methods to keep circuit matrices constant for a large voltage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ccessive variable chord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k-one updat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1FC-F985-4285-A087-7B95349EAC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emi-Implicit Trapezoid (SI-TRAP) Formul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33520" y="4714920"/>
                <a:ext cx="4039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724280" y="4678560"/>
            <a:ext cx="3810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ariable-step integration formula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i="1" lang="en-GB" sz="2400" spc="-1" strike="noStrike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 is the basis time step size, </a:t>
            </a:r>
            <a:r>
              <a:rPr b="0" i="1" lang="en-GB" sz="24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 is the variable-step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ap_comp_model_si" descr=""/>
          <p:cNvPicPr/>
          <p:nvPr/>
        </p:nvPicPr>
        <p:blipFill>
          <a:blip r:embed="rId1"/>
          <a:stretch/>
        </p:blipFill>
        <p:spPr>
          <a:xfrm>
            <a:off x="1066680" y="1724040"/>
            <a:ext cx="6934320" cy="261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4648320"/>
            <a:ext cx="53352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191120"/>
            <a:ext cx="3276720" cy="457200"/>
          </a:xfrm>
          <a:prstGeom prst="wedgeRectCallout">
            <a:avLst>
              <a:gd name="adj1" fmla="val -68120"/>
              <a:gd name="adj2" fmla="val 5034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 co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C24-78D3-4BB4-97EC-3C59EF782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SI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36200" y="483084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86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222286"/>
                </a:solidFill>
                <a:latin typeface="Tahoma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260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_stb" descr=""/>
          <p:cNvPicPr/>
          <p:nvPr/>
        </p:nvPicPr>
        <p:blipFill>
          <a:blip r:embed="rId1"/>
          <a:stretch/>
        </p:blipFill>
        <p:spPr>
          <a:xfrm>
            <a:off x="838080" y="165420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352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ex_stb2" descr=""/>
          <p:cNvPicPr/>
          <p:nvPr/>
        </p:nvPicPr>
        <p:blipFill>
          <a:blip r:embed="rId2"/>
          <a:stretch/>
        </p:blipFill>
        <p:spPr>
          <a:xfrm>
            <a:off x="4648320" y="1622520"/>
            <a:ext cx="3581280" cy="3471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1320" y="479124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86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222286"/>
                </a:solidFill>
                <a:latin typeface="Tahom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" y="5356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I-TRAP is only A-stable when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&lt; 1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宋体"/>
              </a:rPr>
              <a:t> so it is only used as a predictor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5144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7F8-7ED1-4587-B8DA-FFD16E6AB7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Iterative Trapezoid (IR-TRAP) Formul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419720"/>
            <a:ext cx="53352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334120"/>
            <a:ext cx="3276720" cy="457200"/>
          </a:xfrm>
          <a:prstGeom prst="wedgeRectCallout">
            <a:avLst>
              <a:gd name="adj1" fmla="val -73740"/>
              <a:gd name="adj2" fmla="val -5729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 co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cap_comp_model_ir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925040" cy="268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752480" y="4343400"/>
                <a:ext cx="51087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αh</m:t>
                        </m:r>
                      </m:den>
                    </m:f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9907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TE is the same as TRAP if converge success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121-6930-418F-9060-1525B6499C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IR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36560" y="4830840"/>
            <a:ext cx="1640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35260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352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791240"/>
            <a:ext cx="121896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r_trap1_2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157" name="ir_trap2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733560" cy="280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6568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662120" y="57862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solute stability region is related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BD2-65D1-4BD9-A8B6-2EB210E697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IR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36560" y="4876920"/>
            <a:ext cx="164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87692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729400"/>
            <a:ext cx="6477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solute stability region approaches to that of standard TRAP method with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r_trap1_10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733560" cy="2803320"/>
          </a:xfrm>
          <a:prstGeom prst="rect">
            <a:avLst/>
          </a:prstGeom>
          <a:ln w="0">
            <a:noFill/>
          </a:ln>
        </p:spPr>
      </p:pic>
      <p:pic>
        <p:nvPicPr>
          <p:cNvPr id="165" name="ir_trap2_10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657600" cy="2760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6568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DEF-85F6-4D2B-9D56-64D7E5D015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6627960" cy="5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Linear Circuit Analysis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990800"/>
            <a:ext cx="8077320" cy="1852560"/>
            <a:chOff x="457200" y="1990800"/>
            <a:chExt cx="8077320" cy="1852560"/>
          </a:xfrm>
        </p:grpSpPr>
        <p:sp>
          <p:nvSpPr>
            <p:cNvPr id="169" name=""/>
            <p:cNvSpPr/>
            <p:nvPr/>
          </p:nvSpPr>
          <p:spPr>
            <a:xfrm>
              <a:off x="457200" y="1990800"/>
              <a:ext cx="8077320" cy="185256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1990800"/>
              <a:ext cx="807732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Two RCL circuits with 100X time constant dif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Initial time step size 0.01 sec, simulation interval 160 sec, 16001 simulation points for fixed time-step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24040" y="316692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7200" y="4565520"/>
            <a:ext cx="3832200" cy="206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4681440"/>
            <a:ext cx="3733920" cy="19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337-A4D5-4356-AB22-A28954FA5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Time Step Size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57913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s than 3000 simulation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st time step sizes between 0.05 and 0.2 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stiff_time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35560" cy="39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B69-7C02-40C2-B02C-49ED9434C5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sis Time Step Size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stiff_time2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8200" cy="4113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5866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ant basis time step size means constant equivalent conduc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0A8-B092-4AE2-BD80-AF7955689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pplications of Successive Chord It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6"/>
                </a:solidFill>
                <a:latin typeface="Tahoma"/>
              </a:rPr>
              <a:t>Weakly nonlinear analysis for Analog/RF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in harmonic balance analysis (C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6"/>
                </a:solidFill>
                <a:latin typeface="Tahoma"/>
              </a:rPr>
              <a:t>Timing analysis of single-stage logic gate driving interconnec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TA (C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Main drawback – A chord ensuring convergence generally leads to a slow convergenc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35D-C6E5-45DD-B041-68ADD6597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SMoS Linear Solver Candid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119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RSE1.3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solver in SP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perLU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ZTEC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and iterativ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YPR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and iterativ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SSL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A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80E-66E7-46AE-9948-325E13642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Piecewise Weakly Nonlinear Analysis (PWNL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57146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local chords are defined for different weakly nonlinear segments – Successive Varaible Chord (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VSC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192560" cy="39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0AE-6043-4C54-B830-74D6732D1F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uccessive Variable Chord Method for MOSFE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mos_region" descr=""/>
          <p:cNvPicPr/>
          <p:nvPr/>
        </p:nvPicPr>
        <p:blipFill>
          <a:blip r:embed="rId1"/>
          <a:stretch/>
        </p:blipFill>
        <p:spPr>
          <a:xfrm>
            <a:off x="-76320" y="2133720"/>
            <a:ext cx="4876920" cy="41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724280" y="2133720"/>
          <a:ext cx="4191120" cy="4064040"/>
        </p:xfrm>
        <a:graphic>
          <a:graphicData uri="http://schemas.openxmlformats.org/drawingml/2006/table">
            <a:tbl>
              <a:tblPr/>
              <a:tblGrid>
                <a:gridCol w="1047960"/>
                <a:gridCol w="1047600"/>
                <a:gridCol w="1104840"/>
                <a:gridCol w="9907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bs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bs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700-A8A4-4D88-A85F-0CD670D8B4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Rank-one Upd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7150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10816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222286"/>
                </a:solidFill>
                <a:latin typeface="Verdana"/>
              </a:rPr>
              <a:t>A local chord update will only affect four elements in the circui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new LU factorizatio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2120" y="3521160"/>
                <a:ext cx="1904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66680" y="4572000"/>
                <a:ext cx="487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85800" y="4038480"/>
            <a:ext cx="80010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Householder ‘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Update of L\U matrices – O(m*n</a:t>
            </a:r>
            <a:r>
              <a:rPr b="0" lang="en-US" sz="24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hio Fujisawa, et. al., “A Sparse Matrix Method for Analysis of Piecewise-Linear Resistive Networks”, IEEE Trans on Circuit Theory, vol. CT-19, no. 6, pp. 571-584, Nov.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066-2137-4252-BC0C-724E0F3722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ubstrate Coupling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substrate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360-9D97-4AB5-B942-33B11D90CE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eed-through via Substr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substrate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7EC-5114-4FC5-8610-FEFD7E0A52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peed-up vs. #El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speed-up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681-F9DC-418D-9360-0B13618710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Power/Ground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C9A-87F7-4F4A-A59D-820341CF7B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IR-drop and L*dI/dt effe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p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85F-9EA7-4EB1-A914-FA85CD48AC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Test 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8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U speed-up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overall speed-up on substrate and power/ground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re speed-up for larg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ed-up rea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U/FBS cost ratio – large &amp; dens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U speed-up – RCL parasit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k-one update for fast LU fact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st a few digital and analog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4D2-F3DD-4FEC-8963-4FEA707C95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LCA –  A prototype of time-domain nonlinear circuit simulator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-step semi-implicit iterative numerical integration formul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WNL analysis realized by the SVC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k-one updat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462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ff0000"/>
              </a:buClr>
              <a:buSzPct val="144000"/>
              <a:buFont typeface="Wingdings" charset="2"/>
              <a:buChar char="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Orders of magnitude speed-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ff0000"/>
              </a:buClr>
              <a:buSzPct val="144000"/>
              <a:buFont typeface="Wingdings" charset="2"/>
              <a:buChar char="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Work without derivatives if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6E3-0C92-4E3A-8188-5F023FFA9E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3800" y="2057040"/>
            <a:ext cx="736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ultiple solver options for different circuit simula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ified circuit-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s of magnitude speed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781440"/>
                <a:ext cx="37864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A05-AAAF-49FB-B3EF-54ED4CDF6C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4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8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0" y="326232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chedu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057400"/>
            <a:ext cx="81536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mmer Quarter (June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ept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research on PWN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e with DASSL (fixed leading coefficient B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est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xt 6 months (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Dec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oupled nonlinear/linear circui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ion of nonlinear capac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ACA-27F8-4F57-9570-638C753D6F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ll solver libraries have been installed in our Unix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valuations have been made on direct solvers: SPARSE1.3 and Super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erLU can be an alternative for circuit simulator (SPICE), i.e., DC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istributed parallel solvers (AZTEC, HYPRE) are options for EM coupled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YPRE is the option for stamping EM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ASSL is the option for direct simulation without discretized stamping (speed-up for some circu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76B-9778-4931-9584-E368C494E7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irect sol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erLU is good for well ordered 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RSE1.3 is good for repeated solving of the same patterned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olvers for distributed problems (i.e., 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mping based formulation – HYPRE is a good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359-566A-4FD8-B2A6-345DFDCFD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Targ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rdering is the key to speedup direct sol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solv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amping based matrix building unifies circuit and EM 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encil used in HYPRE is stamping for distributed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amping based matrix formulation can unify ODE and PDE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ixed solvers are needed for unified 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01E-A71F-4961-9097-AE1E107143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11420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Tahoma"/>
              </a:rPr>
              <a:t>SILCA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S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emi-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mplicit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L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ear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C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entric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nalysis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198960"/>
            <a:ext cx="779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hD Student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Zhao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vis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ichard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038480" y="563868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63868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1D8-61E7-49B4-9A99-37A163AAD8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950760"/>
            <a:ext cx="649764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hallenges for Time-Domain Circuit Si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74760"/>
            <a:ext cx="811980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652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ccurate analysis of VLSI circuits together with surrounding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652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/ground network, common substrate, interconnect lines, packaging inductanc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ep-submicron circuits with extracted parasit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upled circuit-EM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mal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2B3-5690-4AA4-B6A8-905B18296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7535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Per-iteration Cost Distribution in Transient Si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3800" y="2057400"/>
            <a:ext cx="736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evice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ble look-u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allel and distributed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U facto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rse matrix solv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.1~1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ose to worst ca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nsidering surrounding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orward/backward substitution(FB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uch lower than LU fact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14880" y="2657520"/>
            <a:ext cx="2971800" cy="1752480"/>
            <a:chOff x="6014880" y="2657520"/>
            <a:chExt cx="2971800" cy="1752480"/>
          </a:xfrm>
        </p:grpSpPr>
        <p:sp>
          <p:nvSpPr>
            <p:cNvPr id="126" name=""/>
            <p:cNvSpPr/>
            <p:nvPr/>
          </p:nvSpPr>
          <p:spPr>
            <a:xfrm>
              <a:off x="6014880" y="2657520"/>
              <a:ext cx="2971800" cy="175248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77000" y="3190320"/>
              <a:ext cx="1447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306f8"/>
                  </a:solidFill>
                  <a:latin typeface="Tahoma"/>
                </a:rPr>
                <a:t>Decrease LU cost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83B-4A81-4278-84A9-1ADF12A325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6:21:53Z</dcterms:created>
  <dc:creator>gshi</dc:creator>
  <dc:description/>
  <dc:language>en-US</dc:language>
  <cp:lastModifiedBy>Zhao Li</cp:lastModifiedBy>
  <dcterms:modified xsi:type="dcterms:W3CDTF">2003-06-19T08:50:01Z</dcterms:modified>
  <cp:revision>144</cp:revision>
  <dc:subject/>
  <dc:title>Solver Development</dc:title>
</cp:coreProperties>
</file>