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1B9-2284-4B3A-B9B7-4F02A2A7C39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55E-E42E-4D70-9420-FF243F66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611-1D78-4708-A36C-7E08CF1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2CC-E0D0-4D3C-AA1C-EC62A941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971-7008-44E7-82DC-E26F39D1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B23-C70E-49A5-9066-FD450EC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8B0-A0F2-45AC-A6B4-AD9B373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A8C-44C5-4AAA-93B4-6FFCA1C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917-EFA2-4328-A9E3-2F37E8DF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735-5A26-413F-B221-887D035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5FE-AA79-458B-8691-5DC2A42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EF8-0501-4982-8033-F060639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F7E-DF0A-4BA4-80FB-1D8B062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DCD-7094-41AB-8011-7F6599DAA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Superfast Parasitic Extraction for Frequency Domain EM-Circuit Si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S200Adviso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3880" y="1674720"/>
            <a:ext cx="78343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anjan G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2000" y="1652760"/>
            <a:ext cx="6891120" cy="1253880"/>
            <a:chOff x="792000" y="1652760"/>
            <a:chExt cx="6891120" cy="1253880"/>
          </a:xfrm>
        </p:grpSpPr>
        <p:grpSp>
          <p:nvGrpSpPr>
            <p:cNvPr id="138" name=""/>
            <p:cNvGrpSpPr/>
            <p:nvPr/>
          </p:nvGrpSpPr>
          <p:grpSpPr>
            <a:xfrm>
              <a:off x="792000" y="1656000"/>
              <a:ext cx="1666800" cy="1250640"/>
              <a:chOff x="792000" y="1656000"/>
              <a:chExt cx="1666800" cy="125064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000" y="1656000"/>
                <a:ext cx="1666800" cy="12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331640" y="2000520"/>
                <a:ext cx="328680" cy="2664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508120" y="1652760"/>
              <a:ext cx="1698480" cy="1235160"/>
              <a:chOff x="2508120" y="1652760"/>
              <a:chExt cx="1698480" cy="12351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8120" y="1652760"/>
                <a:ext cx="169848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3055680" y="1997280"/>
                <a:ext cx="318960" cy="24876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296960" y="1654200"/>
              <a:ext cx="1724040" cy="1243080"/>
              <a:chOff x="4296960" y="1654200"/>
              <a:chExt cx="1724040" cy="12430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96960" y="1654200"/>
                <a:ext cx="1724040" cy="12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844880" y="1995840"/>
                <a:ext cx="350640" cy="2466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60960" y="1656000"/>
              <a:ext cx="1622160" cy="1247760"/>
              <a:chOff x="6060960" y="1656000"/>
              <a:chExt cx="1622160" cy="124776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60960" y="1656000"/>
                <a:ext cx="1622160" cy="12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98800" y="1990800"/>
                <a:ext cx="319320" cy="25704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014120" y="1744920"/>
              <a:ext cx="65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14120" y="2751120"/>
              <a:ext cx="649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25040" y="1122480"/>
            <a:ext cx="66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blings have common cubes in their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1160" y="3151080"/>
            <a:ext cx="7843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rging sibling observers and common cub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sed on maximum memory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ntifying merged interaction list for 1 sibling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ame pattern repeats for all sibling combinations and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replaces “rank-map”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possible due to regular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312920" y="4952880"/>
            <a:ext cx="2158920" cy="161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34840" y="558180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ntry of Merged Interaction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9880" y="1022400"/>
            <a:ext cx="7993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720" y="228240"/>
            <a:ext cx="901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and Memory Sca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13000" y="10665000"/>
            <a:ext cx="3794040" cy="25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65280" y="1081080"/>
            <a:ext cx="2965320" cy="2232720"/>
            <a:chOff x="665280" y="1081080"/>
            <a:chExt cx="2965320" cy="223272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65280" y="1081080"/>
              <a:ext cx="2965320" cy="20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9640" y="3006720"/>
              <a:ext cx="200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5 X 5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"/>
          <p:cNvGraphicFramePr/>
          <p:nvPr/>
        </p:nvGraphicFramePr>
        <p:xfrm>
          <a:off x="909720" y="3686040"/>
          <a:ext cx="4017960" cy="1452600"/>
        </p:xfrm>
        <a:graphic>
          <a:graphicData uri="http://schemas.openxmlformats.org/drawingml/2006/table">
            <a:tbl>
              <a:tblPr/>
              <a:tblGrid>
                <a:gridCol w="984240"/>
                <a:gridCol w="1027440"/>
                <a:gridCol w="1002960"/>
                <a:gridCol w="10033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5197320" y="866880"/>
            <a:ext cx="3335400" cy="5518080"/>
            <a:chOff x="5197320" y="866880"/>
            <a:chExt cx="3335400" cy="5518080"/>
          </a:xfrm>
        </p:grpSpPr>
        <p:grpSp>
          <p:nvGrpSpPr>
            <p:cNvPr id="165" name=""/>
            <p:cNvGrpSpPr/>
            <p:nvPr/>
          </p:nvGrpSpPr>
          <p:grpSpPr>
            <a:xfrm>
              <a:off x="5197320" y="866880"/>
              <a:ext cx="3335400" cy="5518080"/>
              <a:chOff x="5197320" y="866880"/>
              <a:chExt cx="3335400" cy="55180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29080" y="3598920"/>
                <a:ext cx="3203640" cy="27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1800" y="866880"/>
                <a:ext cx="3190680" cy="27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5197320" y="3618000"/>
                <a:ext cx="3311640" cy="92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V="1">
              <a:off x="7704000" y="3286080"/>
              <a:ext cx="0" cy="37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6760" y="26528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32680" y="5421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73240" y="4098960"/>
            <a:ext cx="871560" cy="101916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040" y="4078440"/>
            <a:ext cx="88920" cy="693720"/>
          </a:xfrm>
          <a:custGeom>
            <a:avLst/>
            <a:gdLst>
              <a:gd name="textAreaLeft" fmla="*/ 56880 w 88920"/>
              <a:gd name="textAreaRight" fmla="*/ 89280 w 88920"/>
              <a:gd name="textAreaTop" fmla="*/ 18000 h 693720"/>
              <a:gd name="textAreaBottom" fmla="*/ 675720 h 69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240" y="4232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86680" y="517860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* At 0.4 million unknow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80" y="586584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AME ACCURACY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06680" y="1398600"/>
          <a:ext cx="1978200" cy="1096920"/>
        </p:xfrm>
        <a:graphic>
          <a:graphicData uri="http://schemas.openxmlformats.org/drawingml/2006/table">
            <a:tbl>
              <a:tblPr/>
              <a:tblGrid>
                <a:gridCol w="660600"/>
                <a:gridCol w="657000"/>
                <a:gridCol w="6606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Scaling with number of RH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9720" y="1298520"/>
            <a:ext cx="4122720" cy="425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51120" y="6039000"/>
            <a:ext cx="58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,600 patches 14 lea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4480" y="1011240"/>
            <a:ext cx="2762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st-Ca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78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MBT-Q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COT-QR       441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4760" y="2374920"/>
            <a:ext cx="4284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ARPA Test Example (ic_hrl_tc1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7080" y="125244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05200" y="3429000"/>
            <a:ext cx="3086280" cy="2857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58680" y="490068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25160" y="2075040"/>
            <a:ext cx="2475360" cy="1763640"/>
            <a:chOff x="1325160" y="2075040"/>
            <a:chExt cx="2475360" cy="1763640"/>
          </a:xfrm>
        </p:grpSpPr>
        <p:sp>
          <p:nvSpPr>
            <p:cNvPr id="189" name=""/>
            <p:cNvSpPr/>
            <p:nvPr/>
          </p:nvSpPr>
          <p:spPr>
            <a:xfrm flipH="1">
              <a:off x="1325160" y="208584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5240" y="3429000"/>
              <a:ext cx="146988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782440" y="249552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11560" y="2075040"/>
              <a:ext cx="1488960" cy="41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194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8343600">
            <a:off x="7684200" y="2319480"/>
            <a:ext cx="932040" cy="984240"/>
          </a:xfrm>
          <a:custGeom>
            <a:avLst/>
            <a:gdLst>
              <a:gd name="textAreaLeft" fmla="*/ 0 w 932040"/>
              <a:gd name="textAreaRight" fmla="*/ 932400 w 93204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formance Comparis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9800" y="1461960"/>
            <a:ext cx="4997520" cy="421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5364000" y="1827360"/>
          <a:ext cx="3456000" cy="308592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5495760" y="2646360"/>
            <a:ext cx="3165480" cy="663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822240" y="936720"/>
            <a:ext cx="7478640" cy="5422680"/>
            <a:chOff x="822240" y="936720"/>
            <a:chExt cx="7478640" cy="5422680"/>
          </a:xfrm>
        </p:grpSpPr>
        <p:grpSp>
          <p:nvGrpSpPr>
            <p:cNvPr id="205" name=""/>
            <p:cNvGrpSpPr/>
            <p:nvPr/>
          </p:nvGrpSpPr>
          <p:grpSpPr>
            <a:xfrm>
              <a:off x="822240" y="936720"/>
              <a:ext cx="7478640" cy="5422680"/>
              <a:chOff x="822240" y="936720"/>
              <a:chExt cx="7478640" cy="542268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2240" y="1233360"/>
                <a:ext cx="7478640" cy="512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036880" y="936720"/>
                <a:ext cx="503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28200"/>
                    </a:solidFill>
                    <a:latin typeface="Arial"/>
                  </a:rPr>
                  <a:t>30 copies of ic_hrl_tc1 placed in 10 X 3 arr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22840" y="2957400"/>
              <a:ext cx="739800" cy="168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22240" y="987480"/>
            <a:ext cx="7489800" cy="5433840"/>
            <a:chOff x="822240" y="987480"/>
            <a:chExt cx="7489800" cy="5433840"/>
          </a:xfrm>
        </p:grpSpPr>
        <p:grpSp>
          <p:nvGrpSpPr>
            <p:cNvPr id="210" name=""/>
            <p:cNvGrpSpPr/>
            <p:nvPr/>
          </p:nvGrpSpPr>
          <p:grpSpPr>
            <a:xfrm>
              <a:off x="822240" y="987480"/>
              <a:ext cx="7489800" cy="5433840"/>
              <a:chOff x="822240" y="987480"/>
              <a:chExt cx="7489800" cy="54338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822240" y="987480"/>
                <a:ext cx="7489800" cy="5433840"/>
                <a:chOff x="822240" y="987480"/>
                <a:chExt cx="7489800" cy="54338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22240" y="987480"/>
                  <a:ext cx="7489800" cy="543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59000" y="1058400"/>
                  <a:ext cx="6369120" cy="20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4" name=""/>
              <p:cNvSpPr/>
              <p:nvPr/>
            </p:nvSpPr>
            <p:spPr>
              <a:xfrm>
                <a:off x="1965960" y="3438360"/>
                <a:ext cx="520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.9 million patches; 1200 ne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78840" y="5799240"/>
              <a:ext cx="53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R Tolerance 1e-3; GMRES Tolerance 1e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pability of Superfast DICOT-Q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1720" y="955800"/>
            <a:ext cx="74991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9480" y="4024440"/>
          <a:ext cx="6825960" cy="1763640"/>
        </p:xfrm>
        <a:graphic>
          <a:graphicData uri="http://schemas.openxmlformats.org/drawingml/2006/table">
            <a:tbl>
              <a:tblPr/>
              <a:tblGrid>
                <a:gridCol w="1708200"/>
                <a:gridCol w="1706400"/>
                <a:gridCol w="1706400"/>
                <a:gridCol w="17049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1633680" y="5886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1720" y="1278000"/>
            <a:ext cx="81532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uperfast QR Iterative solver based on “best of both algorith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mory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olve time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tup time drastically reduced from that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MM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440" y="3281400"/>
            <a:ext cx="6857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Versatile ap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- Parasitic capacitance extraction (electro-static):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asitic inductance extraction (magneto-stat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ctr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gnet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MCHW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ime domain QR fast sol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3880" y="1486080"/>
            <a:ext cx="7692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ic Extraction in Cutting-edge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Fas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uperfast Parasiti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udy with Exis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Practica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Ext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03480"/>
            <a:ext cx="784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Deep Sub-micr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spect ratio to reduce wir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inimum wir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re delay exceeds gat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Frequenc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analys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computed from parasit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4600" y="14479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ncreas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parasi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capac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69000" y="1390680"/>
            <a:ext cx="154080" cy="1079640"/>
          </a:xfrm>
          <a:custGeom>
            <a:avLst/>
            <a:gdLst>
              <a:gd name="textAreaLeft" fmla="*/ 0 w 154080"/>
              <a:gd name="textAreaRight" fmla="*/ 55440 w 154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67560" y="2639880"/>
            <a:ext cx="139680" cy="1094040"/>
          </a:xfrm>
          <a:custGeom>
            <a:avLst/>
            <a:gdLst>
              <a:gd name="textAreaLeft" fmla="*/ 0 w 139680"/>
              <a:gd name="textAreaRight" fmla="*/ 50400 w 139680"/>
              <a:gd name="textAreaTop" fmla="*/ 28440 h 1094040"/>
              <a:gd name="textAreaBottom" fmla="*/ 10656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21720" y="2733840"/>
            <a:ext cx="15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Ext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of paras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1480" y="408312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A97: SRC’s 10 yea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95520" y="4549680"/>
          <a:ext cx="5951520" cy="1785960"/>
        </p:xfrm>
        <a:graphic>
          <a:graphicData uri="http://schemas.openxmlformats.org/drawingml/2006/table">
            <a:tbl>
              <a:tblPr/>
              <a:tblGrid>
                <a:gridCol w="2071440"/>
                <a:gridCol w="1963800"/>
                <a:gridCol w="19162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Featur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Spa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9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m Wir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692360" y="5670720"/>
            <a:ext cx="5670360" cy="61740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Extraction Algorith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7320" y="2238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2880" y="1206360"/>
            <a:ext cx="8097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umerical Method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3D complex on-chip/package/board geo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ccurac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Integral Equation based Solver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Method of Moments (M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maller siz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ell condition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nse system of equ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421320" y="290844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429240" y="321948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38240" y="3559320"/>
            <a:ext cx="6840" cy="303120"/>
          </a:xfrm>
          <a:prstGeom prst="line">
            <a:avLst/>
          </a:prstGeom>
          <a:ln w="63360">
            <a:solidFill>
              <a:srgbClr val="ff500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33560" y="4151160"/>
          <a:ext cx="5091120" cy="1887840"/>
        </p:xfrm>
        <a:graphic>
          <a:graphicData uri="http://schemas.openxmlformats.org/drawingml/2006/table">
            <a:tbl>
              <a:tblPr/>
              <a:tblGrid>
                <a:gridCol w="1697040"/>
                <a:gridCol w="1697040"/>
                <a:gridCol w="1697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03280" y="4081320"/>
            <a:ext cx="8412120" cy="250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ast Solvers for Method of Momen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)-O(NlogN) memory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ast Multipo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-corrected FF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QR bas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228240"/>
            <a:ext cx="817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: QR based Fast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8240" y="121608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QR decomposition of a far-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44400" y="2174760"/>
            <a:ext cx="2840040" cy="1021680"/>
            <a:chOff x="1544400" y="2174760"/>
            <a:chExt cx="2840040" cy="1021680"/>
          </a:xfrm>
        </p:grpSpPr>
        <p:grpSp>
          <p:nvGrpSpPr>
            <p:cNvPr id="77" name=""/>
            <p:cNvGrpSpPr/>
            <p:nvPr/>
          </p:nvGrpSpPr>
          <p:grpSpPr>
            <a:xfrm>
              <a:off x="1778040" y="2174760"/>
              <a:ext cx="2257560" cy="687600"/>
              <a:chOff x="1778040" y="2174760"/>
              <a:chExt cx="2257560" cy="687600"/>
            </a:xfrm>
          </p:grpSpPr>
          <p:sp>
            <p:nvSpPr>
              <p:cNvPr id="78" name=""/>
              <p:cNvSpPr/>
              <p:nvPr/>
            </p:nvSpPr>
            <p:spPr>
              <a:xfrm>
                <a:off x="1778040" y="217476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48080" y="2494080"/>
                <a:ext cx="71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5560" y="218448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1824120" y="2352600"/>
                <a:ext cx="660240" cy="257040"/>
                <a:chOff x="1824120" y="2352600"/>
                <a:chExt cx="660240" cy="257040"/>
              </a:xfrm>
            </p:grpSpPr>
            <p:sp>
              <p:nvSpPr>
                <p:cNvPr id="82" name=""/>
                <p:cNvSpPr/>
                <p:nvPr/>
              </p:nvSpPr>
              <p:spPr>
                <a:xfrm flipV="1">
                  <a:off x="1824120" y="235764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1824120" y="25045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308320" y="25045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2039400" y="2511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2066040" y="2352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308320" y="235764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322800" y="2371680"/>
                <a:ext cx="660240" cy="257040"/>
                <a:chOff x="3322800" y="2371680"/>
                <a:chExt cx="660240" cy="257040"/>
              </a:xfrm>
            </p:grpSpPr>
            <p:sp>
              <p:nvSpPr>
                <p:cNvPr id="89" name=""/>
                <p:cNvSpPr/>
                <p:nvPr/>
              </p:nvSpPr>
              <p:spPr>
                <a:xfrm flipV="1">
                  <a:off x="3322800" y="2376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3322800" y="2523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07000" y="252360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3538080" y="25308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564720" y="237168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807000" y="23767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1544400" y="2859120"/>
              <a:ext cx="119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1560" y="285768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 obser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559480" y="2174760"/>
            <a:ext cx="1965240" cy="1015920"/>
            <a:chOff x="5559480" y="2174760"/>
            <a:chExt cx="1965240" cy="1015920"/>
          </a:xfrm>
        </p:grpSpPr>
        <p:grpSp>
          <p:nvGrpSpPr>
            <p:cNvPr id="98" name=""/>
            <p:cNvGrpSpPr/>
            <p:nvPr/>
          </p:nvGrpSpPr>
          <p:grpSpPr>
            <a:xfrm>
              <a:off x="5559480" y="2174760"/>
              <a:ext cx="1909440" cy="615600"/>
              <a:chOff x="5559480" y="2174760"/>
              <a:chExt cx="1909440" cy="615600"/>
            </a:xfrm>
          </p:grpSpPr>
          <p:sp>
            <p:nvSpPr>
              <p:cNvPr id="99" name=""/>
              <p:cNvSpPr/>
              <p:nvPr/>
            </p:nvSpPr>
            <p:spPr>
              <a:xfrm>
                <a:off x="5559480" y="2174760"/>
                <a:ext cx="57600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03160" y="222480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21040" y="2174760"/>
                <a:ext cx="23616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70680" y="2177640"/>
                <a:ext cx="498240" cy="2980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5627880" y="2773080"/>
            <a:ext cx="53496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7880" y="2773080"/>
                      <a:ext cx="534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451560" y="2809800"/>
            <a:ext cx="560520" cy="3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51560" y="2809800"/>
                      <a:ext cx="560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061400" y="2773080"/>
            <a:ext cx="46332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61400" y="2773080"/>
                      <a:ext cx="4633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2315520" y="1816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3240" y="1828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9200" y="3656160"/>
            <a:ext cx="6884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subdivided to form a bina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d box divided along its largest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sultant boxes of unequal shapes, sizes and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17720" y="4314960"/>
            <a:ext cx="6472080" cy="28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680" y="5051520"/>
            <a:ext cx="6662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ank-Map oriented matrix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ank-map provides the starting point of matrix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e tuned by merges/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1170000"/>
            <a:ext cx="7305840" cy="5479920"/>
            <a:chOff x="914400" y="1170000"/>
            <a:chExt cx="7305840" cy="547992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914400" y="1170000"/>
              <a:ext cx="730584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454840" y="5680080"/>
              <a:ext cx="423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ical Matrix Struct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gorithm flow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86407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its and Demerits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200" y="1092240"/>
            <a:ext cx="7902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Kernel Independ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rectly applicable to multi-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ow Frequency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like FMM applicable to small electric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ess Memory and Number of Matrix Vector produc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ven for free-space capacitance extractio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15960" y="1243080"/>
            <a:ext cx="0" cy="2185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3880" y="435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7360" y="4317840"/>
            <a:ext cx="79365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al Rank-map impossible to con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ervative Rank-map will necessitate more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beral Rank-map will waste time doing unacceptable Q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d choice for large problems with interest in limited number of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2720" y="4370400"/>
            <a:ext cx="0" cy="1428840"/>
          </a:xfrm>
          <a:prstGeom prst="line">
            <a:avLst/>
          </a:prstGeom>
          <a:ln w="50760">
            <a:solidFill>
              <a:srgbClr val="ff5008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228240"/>
            <a:ext cx="840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COT-QR: Superfast Iterative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880" y="1206360"/>
            <a:ext cx="88232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eterministic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terac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pacitat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ct-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ee Bas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 smart mix of the best of both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QR decomposition of low-rank interaction matrices     :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ct-Tree based regular geometry of levels of cubes     : F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2.   Optimum compression through merged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MM interaction shells merged FMM shells and QR flexi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Maintain the compression of IES</a:t>
            </a:r>
            <a:r>
              <a:rPr b="1" lang="en-US" sz="2000" spc="-1" strike="noStrike" baseline="30000">
                <a:solidFill>
                  <a:srgbClr val="8282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 with fast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ccurate matrix structure pre-determined by Merged Interac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terministic matrix structure precludes merges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wanted 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60920" y="3057480"/>
            <a:ext cx="1628640" cy="1220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3440" y="228240"/>
            <a:ext cx="8377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metry and shell structure of FM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27240" y="1633680"/>
            <a:ext cx="3089160" cy="1100160"/>
            <a:chOff x="3027240" y="1633680"/>
            <a:chExt cx="3089160" cy="11001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538520" y="1633680"/>
              <a:ext cx="15778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3027240" y="1680120"/>
              <a:ext cx="144072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404720" y="1103400"/>
            <a:ext cx="63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Oct-Tree decomposition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ach cube is broken into equal sized 8 children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67520" y="279576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decomposed into 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14000" y="4324320"/>
            <a:ext cx="47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MM interaction shell for each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imilar shell for all cubes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567240" y="5075280"/>
            <a:ext cx="2008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 Jandhyala</cp:lastModifiedBy>
  <cp:lastPrinted>2002-02-05T19:22:32Z</cp:lastPrinted>
  <dcterms:modified xsi:type="dcterms:W3CDTF">2003-06-18T23:23:58Z</dcterms:modified>
  <cp:revision>154</cp:revision>
  <dc:subject>ITC '01 Electronic presentation guide/template</dc:subject>
  <dc:title>Presentation Guide</dc:title>
</cp:coreProperties>
</file>