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1E1F-DEE3-4DDD-9031-E9784F73A9B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159-1A6A-4FB2-9FE2-D3EE2829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501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76A-D864-41A7-9E84-DD4C690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D35-E5D2-4187-9388-E8D3D2F1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CC4-3E4C-4693-BAE6-9B991A41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6B4-5EDE-4BD7-858A-BD152E2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197-2E2A-4FAB-981D-DF8222F0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7EC-6439-41B5-BB53-D1327164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2BC-0534-4C1C-93ED-A0BE7435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B7B-54E9-4BE9-973A-6574BFE2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290-758D-4498-88E2-B271BB3C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3D4-1273-4796-9CD8-B6E132B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778-AB74-4262-B9F8-FDEB238A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45A-571F-4627-BECB-0B1D5EF1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2760" y="2118960"/>
            <a:ext cx="750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st Frequen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main Simulation of Coupled Systems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560" y="60325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175280" y="5956200"/>
          <a:ext cx="8204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5956200"/>
                    <a:ext cx="820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324560" y="5978520"/>
            <a:ext cx="74628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5080" y="3654360"/>
            <a:ext cx="7132680" cy="6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LAFMA for a DARPA test cas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CSU 0.25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 spiral pai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makes fast solution 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s FMM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other FMM codes to resort to “chea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U normally faster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–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290760"/>
            <a:ext cx="4743360" cy="3567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08560" y="3297240"/>
            <a:ext cx="4735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lassCFieldSolverIterative__coll__graph" descr=""/>
          <p:cNvPicPr/>
          <p:nvPr/>
        </p:nvPicPr>
        <p:blipFill>
          <a:blip r:embed="rId1"/>
          <a:stretch/>
        </p:blipFill>
        <p:spPr>
          <a:xfrm>
            <a:off x="911160" y="1846440"/>
            <a:ext cx="5475240" cy="3520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earch Direct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ate current analog RF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baseline on EM and circui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FM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fast convergence of circuit coupled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dynamic preconditioning not well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ing of coupled systems unexpl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tinue tuning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st approximat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MM accelerated P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638760" y="4554360"/>
            <a:ext cx="2033640" cy="2033640"/>
            <a:chOff x="6638760" y="4554360"/>
            <a:chExt cx="2033640" cy="2033640"/>
          </a:xfrm>
        </p:grpSpPr>
        <p:sp>
          <p:nvSpPr>
            <p:cNvPr id="129" name=""/>
            <p:cNvSpPr/>
            <p:nvPr/>
          </p:nvSpPr>
          <p:spPr>
            <a:xfrm>
              <a:off x="6940080" y="4855680"/>
              <a:ext cx="71604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8520" y="469764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56480" y="4855680"/>
              <a:ext cx="71676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4920" y="470016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7560" y="5572080"/>
              <a:ext cx="71604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6000" y="542088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53960" y="5572080"/>
              <a:ext cx="71676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02400" y="542340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38760" y="4554360"/>
              <a:ext cx="2033640" cy="20336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120" y="195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1f5"/>
                </a:solidFill>
                <a:latin typeface="Arial"/>
              </a:rPr>
              <a:t>Parting Sho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82680" y="611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 FMM solution of NCSU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physics: different s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use best available solver for each part o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iterative solver for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 LU for circu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ackup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ybrid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28840" y="2655720"/>
                <a:ext cx="702936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0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0</m:t>
                                  </m:r>
                                </m:e>
                              </m:acc>
                            </m:e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47920" y="5095800"/>
                <a:ext cx="47894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A</m:t>
                                </m:r>
                              </m:e>
                            </m:ba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368520" y="5783400"/>
                <a:ext cx="2880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kt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kt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d form of system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xploration of variations in circuit or EM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orde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olution of entir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ackup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ed Syste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82760" y="2684520"/>
                <a:ext cx="4789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A</m:t>
                                </m:r>
                              </m:e>
                            </m:ba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405080" y="3435480"/>
                <a:ext cx="46609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k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47920" y="4836960"/>
                <a:ext cx="66214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52600" y="5487840"/>
                <a:ext cx="59436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ξγ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γ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γ</m:t>
                            </m:r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γ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γ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954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Field Solv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 in last six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FMM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s for next six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lassCFieldSolverFMM__coll__graph" descr=""/>
          <p:cNvPicPr/>
          <p:nvPr/>
        </p:nvPicPr>
        <p:blipFill>
          <a:blip r:embed="rId1"/>
          <a:stretch/>
        </p:blipFill>
        <p:spPr>
          <a:xfrm>
            <a:off x="1600200" y="711360"/>
            <a:ext cx="6321600" cy="5989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hysics simulation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perates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circuits and electromag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new electromagnetic for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to time domain, thermals, other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workstatio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” comput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fast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04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vanced Field Solver Architec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cember 2002 POR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–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 Domain Modu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5800" y="55706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360" y="46576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52560" y="368460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ield solver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22200" y="4032360"/>
            <a:ext cx="99684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19320" y="5005440"/>
            <a:ext cx="144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26760" y="4030560"/>
            <a:ext cx="117324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0080" y="4032360"/>
            <a:ext cx="152856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39000" y="2197080"/>
            <a:ext cx="21906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troller/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Matlab test dr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4920" y="1352520"/>
            <a:ext cx="3111480" cy="5097600"/>
          </a:xfrm>
          <a:custGeom>
            <a:avLst/>
            <a:gdLst/>
            <a:ahLst/>
            <a:rect l="l" t="t" r="r" b="b"/>
            <a:pathLst>
              <a:path w="1960" h="3211">
                <a:moveTo>
                  <a:pt x="0" y="0"/>
                </a:moveTo>
                <a:cubicBezTo>
                  <a:pt x="248" y="252"/>
                  <a:pt x="1334" y="1127"/>
                  <a:pt x="1488" y="1514"/>
                </a:cubicBezTo>
                <a:cubicBezTo>
                  <a:pt x="1642" y="1901"/>
                  <a:pt x="843" y="2040"/>
                  <a:pt x="922" y="2323"/>
                </a:cubicBezTo>
                <a:cubicBezTo>
                  <a:pt x="1001" y="2606"/>
                  <a:pt x="1744" y="3026"/>
                  <a:pt x="1960" y="3211"/>
                </a:cubicBezTo>
              </a:path>
            </a:pathLst>
          </a:custGeom>
          <a:noFill/>
          <a:ln w="38160">
            <a:solidFill>
              <a:srgbClr val="9b31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35160" y="2678040"/>
            <a:ext cx="2104920" cy="99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9720" y="2279520"/>
            <a:ext cx="35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ed EM cod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43800" y="32418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SMoS sol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930560" y="3416400"/>
            <a:ext cx="171612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8360" y="4351320"/>
            <a:ext cx="21906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ice/HD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circuit test dr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03880" y="1328760"/>
            <a:ext cx="35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MoS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8960" y="5913360"/>
            <a:ext cx="227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and EM to circuit coupling mat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68200" y="4029120"/>
            <a:ext cx="173160" cy="18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00720" y="1728360"/>
            <a:ext cx="202392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46040" y="2706840"/>
            <a:ext cx="1460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3640" y="539280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9200" y="44798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4240" y="35924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field s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701720" y="3954600"/>
            <a:ext cx="34920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8200" y="483408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15796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velop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31000" y="35892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ircui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75160" y="26258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upl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960" y="191916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32480" y="1579680"/>
            <a:ext cx="2190960" cy="3373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bb9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32480" y="1919160"/>
            <a:ext cx="2190960" cy="3373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aaaea"/>
                </a:solidFill>
                <a:latin typeface="Arial"/>
              </a:rPr>
              <a:t>Windows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1440" y="61372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LAS, LAP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2640" y="61182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uper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138120" y="2978280"/>
            <a:ext cx="43812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9000" y="2970360"/>
            <a:ext cx="438120" cy="6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0600" y="3956040"/>
            <a:ext cx="0" cy="217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0640" y="3940200"/>
            <a:ext cx="0" cy="21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03680" y="2266920"/>
            <a:ext cx="766440" cy="35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76560" y="2263680"/>
            <a:ext cx="655560" cy="355680"/>
          </a:xfrm>
          <a:prstGeom prst="line">
            <a:avLst/>
          </a:prstGeom>
          <a:ln w="1260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693520" y="4853160"/>
            <a:ext cx="3891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79800" y="395604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359892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ybrid s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394812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3949560"/>
            <a:ext cx="0" cy="21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7280" y="2975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urrent POR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Standalone Frequency Domain Simulato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lassCFMMoperatorQuasistatic__coll__graph" descr=""/>
          <p:cNvPicPr/>
          <p:nvPr/>
        </p:nvPicPr>
        <p:blipFill>
          <a:blip r:embed="rId1"/>
          <a:stretch/>
        </p:blipFill>
        <p:spPr>
          <a:xfrm>
            <a:off x="2879640" y="3611520"/>
            <a:ext cx="6264360" cy="3246480"/>
          </a:xfrm>
          <a:prstGeom prst="rect">
            <a:avLst/>
          </a:prstGeom>
          <a:ln w="0">
            <a:noFill/>
          </a:ln>
        </p:spPr>
      </p:pic>
      <p:pic>
        <p:nvPicPr>
          <p:cNvPr id="108" name="classCEMblockMapped__coll__graph" descr=""/>
          <p:cNvPicPr/>
          <p:nvPr/>
        </p:nvPicPr>
        <p:blipFill>
          <a:blip r:embed="rId2"/>
          <a:stretch/>
        </p:blipFill>
        <p:spPr>
          <a:xfrm>
            <a:off x="657360" y="879480"/>
            <a:ext cx="4354200" cy="2664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rchitectural Improvemen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&lt;source|Green’s function|tes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quadrature extensible to equivalence principle EFIE, PMC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es of entire object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chitecture is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e unified into a singl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,500 lines of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I refinements and improved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aching bet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lassCFMMoctTree__coll__graph" descr=""/>
          <p:cNvPicPr/>
          <p:nvPr/>
        </p:nvPicPr>
        <p:blipFill>
          <a:blip r:embed="rId1"/>
          <a:stretch/>
        </p:blipFill>
        <p:spPr>
          <a:xfrm>
            <a:off x="3162240" y="154080"/>
            <a:ext cx="586440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ew Featur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evel adaptive fast multipol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sistatic E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preconditioner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alable to full wave, equivalence principle EFIE, PMCHW, electrostatics, and magnet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brid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dense LU solution, circuit sparse LU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iterative solution, circuit sparse LU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stly improv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I, configuration files, and physics for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lassCEMsystem__coll__graph" descr=""/>
          <p:cNvPicPr/>
          <p:nvPr/>
        </p:nvPicPr>
        <p:blipFill>
          <a:blip r:embed="rId1"/>
          <a:stretch/>
        </p:blipFill>
        <p:spPr>
          <a:xfrm>
            <a:off x="482760" y="1122480"/>
            <a:ext cx="8332560" cy="5257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earch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infrastructur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 for true coupled syste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test suite of analog RF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nalysis of FMM performanc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on-die syste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nd algorithms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ers surveyed (need faster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solver for coupl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reconditioner survey for hybrid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level Adaptive Fast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pole Algorithm (MLAFMA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08560" y="3297240"/>
            <a:ext cx="4735440" cy="3560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297240"/>
            <a:ext cx="4735440" cy="356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method for fa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derived from electromagnet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s clustering to mesh and system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MMs best understood class of EM fast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twest</cp:lastModifiedBy>
  <cp:lastPrinted>2002-02-05T19:22:32Z</cp:lastPrinted>
  <dcterms:modified xsi:type="dcterms:W3CDTF">2003-06-19T21:31:27Z</dcterms:modified>
  <cp:revision>151</cp:revision>
  <dc:subject>ITC '01 Electronic presentation guide/template</dc:subject>
  <dc:title>Presentation Guide</dc:title>
</cp:coreProperties>
</file>